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57.png" ContentType="image/png"/>
  <Override PartName="/ppt/media/image26.png" ContentType="image/png"/>
  <Override PartName="/ppt/media/image94.png" ContentType="image/png"/>
  <Override PartName="/ppt/media/image3.png" ContentType="image/png"/>
  <Override PartName="/ppt/media/image33.png" ContentType="image/png"/>
  <Override PartName="/ppt/media/image1.png" ContentType="image/png"/>
  <Override PartName="/ppt/media/image4.png" ContentType="image/png"/>
  <Override PartName="/ppt/media/image13.png" ContentType="image/png"/>
  <Override PartName="/ppt/media/image81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47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48.png" ContentType="image/png"/>
  <Override PartName="/ppt/media/image51.png" ContentType="image/png"/>
  <Override PartName="/ppt/media/image80.png" ContentType="image/png"/>
  <Override PartName="/ppt/media/image12.png" ContentType="image/png"/>
  <Override PartName="/ppt/media/image109.png" ContentType="image/png"/>
  <Override PartName="/ppt/media/image49.png" ContentType="image/png"/>
  <Override PartName="/ppt/media/image100.png" ContentType="image/png"/>
  <Override PartName="/ppt/media/image52.png" ContentType="image/png"/>
  <Override PartName="/ppt/media/image53.png" ContentType="image/png"/>
  <Override PartName="/ppt/media/image44.png" ContentType="image/png"/>
  <Override PartName="/ppt/media/image56.png" ContentType="image/png"/>
  <Override PartName="/ppt/media/image54.png" ContentType="image/png"/>
  <Override PartName="/ppt/media/image16.png" ContentType="image/png"/>
  <Override PartName="/ppt/media/image84.png" ContentType="image/png"/>
  <Override PartName="/ppt/media/image7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43.png" ContentType="image/png"/>
  <Override PartName="/ppt/media/image55.png" ContentType="image/png"/>
  <Override PartName="/ppt/media/image17.png" ContentType="image/png"/>
  <Override PartName="/ppt/media/image85.png" ContentType="image/png"/>
  <Override PartName="/ppt/media/image129.png" ContentType="image/png"/>
  <Override PartName="/ppt/media/image32.png" ContentType="image/png"/>
  <Override PartName="/ppt/media/image42.png" ContentType="image/png"/>
  <Override PartName="/ppt/media/image41.png" ContentType="image/png"/>
  <Override PartName="/ppt/media/image39.png" ContentType="image/png"/>
  <Override PartName="/ppt/media/image40.png" ContentType="image/png"/>
  <Override PartName="/ppt/media/image37.png" ContentType="image/png"/>
  <Override PartName="/ppt/media/image127.png" ContentType="image/png"/>
  <Override PartName="/ppt/media/image8.png" ContentType="image/png"/>
  <Override PartName="/ppt/media/image30.png" ContentType="image/png"/>
  <Override PartName="/ppt/media/image38.png" ContentType="image/png"/>
  <Override PartName="/ppt/media/image92.png" ContentType="image/png"/>
  <Override PartName="/ppt/media/image24.png" ContentType="image/png"/>
  <Override PartName="/ppt/media/image82.png" ContentType="image/png"/>
  <Override PartName="/ppt/media/image14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93.png" ContentType="image/png"/>
  <Override PartName="/ppt/media/image25.png" ContentType="image/png"/>
  <Override PartName="/ppt/media/image22.png" ContentType="image/png"/>
  <Override PartName="/ppt/media/image90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79.png" ContentType="image/png"/>
  <Override PartName="/ppt/media/image2.wmf" ContentType="image/x-wmf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media/image104.png" ContentType="image/png"/>
  <Override PartName="/ppt/media/image105.png" ContentType="image/png"/>
  <Override PartName="/ppt/media/image106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media/image115.png" ContentType="image/png"/>
  <Override PartName="/ppt/media/image116.png" ContentType="image/png"/>
  <Override PartName="/ppt/media/image121.png" ContentType="image/png"/>
  <Override PartName="/ppt/media/image122.png" ContentType="image/png"/>
  <Override PartName="/ppt/media/image123.png" ContentType="image/png"/>
  <Override PartName="/ppt/media/image1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AE23-97FA-44CC-BE34-C8836E4113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2C4C-EB5C-4C72-8E3E-FC3F9A28E2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A0345-4CD6-43DA-A213-C68E68C7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ADBCB-854C-409B-A7C5-76D9F23A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954CB-F677-4103-A5D5-C6AC81A5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A46C3-7FF4-4840-B129-BABD9E822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C6B8-D6B2-42A1-9EBD-84F148BBC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0EB6-14C6-4369-8B77-54F3DBE3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0F83-6628-44A6-9481-F4803F86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B5EE-9669-4141-A917-7AD8F105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CEA5-5678-40F5-BE14-5BE9C7A4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8708-C43D-470B-AD8B-34E90B8C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A487-D6F9-4E38-A3A3-62409704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7006E-05E5-4F69-BA13-9B30ADAB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27F6-079C-48CE-9D83-E9520757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294C-B8A8-4D1F-97A8-DA92F739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A028-7E92-41E7-9CD1-F374BFCA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BAE4-9493-4E4D-9A92-33BC34946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EDDF-41D5-4FB9-8F74-038973E1A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34628-085B-4528-BE8A-70AB8519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07132-2D39-413C-B80D-2C36E6B4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0200E-0972-4232-A92E-8B13CAB0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D47DE-F74A-425F-B0F4-1B5A00E5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EE56D-8CC0-4E50-BA2B-C9FBF6F3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79B5A-4F94-4708-8E4D-5CDBEF04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C1558-9E16-4F25-977B-44CE55CA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16B5-3700-4FFF-990B-EF9470039E1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E403-D384-41FB-9267-F101E5E7131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wmf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wmf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wmf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5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wmf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image" Target="../media/image44.png"/><Relationship Id="rId12" Type="http://schemas.openxmlformats.org/officeDocument/2006/relationships/image" Target="../media/image45.png"/><Relationship Id="rId13" Type="http://schemas.openxmlformats.org/officeDocument/2006/relationships/image" Target="../media/image46.png"/><Relationship Id="rId14" Type="http://schemas.openxmlformats.org/officeDocument/2006/relationships/image" Target="../media/image47.png"/><Relationship Id="rId15" Type="http://schemas.openxmlformats.org/officeDocument/2006/relationships/image" Target="../media/image48.png"/><Relationship Id="rId16" Type="http://schemas.openxmlformats.org/officeDocument/2006/relationships/image" Target="../media/image49.png"/><Relationship Id="rId17" Type="http://schemas.openxmlformats.org/officeDocument/2006/relationships/image" Target="../media/image50.png"/><Relationship Id="rId18" Type="http://schemas.openxmlformats.org/officeDocument/2006/relationships/image" Target="../media/image51.png"/><Relationship Id="rId19" Type="http://schemas.openxmlformats.org/officeDocument/2006/relationships/image" Target="../media/image52.png"/><Relationship Id="rId2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wmf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wmf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wmf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wmf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image" Target="../media/image71.png"/><Relationship Id="rId8" Type="http://schemas.openxmlformats.org/officeDocument/2006/relationships/image" Target="../media/image72.png"/><Relationship Id="rId9" Type="http://schemas.openxmlformats.org/officeDocument/2006/relationships/image" Target="../media/image73.png"/><Relationship Id="rId10" Type="http://schemas.openxmlformats.org/officeDocument/2006/relationships/image" Target="../media/image74.png"/><Relationship Id="rId11" Type="http://schemas.openxmlformats.org/officeDocument/2006/relationships/image" Target="../media/image75.png"/><Relationship Id="rId12" Type="http://schemas.openxmlformats.org/officeDocument/2006/relationships/image" Target="../media/image76.png"/><Relationship Id="rId13" Type="http://schemas.openxmlformats.org/officeDocument/2006/relationships/image" Target="../media/image77.png"/><Relationship Id="rId14" Type="http://schemas.openxmlformats.org/officeDocument/2006/relationships/image" Target="../media/image78.png"/><Relationship Id="rId15" Type="http://schemas.openxmlformats.org/officeDocument/2006/relationships/image" Target="../media/image79.png"/><Relationship Id="rId16" Type="http://schemas.openxmlformats.org/officeDocument/2006/relationships/image" Target="../media/image80.png"/><Relationship Id="rId1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wmf"/><Relationship Id="rId3" Type="http://schemas.openxmlformats.org/officeDocument/2006/relationships/image" Target="../media/image81.png"/><Relationship Id="rId4" Type="http://schemas.openxmlformats.org/officeDocument/2006/relationships/image" Target="../media/image82.png"/><Relationship Id="rId5" Type="http://schemas.openxmlformats.org/officeDocument/2006/relationships/image" Target="../media/image83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wmf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image" Target="../media/image87.png"/><Relationship Id="rId7" Type="http://schemas.openxmlformats.org/officeDocument/2006/relationships/image" Target="../media/image88.png"/><Relationship Id="rId8" Type="http://schemas.openxmlformats.org/officeDocument/2006/relationships/image" Target="../media/image89.png"/><Relationship Id="rId9" Type="http://schemas.openxmlformats.org/officeDocument/2006/relationships/image" Target="../media/image90.png"/><Relationship Id="rId10" Type="http://schemas.openxmlformats.org/officeDocument/2006/relationships/image" Target="../media/image91.png"/><Relationship Id="rId11" Type="http://schemas.openxmlformats.org/officeDocument/2006/relationships/image" Target="../media/image92.png"/><Relationship Id="rId12" Type="http://schemas.openxmlformats.org/officeDocument/2006/relationships/image" Target="../media/image93.png"/><Relationship Id="rId13" Type="http://schemas.openxmlformats.org/officeDocument/2006/relationships/image" Target="../media/image94.png"/><Relationship Id="rId14" Type="http://schemas.openxmlformats.org/officeDocument/2006/relationships/image" Target="../media/image95.png"/><Relationship Id="rId15" Type="http://schemas.openxmlformats.org/officeDocument/2006/relationships/image" Target="../media/image96.png"/><Relationship Id="rId16" Type="http://schemas.openxmlformats.org/officeDocument/2006/relationships/image" Target="../media/image97.png"/><Relationship Id="rId17" Type="http://schemas.openxmlformats.org/officeDocument/2006/relationships/image" Target="../media/image98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wmf"/><Relationship Id="rId3" Type="http://schemas.openxmlformats.org/officeDocument/2006/relationships/image" Target="../media/image99.png"/><Relationship Id="rId4" Type="http://schemas.openxmlformats.org/officeDocument/2006/relationships/image" Target="../media/image100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wmf"/><Relationship Id="rId3" Type="http://schemas.openxmlformats.org/officeDocument/2006/relationships/image" Target="../media/image101.png"/><Relationship Id="rId4" Type="http://schemas.openxmlformats.org/officeDocument/2006/relationships/image" Target="../media/image10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wmf"/><Relationship Id="rId3" Type="http://schemas.openxmlformats.org/officeDocument/2006/relationships/image" Target="../media/image103.png"/><Relationship Id="rId4" Type="http://schemas.openxmlformats.org/officeDocument/2006/relationships/image" Target="../media/image104.png"/><Relationship Id="rId5" Type="http://schemas.openxmlformats.org/officeDocument/2006/relationships/image" Target="../media/image105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wmf"/><Relationship Id="rId3" Type="http://schemas.openxmlformats.org/officeDocument/2006/relationships/image" Target="../media/image106.png"/><Relationship Id="rId4" Type="http://schemas.openxmlformats.org/officeDocument/2006/relationships/image" Target="../media/image107.png"/><Relationship Id="rId5" Type="http://schemas.openxmlformats.org/officeDocument/2006/relationships/image" Target="../media/image108.png"/><Relationship Id="rId6" Type="http://schemas.openxmlformats.org/officeDocument/2006/relationships/image" Target="../media/image109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wmf"/><Relationship Id="rId3" Type="http://schemas.openxmlformats.org/officeDocument/2006/relationships/image" Target="../media/image110.png"/><Relationship Id="rId4" Type="http://schemas.openxmlformats.org/officeDocument/2006/relationships/image" Target="../media/image111.png"/><Relationship Id="rId5" Type="http://schemas.openxmlformats.org/officeDocument/2006/relationships/image" Target="../media/image112.png"/><Relationship Id="rId6" Type="http://schemas.openxmlformats.org/officeDocument/2006/relationships/image" Target="../media/image113.png"/><Relationship Id="rId7" Type="http://schemas.openxmlformats.org/officeDocument/2006/relationships/image" Target="../media/image114.png"/><Relationship Id="rId8" Type="http://schemas.openxmlformats.org/officeDocument/2006/relationships/image" Target="../media/image115.png"/><Relationship Id="rId9" Type="http://schemas.openxmlformats.org/officeDocument/2006/relationships/image" Target="../media/image116.png"/><Relationship Id="rId10" Type="http://schemas.openxmlformats.org/officeDocument/2006/relationships/image" Target="../media/image117.png"/><Relationship Id="rId11" Type="http://schemas.openxmlformats.org/officeDocument/2006/relationships/image" Target="../media/image118.png"/><Relationship Id="rId12" Type="http://schemas.openxmlformats.org/officeDocument/2006/relationships/image" Target="../media/image119.png"/><Relationship Id="rId1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wmf"/><Relationship Id="rId3" Type="http://schemas.openxmlformats.org/officeDocument/2006/relationships/image" Target="../media/image120.png"/><Relationship Id="rId4" Type="http://schemas.openxmlformats.org/officeDocument/2006/relationships/image" Target="../media/image121.png"/><Relationship Id="rId5" Type="http://schemas.openxmlformats.org/officeDocument/2006/relationships/image" Target="../media/image122.png"/><Relationship Id="rId6" Type="http://schemas.openxmlformats.org/officeDocument/2006/relationships/image" Target="../media/image123.png"/><Relationship Id="rId7" Type="http://schemas.openxmlformats.org/officeDocument/2006/relationships/image" Target="../media/image124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wmf"/><Relationship Id="rId3" Type="http://schemas.openxmlformats.org/officeDocument/2006/relationships/image" Target="../media/image125.png"/><Relationship Id="rId4" Type="http://schemas.openxmlformats.org/officeDocument/2006/relationships/image" Target="../media/image126.png"/><Relationship Id="rId5" Type="http://schemas.openxmlformats.org/officeDocument/2006/relationships/image" Target="../media/image127.png"/><Relationship Id="rId6" Type="http://schemas.openxmlformats.org/officeDocument/2006/relationships/image" Target="../media/image128.png"/><Relationship Id="rId7" Type="http://schemas.openxmlformats.org/officeDocument/2006/relationships/image" Target="../media/image12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wmf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0" descr="logo 21"/>
          <p:cNvPicPr/>
          <p:nvPr/>
        </p:nvPicPr>
        <p:blipFill>
          <a:blip r:embed="rId1"/>
          <a:stretch/>
        </p:blipFill>
        <p:spPr>
          <a:xfrm>
            <a:off x="6138720" y="5565600"/>
            <a:ext cx="3011760" cy="1298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4" descr=""/>
          <p:cNvPicPr/>
          <p:nvPr/>
        </p:nvPicPr>
        <p:blipFill>
          <a:blip r:embed="rId3"/>
          <a:stretch/>
        </p:blipFill>
        <p:spPr>
          <a:xfrm>
            <a:off x="1432080" y="3925800"/>
            <a:ext cx="6284880" cy="202428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5" descr=""/>
          <p:cNvPicPr/>
          <p:nvPr/>
        </p:nvPicPr>
        <p:blipFill>
          <a:blip r:embed="rId4"/>
          <a:stretch/>
        </p:blipFill>
        <p:spPr>
          <a:xfrm>
            <a:off x="1639800" y="585720"/>
            <a:ext cx="5005440" cy="27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0" descr="logo 21"/>
          <p:cNvPicPr/>
          <p:nvPr/>
        </p:nvPicPr>
        <p:blipFill>
          <a:blip r:embed="rId1"/>
          <a:stretch/>
        </p:blipFill>
        <p:spPr>
          <a:xfrm>
            <a:off x="6138720" y="6424560"/>
            <a:ext cx="3011760" cy="439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64" name="Схема 6" descr=""/>
          <p:cNvPicPr/>
          <p:nvPr/>
        </p:nvPicPr>
        <p:blipFill>
          <a:blip r:embed="rId3"/>
          <a:stretch/>
        </p:blipFill>
        <p:spPr>
          <a:xfrm>
            <a:off x="1238400" y="396720"/>
            <a:ext cx="6643440" cy="4114800"/>
          </a:xfrm>
          <a:prstGeom prst="rect">
            <a:avLst/>
          </a:prstGeom>
          <a:ln w="0">
            <a:noFill/>
          </a:ln>
        </p:spPr>
      </p:pic>
      <p:grpSp>
        <p:nvGrpSpPr>
          <p:cNvPr id="165" name="Группа 5"/>
          <p:cNvGrpSpPr/>
          <p:nvPr/>
        </p:nvGrpSpPr>
        <p:grpSpPr>
          <a:xfrm>
            <a:off x="1247760" y="5375160"/>
            <a:ext cx="1038240" cy="1482840"/>
            <a:chOff x="1247760" y="5375160"/>
            <a:chExt cx="1038240" cy="1482840"/>
          </a:xfrm>
        </p:grpSpPr>
        <p:sp>
          <p:nvSpPr>
            <p:cNvPr id="166" name="Нашивка 10"/>
            <p:cNvSpPr/>
            <p:nvPr/>
          </p:nvSpPr>
          <p:spPr>
            <a:xfrm rot="5400000">
              <a:off x="1025280" y="5597280"/>
              <a:ext cx="1482840" cy="1038240"/>
            </a:xfrm>
            <a:custGeom>
              <a:avLst/>
              <a:gdLst>
                <a:gd name="textAreaLeft" fmla="*/ 0 w 1482840"/>
                <a:gd name="textAreaRight" fmla="*/ 1483200 w 1482840"/>
                <a:gd name="textAreaTop" fmla="*/ 0 h 1038240"/>
                <a:gd name="textAreaBottom" fmla="*/ 1038240 h 10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040" y="0"/>
                  </a:lnTo>
                  <a:lnTo>
                    <a:pt x="21600" y="10800"/>
                  </a:lnTo>
                  <a:lnTo>
                    <a:pt x="14040" y="21600"/>
                  </a:lnTo>
                  <a:lnTo>
                    <a:pt x="0" y="21600"/>
                  </a:lnTo>
                  <a:lnTo>
                    <a:pt x="7560" y="10800"/>
                  </a:lnTo>
                  <a:close/>
                </a:path>
              </a:pathLst>
            </a:custGeom>
            <a:solidFill>
              <a:srgbClr val="9999ff"/>
            </a:solidFill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Нашивка 4"/>
            <p:cNvSpPr/>
            <p:nvPr/>
          </p:nvSpPr>
          <p:spPr>
            <a:xfrm>
              <a:off x="1247760" y="5894280"/>
              <a:ext cx="103824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60" rIns="7560" tIns="7560" bIns="756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выказнік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ужываецц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ў адзіночным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ліку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Группа 7"/>
          <p:cNvGrpSpPr/>
          <p:nvPr/>
        </p:nvGrpSpPr>
        <p:grpSpPr>
          <a:xfrm>
            <a:off x="2286000" y="5375160"/>
            <a:ext cx="5510160" cy="963720"/>
            <a:chOff x="2286000" y="5375160"/>
            <a:chExt cx="5510160" cy="963720"/>
          </a:xfrm>
        </p:grpSpPr>
        <p:sp>
          <p:nvSpPr>
            <p:cNvPr id="169" name="Прямоугольник с двумя скругленными соседними углами 8"/>
            <p:cNvSpPr/>
            <p:nvPr/>
          </p:nvSpPr>
          <p:spPr>
            <a:xfrm rot="5400000">
              <a:off x="4559040" y="3101760"/>
              <a:ext cx="963720" cy="551016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Прямоугольник 9"/>
            <p:cNvSpPr/>
            <p:nvPr/>
          </p:nvSpPr>
          <p:spPr>
            <a:xfrm>
              <a:off x="2286000" y="5422680"/>
              <a:ext cx="5462640" cy="8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000" tIns="9000" bIns="9000" anchor="ctr">
              <a:noAutofit/>
            </a:bodyPr>
            <a:p>
              <a:pPr lvl="1" marL="114480" indent="-114480">
                <a:lnSpc>
                  <a:spcPct val="90000"/>
                </a:lnSpc>
                <a:spcAft>
                  <a:spcPts val="224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be-BY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алі дзейнік выражаны спалучэннем слоў </a:t>
              </a: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многа, шмат, мала, большасць, меншасць, некалькі, нямнога, нямала </a:t>
              </a:r>
              <a:r>
                <a:rPr b="1" lang="be-BY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 назоўнікам у родным склоне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24"/>
                </a:spcAft>
                <a:buClr>
                  <a:srgbClr val="000099"/>
                </a:buClr>
                <a:buFont typeface="Times New Roman"/>
                <a:buChar char="•"/>
                <a:tabLst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i="1" lang="be-BY" sz="1200" spc="-1" strike="noStrike" u="sng">
                  <a:solidFill>
                    <a:srgbClr val="000099"/>
                  </a:solidFill>
                  <a:uFillTx/>
                  <a:latin typeface="Times New Roman"/>
                  <a:ea typeface="Times New Roman"/>
                </a:rPr>
                <a:t>Большасць калег прапанавала</a:t>
              </a:r>
              <a:r>
                <a:rPr b="1" i="1" lang="be-BY" sz="12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начлег. (І. Ласкоў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Группа 12"/>
          <p:cNvGrpSpPr/>
          <p:nvPr/>
        </p:nvGrpSpPr>
        <p:grpSpPr>
          <a:xfrm>
            <a:off x="1247760" y="4214880"/>
            <a:ext cx="1038240" cy="1482480"/>
            <a:chOff x="1247760" y="4214880"/>
            <a:chExt cx="1038240" cy="1482480"/>
          </a:xfrm>
        </p:grpSpPr>
        <p:sp>
          <p:nvSpPr>
            <p:cNvPr id="172" name="Нашивка 13"/>
            <p:cNvSpPr/>
            <p:nvPr/>
          </p:nvSpPr>
          <p:spPr>
            <a:xfrm rot="5400000">
              <a:off x="1025280" y="4437000"/>
              <a:ext cx="1482480" cy="1038240"/>
            </a:xfrm>
            <a:custGeom>
              <a:avLst/>
              <a:gdLst>
                <a:gd name="textAreaLeft" fmla="*/ 0 w 1482480"/>
                <a:gd name="textAreaRight" fmla="*/ 1482840 w 1482480"/>
                <a:gd name="textAreaTop" fmla="*/ 0 h 1038240"/>
                <a:gd name="textAreaBottom" fmla="*/ 1038240 h 10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040" y="0"/>
                  </a:lnTo>
                  <a:lnTo>
                    <a:pt x="21600" y="10800"/>
                  </a:lnTo>
                  <a:lnTo>
                    <a:pt x="14040" y="21600"/>
                  </a:lnTo>
                  <a:lnTo>
                    <a:pt x="0" y="21600"/>
                  </a:lnTo>
                  <a:lnTo>
                    <a:pt x="7560" y="10800"/>
                  </a:lnTo>
                  <a:close/>
                </a:path>
              </a:pathLst>
            </a:custGeom>
            <a:solidFill>
              <a:srgbClr val="9999ff"/>
            </a:solidFill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Нашивка 4"/>
            <p:cNvSpPr/>
            <p:nvPr/>
          </p:nvSpPr>
          <p:spPr>
            <a:xfrm>
              <a:off x="1247760" y="4734000"/>
              <a:ext cx="10382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60" rIns="7560" tIns="7560" bIns="756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выказнік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ужываецц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ў адзіночным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ліку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Группа 15"/>
          <p:cNvGrpSpPr/>
          <p:nvPr/>
        </p:nvGrpSpPr>
        <p:grpSpPr>
          <a:xfrm>
            <a:off x="2286000" y="4214880"/>
            <a:ext cx="5510160" cy="963720"/>
            <a:chOff x="2286000" y="4214880"/>
            <a:chExt cx="5510160" cy="963720"/>
          </a:xfrm>
        </p:grpSpPr>
        <p:sp>
          <p:nvSpPr>
            <p:cNvPr id="175" name="Прямоугольник с двумя скругленными соседними углами 16"/>
            <p:cNvSpPr/>
            <p:nvPr/>
          </p:nvSpPr>
          <p:spPr>
            <a:xfrm rot="5400000">
              <a:off x="4559040" y="1941480"/>
              <a:ext cx="963720" cy="551016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Прямоугольник 17"/>
            <p:cNvSpPr/>
            <p:nvPr/>
          </p:nvSpPr>
          <p:spPr>
            <a:xfrm>
              <a:off x="2286000" y="4262400"/>
              <a:ext cx="5462640" cy="8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000" tIns="9000" bIns="9000" anchor="ctr">
              <a:noAutofit/>
            </a:bodyPr>
            <a:p>
              <a:pPr lvl="1" marL="114480" indent="-114480">
                <a:lnSpc>
                  <a:spcPct val="90000"/>
                </a:lnSpc>
                <a:spcAft>
                  <a:spcPts val="224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be-BY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алі дзейнік выражаны спалучэннем колькаснага лічэбніка з назоўнікам і перадаецца пасіўнасць дзеяння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24"/>
                </a:spcAft>
                <a:buClr>
                  <a:srgbClr val="000099"/>
                </a:buClr>
                <a:buFont typeface="Times New Roman"/>
                <a:buChar char="•"/>
                <a:tabLst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i="1" lang="be-BY" sz="12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На стале </a:t>
              </a:r>
              <a:r>
                <a:rPr b="1" i="1" lang="be-BY" sz="1200" spc="-1" strike="noStrike" u="sng">
                  <a:solidFill>
                    <a:srgbClr val="000099"/>
                  </a:solidFill>
                  <a:uFillTx/>
                  <a:latin typeface="Times New Roman"/>
                  <a:ea typeface="Times New Roman"/>
                </a:rPr>
                <a:t>ляжала</a:t>
              </a:r>
              <a:r>
                <a:rPr b="1" i="1" lang="be-BY" sz="12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be-BY" sz="1200" spc="-1" strike="noStrike" u="sng">
                  <a:solidFill>
                    <a:srgbClr val="000099"/>
                  </a:solidFill>
                  <a:uFillTx/>
                  <a:latin typeface="Times New Roman"/>
                  <a:ea typeface="Times New Roman"/>
                </a:rPr>
                <a:t>два кускі </a:t>
              </a:r>
              <a:r>
                <a:rPr b="1" i="1" lang="be-BY" sz="12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хлеба.  (Ц. Гартны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TextBox 18" descr=""/>
          <p:cNvPicPr/>
          <p:nvPr/>
        </p:nvPicPr>
        <p:blipFill>
          <a:blip r:embed="rId4"/>
          <a:stretch/>
        </p:blipFill>
        <p:spPr>
          <a:xfrm>
            <a:off x="725400" y="-66600"/>
            <a:ext cx="8332920" cy="48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0" descr="logo 21"/>
          <p:cNvPicPr/>
          <p:nvPr/>
        </p:nvPicPr>
        <p:blipFill>
          <a:blip r:embed="rId1"/>
          <a:stretch/>
        </p:blipFill>
        <p:spPr>
          <a:xfrm>
            <a:off x="6138720" y="6278400"/>
            <a:ext cx="3011760" cy="586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9"/>
          <p:cNvSpPr/>
          <p:nvPr/>
        </p:nvSpPr>
        <p:spPr>
          <a:xfrm>
            <a:off x="857160" y="928800"/>
            <a:ext cx="1486080" cy="5348160"/>
          </a:xfrm>
          <a:custGeom>
            <a:avLst/>
            <a:gdLst>
              <a:gd name="textAreaLeft" fmla="*/ 199080 w 1486080"/>
              <a:gd name="textAreaRight" fmla="*/ 1287000 w 1486080"/>
              <a:gd name="textAreaTop" fmla="*/ 1193400 h 5348160"/>
              <a:gd name="textAreaBottom" fmla="*/ 3929040 h 534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40" stAng="-5400000" swAng="-5400000"/>
                <a:lnTo>
                  <a:pt x="0" y="11048"/>
                </a:lnTo>
                <a:arcTo wR="21600" hR="9640" stAng="10800000" swAng="-3096836"/>
                <a:lnTo>
                  <a:pt x="14400" y="21049"/>
                </a:lnTo>
                <a:lnTo>
                  <a:pt x="21600" y="19984"/>
                </a:lnTo>
                <a:lnTo>
                  <a:pt x="14400" y="17817"/>
                </a:lnTo>
                <a:lnTo>
                  <a:pt x="14400" y="18729"/>
                </a:lnTo>
                <a:arcTo wR="21600" hR="9640" stAng="7703164" swAng="2984531"/>
                <a:lnTo>
                  <a:pt x="58" y="10344"/>
                </a:lnTo>
                <a:arcTo wR="21600" hR="9640" stAng="-10687695" swAng="5287695"/>
                <a:close/>
              </a:path>
              <a:path fill="darkenLess" w="21600" h="21600">
                <a:moveTo>
                  <a:pt x="21600" y="0"/>
                </a:moveTo>
                <a:arcTo wR="21600" hR="9640" stAng="-5400000" swAng="-5400000"/>
                <a:lnTo>
                  <a:pt x="0" y="9640"/>
                </a:lnTo>
                <a:arcTo wR="21600" hR="9640" stAng="10800000" swAng="-112305"/>
                <a:lnTo>
                  <a:pt x="58" y="10344"/>
                </a:lnTo>
                <a:arcTo wR="21600" hR="9640" stAng="-10687695" swAng="5287695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TextBox 11"/>
          <p:cNvGrpSpPr/>
          <p:nvPr/>
        </p:nvGrpSpPr>
        <p:grpSpPr>
          <a:xfrm>
            <a:off x="2298600" y="963720"/>
            <a:ext cx="6040440" cy="772920"/>
            <a:chOff x="2298600" y="963720"/>
            <a:chExt cx="6040440" cy="772920"/>
          </a:xfrm>
        </p:grpSpPr>
        <p:pic>
          <p:nvPicPr>
            <p:cNvPr id="182" name="TextBox 11" descr=""/>
            <p:cNvPicPr/>
            <p:nvPr/>
          </p:nvPicPr>
          <p:blipFill>
            <a:blip r:embed="rId3"/>
            <a:stretch/>
          </p:blipFill>
          <p:spPr>
            <a:xfrm>
              <a:off x="2298600" y="963720"/>
              <a:ext cx="604044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2389320" y="1031760"/>
              <a:ext cx="58658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астаўнымі 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называюцца такія выказнікі, лексічнае і граматычнае значэнні якіх выражаюцца рознымі словамі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 u="sng">
                  <a:solidFill>
                    <a:srgbClr val="3333ff"/>
                  </a:solidFill>
                  <a:uFillTx/>
                  <a:latin typeface="Times New Roman"/>
                  <a:ea typeface="Times New Roman"/>
                </a:rPr>
                <a:t>Зазваніў 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тэлефон – </a:t>
              </a:r>
              <a:r>
                <a:rPr b="1" i="1" lang="be-BY" sz="1100" spc="-1" strike="noStrike" u="sng">
                  <a:solidFill>
                    <a:srgbClr val="3333ff"/>
                  </a:solidFill>
                  <a:uFillTx/>
                  <a:latin typeface="Times New Roman"/>
                  <a:ea typeface="Times New Roman"/>
                </a:rPr>
                <a:t>Пачаў званіць 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тэлефон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TextBox 12"/>
          <p:cNvGrpSpPr/>
          <p:nvPr/>
        </p:nvGrpSpPr>
        <p:grpSpPr>
          <a:xfrm>
            <a:off x="2298600" y="1749600"/>
            <a:ext cx="6040440" cy="585720"/>
            <a:chOff x="2298600" y="1749600"/>
            <a:chExt cx="6040440" cy="585720"/>
          </a:xfrm>
        </p:grpSpPr>
        <p:pic>
          <p:nvPicPr>
            <p:cNvPr id="185" name="TextBox 12" descr=""/>
            <p:cNvPicPr/>
            <p:nvPr/>
          </p:nvPicPr>
          <p:blipFill>
            <a:blip r:embed="rId4"/>
            <a:stretch/>
          </p:blipFill>
          <p:spPr>
            <a:xfrm>
              <a:off x="2298600" y="1749600"/>
              <a:ext cx="604044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2381400" y="1809720"/>
              <a:ext cx="58816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астаўны выказнік 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складаецца з дзвюх частак, адна з якіх выражае граматычнае значэнне выказніка, а другая – яго лексічнае значэнне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TextBox 13"/>
          <p:cNvGrpSpPr/>
          <p:nvPr/>
        </p:nvGrpSpPr>
        <p:grpSpPr>
          <a:xfrm>
            <a:off x="2298600" y="2322360"/>
            <a:ext cx="6040440" cy="774720"/>
            <a:chOff x="2298600" y="2322360"/>
            <a:chExt cx="6040440" cy="774720"/>
          </a:xfrm>
        </p:grpSpPr>
        <p:pic>
          <p:nvPicPr>
            <p:cNvPr id="188" name="TextBox 13" descr=""/>
            <p:cNvPicPr/>
            <p:nvPr/>
          </p:nvPicPr>
          <p:blipFill>
            <a:blip r:embed="rId5"/>
            <a:stretch/>
          </p:blipFill>
          <p:spPr>
            <a:xfrm>
              <a:off x="2298600" y="2322360"/>
              <a:ext cx="604044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389320" y="2389320"/>
              <a:ext cx="58658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астаўны выказнік 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– сінтаскічнае непадзельнае словазлучэнне. Ён можа быць дзеяслоўны і іменны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Сям-там на нізінах </a:t>
              </a:r>
              <a:r>
                <a:rPr b="1" i="1" lang="be-BY" sz="1100" spc="-1" strike="noStrike" u="sng">
                  <a:solidFill>
                    <a:srgbClr val="3333ff"/>
                  </a:solidFill>
                  <a:uFillTx/>
                  <a:latin typeface="Times New Roman"/>
                  <a:ea typeface="Times New Roman"/>
                </a:rPr>
                <a:t>пачаў праклёўвацца 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кураслеп. (З. Бядуля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TextBox 14"/>
          <p:cNvGrpSpPr/>
          <p:nvPr/>
        </p:nvGrpSpPr>
        <p:grpSpPr>
          <a:xfrm>
            <a:off x="2298600" y="3108240"/>
            <a:ext cx="6040440" cy="957240"/>
            <a:chOff x="2298600" y="3108240"/>
            <a:chExt cx="6040440" cy="957240"/>
          </a:xfrm>
        </p:grpSpPr>
        <p:pic>
          <p:nvPicPr>
            <p:cNvPr id="191" name="TextBox 14" descr=""/>
            <p:cNvPicPr/>
            <p:nvPr/>
          </p:nvPicPr>
          <p:blipFill>
            <a:blip r:embed="rId6"/>
            <a:stretch/>
          </p:blipFill>
          <p:spPr>
            <a:xfrm>
              <a:off x="2298600" y="3108240"/>
              <a:ext cx="60404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398680" y="3184560"/>
              <a:ext cx="584676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астаўным дзеяслоўным 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называецца выказнік, які складаецца з дапаможнага дзеяслова (выразніка граматычнага значэння) і неазначальнай формы дзеяслова (носьбіта лексічнага значэння)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Бабка </a:t>
              </a:r>
              <a:r>
                <a:rPr b="1" i="1" lang="be-BY" sz="1100" spc="-1" strike="noStrike" u="sng">
                  <a:solidFill>
                    <a:srgbClr val="3333ff"/>
                  </a:solidFill>
                  <a:uFillTx/>
                  <a:latin typeface="Times New Roman"/>
                  <a:ea typeface="Times New Roman"/>
                </a:rPr>
                <a:t>пачала смяяцца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. (Я. Колас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TextBox 15"/>
          <p:cNvGrpSpPr/>
          <p:nvPr/>
        </p:nvGrpSpPr>
        <p:grpSpPr>
          <a:xfrm>
            <a:off x="2298600" y="4108320"/>
            <a:ext cx="6040440" cy="1146240"/>
            <a:chOff x="2298600" y="4108320"/>
            <a:chExt cx="6040440" cy="1146240"/>
          </a:xfrm>
        </p:grpSpPr>
        <p:pic>
          <p:nvPicPr>
            <p:cNvPr id="194" name="TextBox 15" descr=""/>
            <p:cNvPicPr/>
            <p:nvPr/>
          </p:nvPicPr>
          <p:blipFill>
            <a:blip r:embed="rId7"/>
            <a:stretch/>
          </p:blipFill>
          <p:spPr>
            <a:xfrm>
              <a:off x="2298600" y="4108320"/>
              <a:ext cx="604044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2408400" y="4194000"/>
              <a:ext cx="582768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Дапаможныя дзеясловы 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выражаюць граматычнае значэнне ладу і часу, а таксама дадатковыя лексічныя значэнні пачатку, працягласці, канца, пажаданасці, магчымасці дзеяння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Дэпутаты </a:t>
              </a:r>
              <a:r>
                <a:rPr b="1" i="1" lang="be-BY" sz="1100" spc="-1" strike="noStrike" u="sng">
                  <a:solidFill>
                    <a:srgbClr val="3333ff"/>
                  </a:solidFill>
                  <a:uFillTx/>
                  <a:latin typeface="Times New Roman"/>
                  <a:ea typeface="Times New Roman"/>
                </a:rPr>
                <a:t>пачалі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 (кончылі, прадоўжаць) </a:t>
              </a:r>
              <a:r>
                <a:rPr b="1" i="1" lang="be-BY" sz="1100" spc="-1" strike="noStrike" u="sng">
                  <a:solidFill>
                    <a:srgbClr val="3333ff"/>
                  </a:solidFill>
                  <a:uFillTx/>
                  <a:latin typeface="Times New Roman"/>
                  <a:ea typeface="Times New Roman"/>
                </a:rPr>
                <a:t>абмяркоўваць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 закон. Яны </a:t>
              </a:r>
              <a:r>
                <a:rPr b="1" i="1" lang="be-BY" sz="1100" spc="-1" strike="noStrike" u="sng">
                  <a:solidFill>
                    <a:srgbClr val="3333ff"/>
                  </a:solidFill>
                  <a:uFillTx/>
                  <a:latin typeface="Times New Roman"/>
                  <a:ea typeface="Times New Roman"/>
                </a:rPr>
                <a:t>могуць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 (хацелі б, жадалі б) </a:t>
              </a:r>
              <a:r>
                <a:rPr b="1" i="1" lang="be-BY" sz="1100" spc="-1" strike="noStrike" u="sng">
                  <a:solidFill>
                    <a:srgbClr val="3333ff"/>
                  </a:solidFill>
                  <a:uFillTx/>
                  <a:latin typeface="Times New Roman"/>
                  <a:ea typeface="Times New Roman"/>
                </a:rPr>
                <a:t>дапамагчы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 людзям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TextBox 16"/>
          <p:cNvGrpSpPr/>
          <p:nvPr/>
        </p:nvGrpSpPr>
        <p:grpSpPr>
          <a:xfrm>
            <a:off x="2298600" y="5321160"/>
            <a:ext cx="5973840" cy="1146240"/>
            <a:chOff x="2298600" y="5321160"/>
            <a:chExt cx="5973840" cy="1146240"/>
          </a:xfrm>
        </p:grpSpPr>
        <p:pic>
          <p:nvPicPr>
            <p:cNvPr id="197" name="TextBox 16" descr=""/>
            <p:cNvPicPr/>
            <p:nvPr/>
          </p:nvPicPr>
          <p:blipFill>
            <a:blip r:embed="rId8"/>
            <a:stretch/>
          </p:blipFill>
          <p:spPr>
            <a:xfrm>
              <a:off x="2298600" y="5321160"/>
              <a:ext cx="597384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2408400" y="5408640"/>
              <a:ext cx="575604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У ролі дапаможнага дзеяслова ўжываюцца словы 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ачаць, стаць, працягваць, кончыць, хацець, жадаць, прыняць, прадоўжыць, імкнуцца, намагацца, старацца, рупіцца, магчы і інш.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Замест дапаможнага дзеяслова можа ўжывацца дзеяслоў-звязка 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быць 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з кароткімі прыметнікамі 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авінен, рад, гатоў і інш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.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Я </a:t>
              </a:r>
              <a:r>
                <a:rPr b="1" i="1" lang="be-BY" sz="1100" spc="-1" strike="noStrike" u="sng">
                  <a:solidFill>
                    <a:srgbClr val="3333ff"/>
                  </a:solidFill>
                  <a:uFillTx/>
                  <a:latin typeface="Times New Roman"/>
                  <a:ea typeface="Times New Roman"/>
                </a:rPr>
                <a:t>быў бы рады 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з вамі </a:t>
              </a:r>
              <a:r>
                <a:rPr b="1" i="1" lang="be-BY" sz="1100" spc="-1" strike="noStrike" u="sng">
                  <a:solidFill>
                    <a:srgbClr val="3333ff"/>
                  </a:solidFill>
                  <a:uFillTx/>
                  <a:latin typeface="Times New Roman"/>
                  <a:ea typeface="Times New Roman"/>
                </a:rPr>
                <a:t>сустрэцца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 (г. зн. хачу сустрэцца)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TextBox 17"/>
          <p:cNvGrpSpPr/>
          <p:nvPr/>
        </p:nvGrpSpPr>
        <p:grpSpPr>
          <a:xfrm>
            <a:off x="2438280" y="517680"/>
            <a:ext cx="4834080" cy="463320"/>
            <a:chOff x="2438280" y="517680"/>
            <a:chExt cx="4834080" cy="463320"/>
          </a:xfrm>
        </p:grpSpPr>
        <p:pic>
          <p:nvPicPr>
            <p:cNvPr id="200" name="TextBox 17" descr=""/>
            <p:cNvPicPr/>
            <p:nvPr/>
          </p:nvPicPr>
          <p:blipFill>
            <a:blip r:embed="rId9"/>
            <a:stretch/>
          </p:blipFill>
          <p:spPr>
            <a:xfrm>
              <a:off x="2438280" y="517680"/>
              <a:ext cx="483408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2500200" y="571680"/>
              <a:ext cx="471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астаўны дзеяслоўны выказні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AutoShape 9"/>
          <p:cNvSpPr/>
          <p:nvPr/>
        </p:nvSpPr>
        <p:spPr>
          <a:xfrm>
            <a:off x="1058760" y="839880"/>
            <a:ext cx="1227240" cy="3089160"/>
          </a:xfrm>
          <a:custGeom>
            <a:avLst/>
            <a:gdLst>
              <a:gd name="textAreaLeft" fmla="*/ 164160 w 1227240"/>
              <a:gd name="textAreaRight" fmla="*/ 1063080 w 1227240"/>
              <a:gd name="textAreaTop" fmla="*/ 664200 h 3089160"/>
              <a:gd name="textAreaBottom" fmla="*/ 2280960 h 308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90" stAng="-5400000" swAng="-5400000"/>
                <a:lnTo>
                  <a:pt x="0" y="11304"/>
                </a:lnTo>
                <a:arcTo wR="21600" hR="9290" stAng="10800000" swAng="-3198275"/>
                <a:lnTo>
                  <a:pt x="15007" y="21157"/>
                </a:lnTo>
                <a:lnTo>
                  <a:pt x="21600" y="19587"/>
                </a:lnTo>
                <a:lnTo>
                  <a:pt x="15007" y="17131"/>
                </a:lnTo>
                <a:lnTo>
                  <a:pt x="15007" y="18137"/>
                </a:lnTo>
                <a:arcTo wR="21600" hR="9290" stAng="7601725" swAng="3037174"/>
                <a:lnTo>
                  <a:pt x="127" y="10297"/>
                </a:lnTo>
                <a:arcTo wR="21600" hR="9290" stAng="-10638899" swAng="5238899"/>
                <a:close/>
              </a:path>
              <a:path fill="darkenLess" w="21600" h="21600">
                <a:moveTo>
                  <a:pt x="21600" y="0"/>
                </a:moveTo>
                <a:arcTo wR="21600" hR="9290" stAng="-5400000" swAng="-5400000"/>
                <a:lnTo>
                  <a:pt x="0" y="9290"/>
                </a:lnTo>
                <a:arcTo wR="21600" hR="9290" stAng="10800000" swAng="-161101"/>
                <a:lnTo>
                  <a:pt x="127" y="10297"/>
                </a:lnTo>
                <a:arcTo wR="21600" hR="9290" stAng="-10638899" swAng="5238899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1066680" y="830160"/>
            <a:ext cx="1171800" cy="4170600"/>
          </a:xfrm>
          <a:custGeom>
            <a:avLst/>
            <a:gdLst>
              <a:gd name="textAreaLeft" fmla="*/ 156960 w 1171800"/>
              <a:gd name="textAreaRight" fmla="*/ 1014840 w 1171800"/>
              <a:gd name="textAreaTop" fmla="*/ 942840 h 4170600"/>
              <a:gd name="textAreaBottom" fmla="*/ 3103920 h 417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768" stAng="-5400000" swAng="-5400000"/>
                <a:lnTo>
                  <a:pt x="0" y="11192"/>
                </a:lnTo>
                <a:arcTo wR="21600" hR="9768" stAng="10800000" swAng="-3118788"/>
                <a:lnTo>
                  <a:pt x="14400" y="21041"/>
                </a:lnTo>
                <a:lnTo>
                  <a:pt x="21600" y="20247"/>
                </a:lnTo>
                <a:lnTo>
                  <a:pt x="14400" y="18335"/>
                </a:lnTo>
                <a:lnTo>
                  <a:pt x="14400" y="18976"/>
                </a:lnTo>
                <a:arcTo wR="21600" hR="9768" stAng="7681212" swAng="3005209"/>
                <a:lnTo>
                  <a:pt x="57" y="10479"/>
                </a:lnTo>
                <a:arcTo wR="21600" hR="9768" stAng="-10686421" swAng="5286421"/>
                <a:close/>
              </a:path>
              <a:path fill="darkenLess" w="21600" h="21600">
                <a:moveTo>
                  <a:pt x="21600" y="0"/>
                </a:moveTo>
                <a:arcTo wR="21600" hR="9768" stAng="-5400000" swAng="-5400000"/>
                <a:lnTo>
                  <a:pt x="0" y="9768"/>
                </a:lnTo>
                <a:arcTo wR="21600" hR="9768" stAng="10800000" swAng="-113579"/>
                <a:lnTo>
                  <a:pt x="57" y="10479"/>
                </a:lnTo>
                <a:arcTo wR="21600" hR="9768" stAng="-10686421" swAng="5286421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 rot="317400">
            <a:off x="963360" y="774360"/>
            <a:ext cx="1349280" cy="807840"/>
          </a:xfrm>
          <a:custGeom>
            <a:avLst/>
            <a:gdLst>
              <a:gd name="textAreaLeft" fmla="*/ 180720 w 1349280"/>
              <a:gd name="textAreaRight" fmla="*/ 1168560 w 1349280"/>
              <a:gd name="textAreaTop" fmla="*/ 133920 h 807840"/>
              <a:gd name="textAreaBottom" fmla="*/ 591840 h 807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172" stAng="-5400000" swAng="-5400000"/>
                <a:lnTo>
                  <a:pt x="0" y="12241"/>
                </a:lnTo>
                <a:arcTo wR="21600" hR="7172" stAng="10800000" swAng="-3509434"/>
                <a:lnTo>
                  <a:pt x="17292" y="21456"/>
                </a:lnTo>
                <a:lnTo>
                  <a:pt x="21600" y="16878"/>
                </a:lnTo>
                <a:lnTo>
                  <a:pt x="17292" y="12011"/>
                </a:lnTo>
                <a:lnTo>
                  <a:pt x="17292" y="14199"/>
                </a:lnTo>
                <a:arcTo wR="21600" hR="7172" stAng="7290566" swAng="3080469"/>
                <a:lnTo>
                  <a:pt x="1394" y="9706"/>
                </a:lnTo>
                <a:arcTo wR="21600" hR="7172" stAng="-10371035" swAng="4971035"/>
                <a:close/>
              </a:path>
              <a:path fill="darkenLess" w="21600" h="21600">
                <a:moveTo>
                  <a:pt x="21600" y="0"/>
                </a:moveTo>
                <a:arcTo wR="21600" hR="7172" stAng="-5400000" swAng="-5400000"/>
                <a:lnTo>
                  <a:pt x="0" y="7172"/>
                </a:lnTo>
                <a:arcTo wR="21600" hR="7172" stAng="10800000" swAng="-428965"/>
                <a:lnTo>
                  <a:pt x="1394" y="9706"/>
                </a:lnTo>
                <a:arcTo wR="21600" hR="7172" stAng="-10371035" swAng="4971035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 rot="317400">
            <a:off x="1068120" y="838080"/>
            <a:ext cx="1204920" cy="1538280"/>
          </a:xfrm>
          <a:custGeom>
            <a:avLst/>
            <a:gdLst>
              <a:gd name="textAreaLeft" fmla="*/ 161280 w 1204920"/>
              <a:gd name="textAreaRight" fmla="*/ 1043640 w 1204920"/>
              <a:gd name="textAreaTop" fmla="*/ 289440 h 1538280"/>
              <a:gd name="textAreaBottom" fmla="*/ 1119960 h 15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35" stAng="-5400000" swAng="-5400000"/>
                <a:lnTo>
                  <a:pt x="0" y="11658"/>
                </a:lnTo>
                <a:arcTo wR="21600" hR="8135" stAng="10800000" swAng="-2712291"/>
                <a:lnTo>
                  <a:pt x="14035" y="21085"/>
                </a:lnTo>
                <a:lnTo>
                  <a:pt x="21600" y="18031"/>
                </a:lnTo>
                <a:lnTo>
                  <a:pt x="14035" y="13946"/>
                </a:lnTo>
                <a:lnTo>
                  <a:pt x="14035" y="15754"/>
                </a:lnTo>
                <a:arcTo wR="21600" hR="8135" stAng="8087709" swAng="2425790"/>
                <a:lnTo>
                  <a:pt x="513" y="9896"/>
                </a:lnTo>
                <a:arcTo wR="21600" hR="8135" stAng="-10513500" swAng="5113500"/>
                <a:close/>
              </a:path>
              <a:path fill="darkenLess" w="21600" h="21600">
                <a:moveTo>
                  <a:pt x="21600" y="0"/>
                </a:moveTo>
                <a:arcTo wR="21600" hR="8135" stAng="-5400000" swAng="-5400000"/>
                <a:lnTo>
                  <a:pt x="0" y="8135"/>
                </a:lnTo>
                <a:arcTo wR="21600" hR="8135" stAng="10800000" swAng="-286500"/>
                <a:lnTo>
                  <a:pt x="513" y="9896"/>
                </a:lnTo>
                <a:arcTo wR="21600" hR="8135" stAng="-10513500" swAng="5113500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9"/>
          <p:cNvSpPr/>
          <p:nvPr/>
        </p:nvSpPr>
        <p:spPr>
          <a:xfrm rot="317400">
            <a:off x="1100160" y="831600"/>
            <a:ext cx="1109520" cy="2219040"/>
          </a:xfrm>
          <a:custGeom>
            <a:avLst/>
            <a:gdLst>
              <a:gd name="textAreaLeft" fmla="*/ 148680 w 1109520"/>
              <a:gd name="textAreaRight" fmla="*/ 960840 w 1109520"/>
              <a:gd name="textAreaTop" fmla="*/ 446040 h 2219040"/>
              <a:gd name="textAreaBottom" fmla="*/ 1599480 h 221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88" stAng="-5400000" swAng="-5400000"/>
                <a:lnTo>
                  <a:pt x="0" y="11224"/>
                </a:lnTo>
                <a:arcTo wR="21600" hR="8688" stAng="10800000" swAng="-2859778"/>
                <a:lnTo>
                  <a:pt x="14168" y="21070"/>
                </a:lnTo>
                <a:lnTo>
                  <a:pt x="21600" y="18643"/>
                </a:lnTo>
                <a:lnTo>
                  <a:pt x="14168" y="15156"/>
                </a:lnTo>
                <a:lnTo>
                  <a:pt x="14168" y="16845"/>
                </a:lnTo>
                <a:arcTo wR="21600" hR="8688" stAng="7940222" swAng="2656024"/>
                <a:lnTo>
                  <a:pt x="231" y="9955"/>
                </a:lnTo>
                <a:arcTo wR="21600" hR="8688" stAng="-10596246" swAng="5196246"/>
                <a:close/>
              </a:path>
              <a:path fill="darkenLess" w="21600" h="21600">
                <a:moveTo>
                  <a:pt x="21600" y="0"/>
                </a:moveTo>
                <a:arcTo wR="21600" hR="8688" stAng="-5400000" swAng="-5400000"/>
                <a:lnTo>
                  <a:pt x="0" y="8688"/>
                </a:lnTo>
                <a:arcTo wR="21600" hR="8688" stAng="10800000" swAng="-203754"/>
                <a:lnTo>
                  <a:pt x="231" y="9955"/>
                </a:lnTo>
                <a:arcTo wR="21600" hR="8688" stAng="-10596246" swAng="5196246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95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0" descr="logo 21"/>
          <p:cNvPicPr/>
          <p:nvPr/>
        </p:nvPicPr>
        <p:blipFill>
          <a:blip r:embed="rId1"/>
          <a:stretch/>
        </p:blipFill>
        <p:spPr>
          <a:xfrm>
            <a:off x="6138720" y="6278400"/>
            <a:ext cx="3011760" cy="586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9"/>
          <p:cNvSpPr/>
          <p:nvPr/>
        </p:nvSpPr>
        <p:spPr>
          <a:xfrm>
            <a:off x="857160" y="928800"/>
            <a:ext cx="1486080" cy="5348160"/>
          </a:xfrm>
          <a:custGeom>
            <a:avLst/>
            <a:gdLst>
              <a:gd name="textAreaLeft" fmla="*/ 199080 w 1486080"/>
              <a:gd name="textAreaRight" fmla="*/ 1287000 w 1486080"/>
              <a:gd name="textAreaTop" fmla="*/ 1193400 h 5348160"/>
              <a:gd name="textAreaBottom" fmla="*/ 3929040 h 534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40" stAng="-5400000" swAng="-5400000"/>
                <a:lnTo>
                  <a:pt x="0" y="11048"/>
                </a:lnTo>
                <a:arcTo wR="21600" hR="9640" stAng="10800000" swAng="-3096836"/>
                <a:lnTo>
                  <a:pt x="14400" y="21049"/>
                </a:lnTo>
                <a:lnTo>
                  <a:pt x="21600" y="19984"/>
                </a:lnTo>
                <a:lnTo>
                  <a:pt x="14400" y="17817"/>
                </a:lnTo>
                <a:lnTo>
                  <a:pt x="14400" y="18729"/>
                </a:lnTo>
                <a:arcTo wR="21600" hR="9640" stAng="7703164" swAng="2984531"/>
                <a:lnTo>
                  <a:pt x="58" y="10344"/>
                </a:lnTo>
                <a:arcTo wR="21600" hR="9640" stAng="-10687695" swAng="5287695"/>
                <a:close/>
              </a:path>
              <a:path fill="darkenLess" w="21600" h="21600">
                <a:moveTo>
                  <a:pt x="21600" y="0"/>
                </a:moveTo>
                <a:arcTo wR="21600" hR="9640" stAng="-5400000" swAng="-5400000"/>
                <a:lnTo>
                  <a:pt x="0" y="9640"/>
                </a:lnTo>
                <a:arcTo wR="21600" hR="9640" stAng="10800000" swAng="-112305"/>
                <a:lnTo>
                  <a:pt x="58" y="10344"/>
                </a:lnTo>
                <a:arcTo wR="21600" hR="9640" stAng="-10687695" swAng="5287695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TextBox 11"/>
          <p:cNvGrpSpPr/>
          <p:nvPr/>
        </p:nvGrpSpPr>
        <p:grpSpPr>
          <a:xfrm>
            <a:off x="2298600" y="963720"/>
            <a:ext cx="6040440" cy="792000"/>
            <a:chOff x="2298600" y="963720"/>
            <a:chExt cx="6040440" cy="792000"/>
          </a:xfrm>
        </p:grpSpPr>
        <p:pic>
          <p:nvPicPr>
            <p:cNvPr id="211" name="TextBox 11" descr=""/>
            <p:cNvPicPr/>
            <p:nvPr/>
          </p:nvPicPr>
          <p:blipFill>
            <a:blip r:embed="rId3"/>
            <a:stretch/>
          </p:blipFill>
          <p:spPr>
            <a:xfrm>
              <a:off x="2298600" y="963720"/>
              <a:ext cx="60404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2390760" y="1033560"/>
              <a:ext cx="58626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астаўны іменны выказнік 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складаецца з дзеяслова-звязкі і іменнай часткі (назоўніка, прыметніка і інш.), у якой выражаецца лексічнае значэнне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Раніца </a:t>
              </a:r>
              <a:r>
                <a:rPr b="1" i="1" lang="be-BY" sz="1100" spc="-1" strike="noStrike" u="sng">
                  <a:solidFill>
                    <a:srgbClr val="3333ff"/>
                  </a:solidFill>
                  <a:uFillTx/>
                  <a:latin typeface="Times New Roman"/>
                  <a:ea typeface="Times New Roman"/>
                </a:rPr>
                <a:t>была цёплая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. (І. Новікаў) Брат </a:t>
              </a:r>
              <a:r>
                <a:rPr b="1" i="1" lang="be-BY" sz="1100" spc="-1" strike="noStrike" u="sng">
                  <a:solidFill>
                    <a:srgbClr val="3333ff"/>
                  </a:solidFill>
                  <a:uFillTx/>
                  <a:latin typeface="Times New Roman"/>
                  <a:ea typeface="Times New Roman"/>
                </a:rPr>
                <a:t>будзе трактарыстам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. (А. Якімовіч</a:t>
              </a: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TextBox 13"/>
          <p:cNvGrpSpPr/>
          <p:nvPr/>
        </p:nvGrpSpPr>
        <p:grpSpPr>
          <a:xfrm>
            <a:off x="2298600" y="1889280"/>
            <a:ext cx="6040440" cy="1152360"/>
            <a:chOff x="2298600" y="1889280"/>
            <a:chExt cx="6040440" cy="1152360"/>
          </a:xfrm>
        </p:grpSpPr>
        <p:pic>
          <p:nvPicPr>
            <p:cNvPr id="214" name="TextBox 13" descr=""/>
            <p:cNvPicPr/>
            <p:nvPr/>
          </p:nvPicPr>
          <p:blipFill>
            <a:blip r:embed="rId4"/>
            <a:stretch/>
          </p:blipFill>
          <p:spPr>
            <a:xfrm>
              <a:off x="2298600" y="1889280"/>
              <a:ext cx="604044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2408400" y="1979640"/>
              <a:ext cx="582768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У якасці дзеяслова-звязкі найбольш часта выкарыстоўваецца дзеяслоў 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быць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. Ён пазбаўлены лексічнага значэння і выражае толькі граматычнае значэнне часу і ладу. Звязка цяперашняга часу 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ёсць 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ужываецца  вельмі рэдка, пераважна ў кніжна-пісьмовай форме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Твой бацька быў герой… (Я. Брыль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TextBox 14"/>
          <p:cNvGrpSpPr/>
          <p:nvPr/>
        </p:nvGrpSpPr>
        <p:grpSpPr>
          <a:xfrm>
            <a:off x="2298600" y="3108240"/>
            <a:ext cx="6040440" cy="957240"/>
            <a:chOff x="2298600" y="3108240"/>
            <a:chExt cx="6040440" cy="957240"/>
          </a:xfrm>
        </p:grpSpPr>
        <p:pic>
          <p:nvPicPr>
            <p:cNvPr id="217" name="TextBox 14" descr=""/>
            <p:cNvPicPr/>
            <p:nvPr/>
          </p:nvPicPr>
          <p:blipFill>
            <a:blip r:embed="rId5"/>
            <a:stretch/>
          </p:blipFill>
          <p:spPr>
            <a:xfrm>
              <a:off x="2298600" y="3108240"/>
              <a:ext cx="60404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2398680" y="3184560"/>
              <a:ext cx="584676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Другую групу звязак складаюць словы, якія не поўнасцю страцілі лексічнае значэнне. Напрыклад, слова 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танавіцца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ў якасці звязкі не толькі адносіць прымету, але і паказвае паступовае станаўленне гэтай прыметы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Ноч </a:t>
              </a:r>
              <a:r>
                <a:rPr b="1" i="1" lang="be-BY" sz="1100" spc="-1" strike="noStrike" u="sng">
                  <a:solidFill>
                    <a:srgbClr val="3333ff"/>
                  </a:solidFill>
                  <a:uFillTx/>
                  <a:latin typeface="Times New Roman"/>
                  <a:ea typeface="Times New Roman"/>
                </a:rPr>
                <a:t>была цёмная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. – Ноч </a:t>
              </a:r>
              <a:r>
                <a:rPr b="1" i="1" lang="be-BY" sz="1100" spc="-1" strike="noStrike" u="sng">
                  <a:solidFill>
                    <a:srgbClr val="3333ff"/>
                  </a:solidFill>
                  <a:uFillTx/>
                  <a:latin typeface="Times New Roman"/>
                  <a:ea typeface="Times New Roman"/>
                </a:rPr>
                <a:t>станавілася цёмнай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TextBox 15"/>
          <p:cNvGrpSpPr/>
          <p:nvPr/>
        </p:nvGrpSpPr>
        <p:grpSpPr>
          <a:xfrm>
            <a:off x="2298600" y="4108320"/>
            <a:ext cx="6040440" cy="1146240"/>
            <a:chOff x="2298600" y="4108320"/>
            <a:chExt cx="6040440" cy="1146240"/>
          </a:xfrm>
        </p:grpSpPr>
        <p:pic>
          <p:nvPicPr>
            <p:cNvPr id="220" name="TextBox 15" descr=""/>
            <p:cNvPicPr/>
            <p:nvPr/>
          </p:nvPicPr>
          <p:blipFill>
            <a:blip r:embed="rId6"/>
            <a:stretch/>
          </p:blipFill>
          <p:spPr>
            <a:xfrm>
              <a:off x="2298600" y="4108320"/>
              <a:ext cx="604044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2408400" y="4194000"/>
              <a:ext cx="582768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Падобнымі звязкамі з’яўляюцца дзеясловы руху і стану 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хадзіць, прыехаць, прыбегчы, вярнуцца, сядзець, ляжаць, стаяць, прачнуцца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і інш., якія разам з іменнай часткай выражаюць лексічнае значэнне састаўнога іменнага выказніка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Маразы тады </a:t>
              </a:r>
              <a:r>
                <a:rPr b="1" i="1" lang="be-BY" sz="1100" spc="-1" strike="noStrike" u="sng">
                  <a:solidFill>
                    <a:srgbClr val="3333ff"/>
                  </a:solidFill>
                  <a:uFillTx/>
                  <a:latin typeface="Times New Roman"/>
                  <a:ea typeface="Times New Roman"/>
                </a:rPr>
                <a:t>стаялі моцныя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. (Б. Новікаў)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Дзяўчынка </a:t>
              </a:r>
              <a:r>
                <a:rPr b="1" i="1" lang="be-BY" sz="1100" spc="-1" strike="noStrike" u="sng">
                  <a:solidFill>
                    <a:srgbClr val="3333ff"/>
                  </a:solidFill>
                  <a:uFillTx/>
                  <a:latin typeface="Times New Roman"/>
                  <a:ea typeface="Times New Roman"/>
                </a:rPr>
                <a:t>прачнулася шчаслівай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. (А. Бялевіч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TextBox 16"/>
          <p:cNvGrpSpPr/>
          <p:nvPr/>
        </p:nvGrpSpPr>
        <p:grpSpPr>
          <a:xfrm>
            <a:off x="2298600" y="5321160"/>
            <a:ext cx="6040440" cy="1146240"/>
            <a:chOff x="2298600" y="5321160"/>
            <a:chExt cx="6040440" cy="1146240"/>
          </a:xfrm>
        </p:grpSpPr>
        <p:pic>
          <p:nvPicPr>
            <p:cNvPr id="223" name="TextBox 16" descr=""/>
            <p:cNvPicPr/>
            <p:nvPr/>
          </p:nvPicPr>
          <p:blipFill>
            <a:blip r:embed="rId7"/>
            <a:stretch/>
          </p:blipFill>
          <p:spPr>
            <a:xfrm>
              <a:off x="2298600" y="5321160"/>
              <a:ext cx="604044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2408400" y="5408640"/>
              <a:ext cx="582768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У ролі звязкі можа выступаць спалучэнне дапаможнага слова з дзеясловам-звязка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Я</a:t>
              </a:r>
              <a:r>
                <a:rPr b="1" i="1" lang="be-BY" sz="1100" spc="-1" strike="noStrike" u="sng">
                  <a:solidFill>
                    <a:srgbClr val="3333ff"/>
                  </a:solidFill>
                  <a:uFillTx/>
                  <a:latin typeface="Times New Roman"/>
                  <a:ea typeface="Times New Roman"/>
                </a:rPr>
                <a:t> хачу быць 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настаўнікам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або спалучэнне дзеяслова-звязкі з кароткім прыметнікам і неазначальнай формай другой звязкі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Я </a:t>
              </a:r>
              <a:r>
                <a:rPr b="1" i="1" lang="be-BY" sz="11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быў бы рады стаць настаўнікам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TextBox 17"/>
          <p:cNvGrpSpPr/>
          <p:nvPr/>
        </p:nvGrpSpPr>
        <p:grpSpPr>
          <a:xfrm>
            <a:off x="2438280" y="517680"/>
            <a:ext cx="4834080" cy="463320"/>
            <a:chOff x="2438280" y="517680"/>
            <a:chExt cx="4834080" cy="463320"/>
          </a:xfrm>
        </p:grpSpPr>
        <p:pic>
          <p:nvPicPr>
            <p:cNvPr id="226" name="TextBox 17" descr=""/>
            <p:cNvPicPr/>
            <p:nvPr/>
          </p:nvPicPr>
          <p:blipFill>
            <a:blip r:embed="rId8"/>
            <a:stretch/>
          </p:blipFill>
          <p:spPr>
            <a:xfrm>
              <a:off x="2438280" y="517680"/>
              <a:ext cx="483408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2500200" y="571680"/>
              <a:ext cx="471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астаўны іменны выказні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AutoShape 9"/>
          <p:cNvSpPr/>
          <p:nvPr/>
        </p:nvSpPr>
        <p:spPr>
          <a:xfrm>
            <a:off x="1058760" y="839880"/>
            <a:ext cx="1227240" cy="3089160"/>
          </a:xfrm>
          <a:custGeom>
            <a:avLst/>
            <a:gdLst>
              <a:gd name="textAreaLeft" fmla="*/ 164160 w 1227240"/>
              <a:gd name="textAreaRight" fmla="*/ 1063080 w 1227240"/>
              <a:gd name="textAreaTop" fmla="*/ 664200 h 3089160"/>
              <a:gd name="textAreaBottom" fmla="*/ 2280960 h 308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90" stAng="-5400000" swAng="-5400000"/>
                <a:lnTo>
                  <a:pt x="0" y="11304"/>
                </a:lnTo>
                <a:arcTo wR="21600" hR="9290" stAng="10800000" swAng="-3198275"/>
                <a:lnTo>
                  <a:pt x="15007" y="21157"/>
                </a:lnTo>
                <a:lnTo>
                  <a:pt x="21600" y="19587"/>
                </a:lnTo>
                <a:lnTo>
                  <a:pt x="15007" y="17131"/>
                </a:lnTo>
                <a:lnTo>
                  <a:pt x="15007" y="18137"/>
                </a:lnTo>
                <a:arcTo wR="21600" hR="9290" stAng="7601725" swAng="3037174"/>
                <a:lnTo>
                  <a:pt x="127" y="10297"/>
                </a:lnTo>
                <a:arcTo wR="21600" hR="9290" stAng="-10638899" swAng="5238899"/>
                <a:close/>
              </a:path>
              <a:path fill="darkenLess" w="21600" h="21600">
                <a:moveTo>
                  <a:pt x="21600" y="0"/>
                </a:moveTo>
                <a:arcTo wR="21600" hR="9290" stAng="-5400000" swAng="-5400000"/>
                <a:lnTo>
                  <a:pt x="0" y="9290"/>
                </a:lnTo>
                <a:arcTo wR="21600" hR="9290" stAng="10800000" swAng="-161101"/>
                <a:lnTo>
                  <a:pt x="127" y="10297"/>
                </a:lnTo>
                <a:arcTo wR="21600" hR="9290" stAng="-10638899" swAng="5238899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9"/>
          <p:cNvSpPr/>
          <p:nvPr/>
        </p:nvSpPr>
        <p:spPr>
          <a:xfrm>
            <a:off x="1066680" y="830160"/>
            <a:ext cx="1171800" cy="4170600"/>
          </a:xfrm>
          <a:custGeom>
            <a:avLst/>
            <a:gdLst>
              <a:gd name="textAreaLeft" fmla="*/ 156960 w 1171800"/>
              <a:gd name="textAreaRight" fmla="*/ 1014840 w 1171800"/>
              <a:gd name="textAreaTop" fmla="*/ 942840 h 4170600"/>
              <a:gd name="textAreaBottom" fmla="*/ 3103920 h 417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768" stAng="-5400000" swAng="-5400000"/>
                <a:lnTo>
                  <a:pt x="0" y="11192"/>
                </a:lnTo>
                <a:arcTo wR="21600" hR="9768" stAng="10800000" swAng="-3118788"/>
                <a:lnTo>
                  <a:pt x="14400" y="21041"/>
                </a:lnTo>
                <a:lnTo>
                  <a:pt x="21600" y="20247"/>
                </a:lnTo>
                <a:lnTo>
                  <a:pt x="14400" y="18335"/>
                </a:lnTo>
                <a:lnTo>
                  <a:pt x="14400" y="18976"/>
                </a:lnTo>
                <a:arcTo wR="21600" hR="9768" stAng="7681212" swAng="3005209"/>
                <a:lnTo>
                  <a:pt x="57" y="10479"/>
                </a:lnTo>
                <a:arcTo wR="21600" hR="9768" stAng="-10686421" swAng="5286421"/>
                <a:close/>
              </a:path>
              <a:path fill="darkenLess" w="21600" h="21600">
                <a:moveTo>
                  <a:pt x="21600" y="0"/>
                </a:moveTo>
                <a:arcTo wR="21600" hR="9768" stAng="-5400000" swAng="-5400000"/>
                <a:lnTo>
                  <a:pt x="0" y="9768"/>
                </a:lnTo>
                <a:arcTo wR="21600" hR="9768" stAng="10800000" swAng="-113579"/>
                <a:lnTo>
                  <a:pt x="57" y="10479"/>
                </a:lnTo>
                <a:arcTo wR="21600" hR="9768" stAng="-10686421" swAng="5286421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9"/>
          <p:cNvSpPr/>
          <p:nvPr/>
        </p:nvSpPr>
        <p:spPr>
          <a:xfrm rot="317400">
            <a:off x="963360" y="774360"/>
            <a:ext cx="1349280" cy="807840"/>
          </a:xfrm>
          <a:custGeom>
            <a:avLst/>
            <a:gdLst>
              <a:gd name="textAreaLeft" fmla="*/ 180720 w 1349280"/>
              <a:gd name="textAreaRight" fmla="*/ 1168560 w 1349280"/>
              <a:gd name="textAreaTop" fmla="*/ 133920 h 807840"/>
              <a:gd name="textAreaBottom" fmla="*/ 591840 h 807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172" stAng="-5400000" swAng="-5400000"/>
                <a:lnTo>
                  <a:pt x="0" y="12241"/>
                </a:lnTo>
                <a:arcTo wR="21600" hR="7172" stAng="10800000" swAng="-3509434"/>
                <a:lnTo>
                  <a:pt x="17292" y="21456"/>
                </a:lnTo>
                <a:lnTo>
                  <a:pt x="21600" y="16878"/>
                </a:lnTo>
                <a:lnTo>
                  <a:pt x="17292" y="12011"/>
                </a:lnTo>
                <a:lnTo>
                  <a:pt x="17292" y="14199"/>
                </a:lnTo>
                <a:arcTo wR="21600" hR="7172" stAng="7290566" swAng="3080469"/>
                <a:lnTo>
                  <a:pt x="1394" y="9706"/>
                </a:lnTo>
                <a:arcTo wR="21600" hR="7172" stAng="-10371035" swAng="4971035"/>
                <a:close/>
              </a:path>
              <a:path fill="darkenLess" w="21600" h="21600">
                <a:moveTo>
                  <a:pt x="21600" y="0"/>
                </a:moveTo>
                <a:arcTo wR="21600" hR="7172" stAng="-5400000" swAng="-5400000"/>
                <a:lnTo>
                  <a:pt x="0" y="7172"/>
                </a:lnTo>
                <a:arcTo wR="21600" hR="7172" stAng="10800000" swAng="-428965"/>
                <a:lnTo>
                  <a:pt x="1394" y="9706"/>
                </a:lnTo>
                <a:arcTo wR="21600" hR="7172" stAng="-10371035" swAng="4971035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9"/>
          <p:cNvSpPr/>
          <p:nvPr/>
        </p:nvSpPr>
        <p:spPr>
          <a:xfrm rot="317400">
            <a:off x="1117080" y="836280"/>
            <a:ext cx="1184400" cy="1827360"/>
          </a:xfrm>
          <a:custGeom>
            <a:avLst/>
            <a:gdLst>
              <a:gd name="textAreaLeft" fmla="*/ 158400 w 1184400"/>
              <a:gd name="textAreaRight" fmla="*/ 1026000 w 1184400"/>
              <a:gd name="textAreaTop" fmla="*/ 341280 h 1827360"/>
              <a:gd name="textAreaBottom" fmla="*/ 1301400 h 182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067" stAng="-5400000" swAng="-5400000"/>
                <a:lnTo>
                  <a:pt x="0" y="11349"/>
                </a:lnTo>
                <a:arcTo wR="21600" hR="8067" stAng="10800000" swAng="-2732525"/>
                <a:lnTo>
                  <a:pt x="14168" y="21107"/>
                </a:lnTo>
                <a:lnTo>
                  <a:pt x="21600" y="17774"/>
                </a:lnTo>
                <a:lnTo>
                  <a:pt x="14168" y="13455"/>
                </a:lnTo>
                <a:lnTo>
                  <a:pt x="14168" y="15640"/>
                </a:lnTo>
                <a:arcTo wR="21600" hR="8067" stAng="8067475" swAng="2466307"/>
                <a:lnTo>
                  <a:pt x="452" y="9708"/>
                </a:lnTo>
                <a:arcTo wR="21600" hR="8067" stAng="-10533782" swAng="5133782"/>
                <a:close/>
              </a:path>
              <a:path fill="darkenLess" w="21600" h="21600">
                <a:moveTo>
                  <a:pt x="21600" y="0"/>
                </a:moveTo>
                <a:arcTo wR="21600" hR="8067" stAng="-5400000" swAng="-5400000"/>
                <a:lnTo>
                  <a:pt x="0" y="8067"/>
                </a:lnTo>
                <a:arcTo wR="21600" hR="8067" stAng="10800000" swAng="-266218"/>
                <a:lnTo>
                  <a:pt x="452" y="9708"/>
                </a:lnTo>
                <a:arcTo wR="21600" hR="8067" stAng="-10533782" swAng="5133782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5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95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234" name="Прямоугольник 5" descr=""/>
          <p:cNvPicPr/>
          <p:nvPr/>
        </p:nvPicPr>
        <p:blipFill>
          <a:blip r:embed="rId3"/>
          <a:stretch/>
        </p:blipFill>
        <p:spPr>
          <a:xfrm>
            <a:off x="2152800" y="103320"/>
            <a:ext cx="4833720" cy="635040"/>
          </a:xfrm>
          <a:prstGeom prst="rect">
            <a:avLst/>
          </a:prstGeom>
          <a:ln w="0">
            <a:noFill/>
          </a:ln>
        </p:spPr>
      </p:pic>
      <p:pic>
        <p:nvPicPr>
          <p:cNvPr id="235" name="Прямоугольник 7" descr=""/>
          <p:cNvPicPr/>
          <p:nvPr/>
        </p:nvPicPr>
        <p:blipFill>
          <a:blip r:embed="rId4"/>
          <a:stretch/>
        </p:blipFill>
        <p:spPr>
          <a:xfrm>
            <a:off x="938160" y="785880"/>
            <a:ext cx="2543400" cy="519120"/>
          </a:xfrm>
          <a:prstGeom prst="rect">
            <a:avLst/>
          </a:prstGeom>
          <a:ln w="0">
            <a:noFill/>
          </a:ln>
        </p:spPr>
      </p:pic>
      <p:pic>
        <p:nvPicPr>
          <p:cNvPr id="236" name="Прямоугольник 8" descr=""/>
          <p:cNvPicPr/>
          <p:nvPr/>
        </p:nvPicPr>
        <p:blipFill>
          <a:blip r:embed="rId5"/>
          <a:stretch/>
        </p:blipFill>
        <p:spPr>
          <a:xfrm>
            <a:off x="4370400" y="785880"/>
            <a:ext cx="2543040" cy="519120"/>
          </a:xfrm>
          <a:prstGeom prst="rect">
            <a:avLst/>
          </a:prstGeom>
          <a:ln w="0">
            <a:noFill/>
          </a:ln>
        </p:spPr>
      </p:pic>
      <p:pic>
        <p:nvPicPr>
          <p:cNvPr id="237" name="Прямоугольник 9" descr=""/>
          <p:cNvPicPr/>
          <p:nvPr/>
        </p:nvPicPr>
        <p:blipFill>
          <a:blip r:embed="rId6"/>
          <a:stretch/>
        </p:blipFill>
        <p:spPr>
          <a:xfrm>
            <a:off x="298440" y="1390680"/>
            <a:ext cx="2043000" cy="401760"/>
          </a:xfrm>
          <a:prstGeom prst="rect">
            <a:avLst/>
          </a:prstGeom>
          <a:ln w="0">
            <a:noFill/>
          </a:ln>
        </p:spPr>
      </p:pic>
      <p:grpSp>
        <p:nvGrpSpPr>
          <p:cNvPr id="238" name="TextBox 10"/>
          <p:cNvGrpSpPr/>
          <p:nvPr/>
        </p:nvGrpSpPr>
        <p:grpSpPr>
          <a:xfrm>
            <a:off x="2298600" y="1390680"/>
            <a:ext cx="4187880" cy="571320"/>
            <a:chOff x="2298600" y="1390680"/>
            <a:chExt cx="4187880" cy="571320"/>
          </a:xfrm>
        </p:grpSpPr>
        <p:pic>
          <p:nvPicPr>
            <p:cNvPr id="239" name="TextBox 10" descr=""/>
            <p:cNvPicPr/>
            <p:nvPr/>
          </p:nvPicPr>
          <p:blipFill>
            <a:blip r:embed="rId7"/>
            <a:stretch/>
          </p:blipFill>
          <p:spPr>
            <a:xfrm>
              <a:off x="2298600" y="1390680"/>
              <a:ext cx="418788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2357280" y="1428840"/>
              <a:ext cx="4071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Ён </a:t>
              </a:r>
              <a:r>
                <a:rPr b="1" i="1" lang="be-BY" sz="12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вясёлы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. Ён </a:t>
              </a:r>
              <a:r>
                <a:rPr b="1" i="1" lang="be-BY" sz="12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быў вясёлы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. Ён </a:t>
              </a:r>
              <a:r>
                <a:rPr b="1" i="1" lang="be-BY" sz="12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быў вясёлым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Ён </a:t>
              </a:r>
              <a:r>
                <a:rPr b="1" i="1" lang="be-BY" sz="12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весялейшы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за сваю сястру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Прямоугольник 11" descr=""/>
          <p:cNvPicPr/>
          <p:nvPr/>
        </p:nvPicPr>
        <p:blipFill>
          <a:blip r:embed="rId8"/>
          <a:stretch/>
        </p:blipFill>
        <p:spPr>
          <a:xfrm>
            <a:off x="652320" y="2036880"/>
            <a:ext cx="2048040" cy="401400"/>
          </a:xfrm>
          <a:prstGeom prst="rect">
            <a:avLst/>
          </a:prstGeom>
          <a:ln w="0">
            <a:noFill/>
          </a:ln>
        </p:spPr>
      </p:pic>
      <p:grpSp>
        <p:nvGrpSpPr>
          <p:cNvPr id="242" name="TextBox 12"/>
          <p:cNvGrpSpPr/>
          <p:nvPr/>
        </p:nvGrpSpPr>
        <p:grpSpPr>
          <a:xfrm>
            <a:off x="2651040" y="2109960"/>
            <a:ext cx="4262400" cy="566640"/>
            <a:chOff x="2651040" y="2109960"/>
            <a:chExt cx="4262400" cy="566640"/>
          </a:xfrm>
        </p:grpSpPr>
        <p:pic>
          <p:nvPicPr>
            <p:cNvPr id="243" name="TextBox 12" descr=""/>
            <p:cNvPicPr/>
            <p:nvPr/>
          </p:nvPicPr>
          <p:blipFill>
            <a:blip r:embed="rId9"/>
            <a:stretch/>
          </p:blipFill>
          <p:spPr>
            <a:xfrm>
              <a:off x="2651040" y="2109960"/>
              <a:ext cx="42624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2714760" y="2143080"/>
              <a:ext cx="41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Ён</a:t>
              </a:r>
              <a:r>
                <a:rPr b="1" i="1" lang="be-BY" sz="12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 шчасліўчык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. Ён </a:t>
              </a:r>
              <a:r>
                <a:rPr b="1" i="1" lang="be-BY" sz="12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быў шчасліўчык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Ён </a:t>
              </a:r>
              <a:r>
                <a:rPr b="1" i="1" lang="be-BY" sz="12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быў шчасліўчыкам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. Ён </a:t>
              </a:r>
              <a:r>
                <a:rPr b="1" i="1" lang="be-BY" sz="12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быў з хітрынкай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5" name="Прямоугольник 13" descr=""/>
          <p:cNvPicPr/>
          <p:nvPr/>
        </p:nvPicPr>
        <p:blipFill>
          <a:blip r:embed="rId10"/>
          <a:stretch/>
        </p:blipFill>
        <p:spPr>
          <a:xfrm>
            <a:off x="938160" y="2749680"/>
            <a:ext cx="2043000" cy="401400"/>
          </a:xfrm>
          <a:prstGeom prst="rect">
            <a:avLst/>
          </a:prstGeom>
          <a:ln w="0">
            <a:noFill/>
          </a:ln>
        </p:spPr>
      </p:pic>
      <p:grpSp>
        <p:nvGrpSpPr>
          <p:cNvPr id="246" name="TextBox 14"/>
          <p:cNvGrpSpPr/>
          <p:nvPr/>
        </p:nvGrpSpPr>
        <p:grpSpPr>
          <a:xfrm>
            <a:off x="3011400" y="2962440"/>
            <a:ext cx="4400640" cy="572760"/>
            <a:chOff x="3011400" y="2962440"/>
            <a:chExt cx="4400640" cy="572760"/>
          </a:xfrm>
        </p:grpSpPr>
        <p:pic>
          <p:nvPicPr>
            <p:cNvPr id="247" name="TextBox 14" descr=""/>
            <p:cNvPicPr/>
            <p:nvPr/>
          </p:nvPicPr>
          <p:blipFill>
            <a:blip r:embed="rId11"/>
            <a:stretch/>
          </p:blipFill>
          <p:spPr>
            <a:xfrm>
              <a:off x="3011400" y="2962440"/>
              <a:ext cx="4400640" cy="57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3071880" y="3000240"/>
              <a:ext cx="4286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Ён </a:t>
              </a:r>
              <a:r>
                <a:rPr b="1" i="1" lang="be-BY" sz="12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быў узрадаваны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. Лёд на рацэ </a:t>
              </a:r>
              <a:r>
                <a:rPr b="1" i="1" lang="be-BY" sz="12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будзе ўзарваны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Травы </a:t>
              </a:r>
              <a:r>
                <a:rPr b="1" i="1" lang="be-BY" sz="12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скошаны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TextBox 15"/>
          <p:cNvGrpSpPr/>
          <p:nvPr/>
        </p:nvGrpSpPr>
        <p:grpSpPr>
          <a:xfrm>
            <a:off x="3224160" y="3822840"/>
            <a:ext cx="4475160" cy="384120"/>
            <a:chOff x="3224160" y="3822840"/>
            <a:chExt cx="4475160" cy="384120"/>
          </a:xfrm>
        </p:grpSpPr>
        <p:pic>
          <p:nvPicPr>
            <p:cNvPr id="250" name="TextBox 15" descr=""/>
            <p:cNvPicPr/>
            <p:nvPr/>
          </p:nvPicPr>
          <p:blipFill>
            <a:blip r:embed="rId12"/>
            <a:stretch/>
          </p:blipFill>
          <p:spPr>
            <a:xfrm>
              <a:off x="3224160" y="3822840"/>
              <a:ext cx="44751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3286080" y="3857760"/>
              <a:ext cx="4357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Пяць і пяць </a:t>
              </a:r>
              <a:r>
                <a:rPr b="1" i="1" lang="be-BY" sz="12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будзе дзесяць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TextBox 16"/>
          <p:cNvGrpSpPr/>
          <p:nvPr/>
        </p:nvGrpSpPr>
        <p:grpSpPr>
          <a:xfrm>
            <a:off x="3724200" y="4462560"/>
            <a:ext cx="4402080" cy="401400"/>
            <a:chOff x="3724200" y="4462560"/>
            <a:chExt cx="4402080" cy="401400"/>
          </a:xfrm>
        </p:grpSpPr>
        <p:pic>
          <p:nvPicPr>
            <p:cNvPr id="253" name="TextBox 16" descr=""/>
            <p:cNvPicPr/>
            <p:nvPr/>
          </p:nvPicPr>
          <p:blipFill>
            <a:blip r:embed="rId13"/>
            <a:stretch/>
          </p:blipFill>
          <p:spPr>
            <a:xfrm>
              <a:off x="3724200" y="4462560"/>
              <a:ext cx="4402080" cy="40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3786120" y="4500720"/>
              <a:ext cx="4286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Кватэра </a:t>
              </a:r>
              <a:r>
                <a:rPr b="1" i="1" lang="be-BY" sz="12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стала наша</a:t>
              </a: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TextBox 17"/>
          <p:cNvGrpSpPr/>
          <p:nvPr/>
        </p:nvGrpSpPr>
        <p:grpSpPr>
          <a:xfrm>
            <a:off x="3938760" y="5175360"/>
            <a:ext cx="4400280" cy="390240"/>
            <a:chOff x="3938760" y="5175360"/>
            <a:chExt cx="4400280" cy="390240"/>
          </a:xfrm>
        </p:grpSpPr>
        <p:pic>
          <p:nvPicPr>
            <p:cNvPr id="256" name="TextBox 17" descr=""/>
            <p:cNvPicPr/>
            <p:nvPr/>
          </p:nvPicPr>
          <p:blipFill>
            <a:blip r:embed="rId14"/>
            <a:stretch/>
          </p:blipFill>
          <p:spPr>
            <a:xfrm>
              <a:off x="3938760" y="5175360"/>
              <a:ext cx="440028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4000680" y="5214960"/>
              <a:ext cx="428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Ён </a:t>
              </a:r>
              <a:r>
                <a:rPr b="1" i="1" lang="be-BY" sz="12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паявіўся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вельмі </a:t>
              </a:r>
              <a:r>
                <a:rPr b="1" i="1" lang="be-BY" sz="12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дарэчы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TextBox 18"/>
          <p:cNvGrpSpPr/>
          <p:nvPr/>
        </p:nvGrpSpPr>
        <p:grpSpPr>
          <a:xfrm>
            <a:off x="4151160" y="5962680"/>
            <a:ext cx="4548240" cy="755640"/>
            <a:chOff x="4151160" y="5962680"/>
            <a:chExt cx="4548240" cy="755640"/>
          </a:xfrm>
        </p:grpSpPr>
        <p:pic>
          <p:nvPicPr>
            <p:cNvPr id="259" name="TextBox 18" descr=""/>
            <p:cNvPicPr/>
            <p:nvPr/>
          </p:nvPicPr>
          <p:blipFill>
            <a:blip r:embed="rId15"/>
            <a:stretch/>
          </p:blipFill>
          <p:spPr>
            <a:xfrm>
              <a:off x="4151160" y="5962680"/>
              <a:ext cx="45482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4214880" y="6000840"/>
              <a:ext cx="4429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Чалавек </a:t>
              </a:r>
              <a:r>
                <a:rPr b="1" i="1" lang="be-BY" sz="12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быў высокага росту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Маечка </a:t>
              </a:r>
              <a:r>
                <a:rPr b="1" i="1" lang="be-BY" sz="12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была ра дзесятым небе 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ад радасці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(Ус. Краўчанк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1" name="Прямоугольник 19" descr=""/>
          <p:cNvPicPr/>
          <p:nvPr/>
        </p:nvPicPr>
        <p:blipFill>
          <a:blip r:embed="rId16"/>
          <a:stretch/>
        </p:blipFill>
        <p:spPr>
          <a:xfrm>
            <a:off x="1225440" y="3602160"/>
            <a:ext cx="2041560" cy="409320"/>
          </a:xfrm>
          <a:prstGeom prst="rect">
            <a:avLst/>
          </a:prstGeom>
          <a:ln w="0">
            <a:noFill/>
          </a:ln>
        </p:spPr>
      </p:pic>
      <p:pic>
        <p:nvPicPr>
          <p:cNvPr id="262" name="Прямоугольник 20" descr=""/>
          <p:cNvPicPr/>
          <p:nvPr/>
        </p:nvPicPr>
        <p:blipFill>
          <a:blip r:embed="rId17"/>
          <a:stretch/>
        </p:blipFill>
        <p:spPr>
          <a:xfrm>
            <a:off x="1725480" y="4248000"/>
            <a:ext cx="2041560" cy="40320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оугольник 21" descr=""/>
          <p:cNvPicPr/>
          <p:nvPr/>
        </p:nvPicPr>
        <p:blipFill>
          <a:blip r:embed="rId18"/>
          <a:stretch/>
        </p:blipFill>
        <p:spPr>
          <a:xfrm>
            <a:off x="1938240" y="4889520"/>
            <a:ext cx="2048040" cy="407880"/>
          </a:xfrm>
          <a:prstGeom prst="rect">
            <a:avLst/>
          </a:prstGeom>
          <a:ln w="0">
            <a:noFill/>
          </a:ln>
        </p:spPr>
      </p:pic>
      <p:pic>
        <p:nvPicPr>
          <p:cNvPr id="264" name="Прямоугольник 22" descr=""/>
          <p:cNvPicPr/>
          <p:nvPr/>
        </p:nvPicPr>
        <p:blipFill>
          <a:blip r:embed="rId19"/>
          <a:stretch/>
        </p:blipFill>
        <p:spPr>
          <a:xfrm>
            <a:off x="2152800" y="5602320"/>
            <a:ext cx="2047680" cy="8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4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8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2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0" descr="logo 21"/>
          <p:cNvPicPr/>
          <p:nvPr/>
        </p:nvPicPr>
        <p:blipFill>
          <a:blip r:embed="rId1"/>
          <a:stretch/>
        </p:blipFill>
        <p:spPr>
          <a:xfrm>
            <a:off x="6138720" y="6278400"/>
            <a:ext cx="3011760" cy="5860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267" name="TextBox 11"/>
          <p:cNvGrpSpPr/>
          <p:nvPr/>
        </p:nvGrpSpPr>
        <p:grpSpPr>
          <a:xfrm>
            <a:off x="2298600" y="1822320"/>
            <a:ext cx="5973840" cy="586080"/>
            <a:chOff x="2298600" y="1822320"/>
            <a:chExt cx="5973840" cy="586080"/>
          </a:xfrm>
        </p:grpSpPr>
        <p:pic>
          <p:nvPicPr>
            <p:cNvPr id="268" name="TextBox 11" descr=""/>
            <p:cNvPicPr/>
            <p:nvPr/>
          </p:nvPicPr>
          <p:blipFill>
            <a:blip r:embed="rId3"/>
            <a:stretch/>
          </p:blipFill>
          <p:spPr>
            <a:xfrm>
              <a:off x="2298600" y="1822320"/>
              <a:ext cx="5973840" cy="5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2381400" y="1881360"/>
              <a:ext cx="58100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калі дзейнік і выказнік выражаны назоўнікамі ці лічэбнікамі ў назоўным склоне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 u="sng">
                  <a:solidFill>
                    <a:srgbClr val="3333ff"/>
                  </a:solidFill>
                  <a:uFillTx/>
                  <a:latin typeface="Times New Roman"/>
                  <a:ea typeface="Times New Roman"/>
                </a:rPr>
                <a:t>Хлеб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 – </a:t>
              </a:r>
              <a:r>
                <a:rPr b="1" i="1" lang="be-BY" sz="1100" spc="-1" strike="noStrike" u="sng">
                  <a:solidFill>
                    <a:srgbClr val="3333ff"/>
                  </a:solidFill>
                  <a:uFillTx/>
                  <a:latin typeface="Times New Roman"/>
                  <a:ea typeface="Times New Roman"/>
                </a:rPr>
                <a:t>часціца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 нашага жыцця. (А. Чарнышэвіч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TextBox 12"/>
          <p:cNvGrpSpPr/>
          <p:nvPr/>
        </p:nvGrpSpPr>
        <p:grpSpPr>
          <a:xfrm>
            <a:off x="2225520" y="2749680"/>
            <a:ext cx="6046920" cy="774720"/>
            <a:chOff x="2225520" y="2749680"/>
            <a:chExt cx="6046920" cy="774720"/>
          </a:xfrm>
        </p:grpSpPr>
        <p:pic>
          <p:nvPicPr>
            <p:cNvPr id="271" name="TextBox 12" descr=""/>
            <p:cNvPicPr/>
            <p:nvPr/>
          </p:nvPicPr>
          <p:blipFill>
            <a:blip r:embed="rId4"/>
            <a:stretch/>
          </p:blipFill>
          <p:spPr>
            <a:xfrm>
              <a:off x="2225520" y="2749680"/>
              <a:ext cx="60469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2317680" y="2817720"/>
              <a:ext cx="58658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калі абодва галоўныя члены выражаны неазначальнай формай дзеяслова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На полі </a:t>
              </a:r>
              <a:r>
                <a:rPr b="1" i="1" lang="be-BY" sz="1100" spc="-1" strike="noStrike" u="sng">
                  <a:solidFill>
                    <a:srgbClr val="3333ff"/>
                  </a:solidFill>
                  <a:uFillTx/>
                  <a:latin typeface="Times New Roman"/>
                  <a:ea typeface="Times New Roman"/>
                </a:rPr>
                <a:t>працаваць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 – ураджай</a:t>
              </a:r>
              <a:r>
                <a:rPr b="1" i="1" lang="be-BY" sz="1100" spc="-1" strike="noStrike" u="sng">
                  <a:solidFill>
                    <a:srgbClr val="3333ff"/>
                  </a:solidFill>
                  <a:uFillTx/>
                  <a:latin typeface="Times New Roman"/>
                  <a:ea typeface="Times New Roman"/>
                </a:rPr>
                <a:t> збіраць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. (Прыказка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TextBox 13"/>
          <p:cNvGrpSpPr/>
          <p:nvPr/>
        </p:nvGrpSpPr>
        <p:grpSpPr>
          <a:xfrm>
            <a:off x="2225520" y="3676680"/>
            <a:ext cx="6046920" cy="998640"/>
            <a:chOff x="2225520" y="3676680"/>
            <a:chExt cx="6046920" cy="998640"/>
          </a:xfrm>
        </p:grpSpPr>
        <p:pic>
          <p:nvPicPr>
            <p:cNvPr id="274" name="TextBox 13" descr=""/>
            <p:cNvPicPr/>
            <p:nvPr/>
          </p:nvPicPr>
          <p:blipFill>
            <a:blip r:embed="rId5"/>
            <a:stretch/>
          </p:blipFill>
          <p:spPr>
            <a:xfrm>
              <a:off x="2225520" y="3676680"/>
              <a:ext cx="604692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2328840" y="3757680"/>
              <a:ext cx="5843520" cy="79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калі адзін галоўны член сказа выражаны неазначальнай формай дзеяслова, а другі – назоўнікам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 u="sng">
                  <a:solidFill>
                    <a:srgbClr val="3333ff"/>
                  </a:solidFill>
                  <a:uFillTx/>
                  <a:latin typeface="Times New Roman"/>
                  <a:ea typeface="Times New Roman"/>
                </a:rPr>
                <a:t>Купіць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 касу – о, гэта </a:t>
              </a:r>
              <a:r>
                <a:rPr b="1" i="1" lang="be-BY" sz="1100" spc="-1" strike="noStrike" u="sng">
                  <a:solidFill>
                    <a:srgbClr val="3333ff"/>
                  </a:solidFill>
                  <a:uFillTx/>
                  <a:latin typeface="Times New Roman"/>
                  <a:ea typeface="Times New Roman"/>
                </a:rPr>
                <a:t>штука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. (Я. Колас)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be-BY" sz="1100" spc="-1" strike="noStrike" u="sng">
                  <a:solidFill>
                    <a:srgbClr val="3333ff"/>
                  </a:solidFill>
                  <a:uFillTx/>
                  <a:latin typeface="Times New Roman"/>
                  <a:ea typeface="Times New Roman"/>
                </a:rPr>
                <a:t>Сцяна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 – </a:t>
              </a:r>
              <a:r>
                <a:rPr b="1" i="1" lang="be-BY" sz="1100" spc="-1" strike="noStrike" u="sng">
                  <a:solidFill>
                    <a:srgbClr val="3333ff"/>
                  </a:solidFill>
                  <a:uFillTx/>
                  <a:latin typeface="Times New Roman"/>
                  <a:ea typeface="Times New Roman"/>
                </a:rPr>
                <a:t>не ўзабрацца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. (В. Каваль</a:t>
              </a:r>
              <a:r>
                <a:rPr b="1" i="1" lang="be-BY" sz="13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TextBox 17"/>
          <p:cNvGrpSpPr/>
          <p:nvPr/>
        </p:nvGrpSpPr>
        <p:grpSpPr>
          <a:xfrm>
            <a:off x="2365200" y="1036800"/>
            <a:ext cx="5834160" cy="572760"/>
            <a:chOff x="2365200" y="1036800"/>
            <a:chExt cx="5834160" cy="572760"/>
          </a:xfrm>
        </p:grpSpPr>
        <p:pic>
          <p:nvPicPr>
            <p:cNvPr id="277" name="TextBox 17" descr=""/>
            <p:cNvPicPr/>
            <p:nvPr/>
          </p:nvPicPr>
          <p:blipFill>
            <a:blip r:embed="rId6"/>
            <a:stretch/>
          </p:blipFill>
          <p:spPr>
            <a:xfrm>
              <a:off x="2365200" y="1036800"/>
              <a:ext cx="5834160" cy="57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2428920" y="1071720"/>
              <a:ext cx="5715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ры адсутнасці дзеяслова-звязкі ў састаўным іменным выказніку паміж дзейнікам і выказнікам ставіцца працяжнік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AutoShape 9"/>
          <p:cNvSpPr/>
          <p:nvPr/>
        </p:nvSpPr>
        <p:spPr>
          <a:xfrm rot="317400">
            <a:off x="835200" y="1130040"/>
            <a:ext cx="1339560" cy="1139760"/>
          </a:xfrm>
          <a:custGeom>
            <a:avLst/>
            <a:gdLst>
              <a:gd name="textAreaLeft" fmla="*/ 179280 w 1339560"/>
              <a:gd name="textAreaRight" fmla="*/ 1160280 w 1339560"/>
              <a:gd name="textAreaTop" fmla="*/ 189000 h 1139760"/>
              <a:gd name="textAreaBottom" fmla="*/ 835200 h 1139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172" stAng="-5400000" swAng="-5400000"/>
                <a:lnTo>
                  <a:pt x="0" y="12241"/>
                </a:lnTo>
                <a:arcTo wR="21600" hR="7172" stAng="10800000" swAng="-2899854"/>
                <a:lnTo>
                  <a:pt x="15479" y="21306"/>
                </a:lnTo>
                <a:lnTo>
                  <a:pt x="21600" y="16878"/>
                </a:lnTo>
                <a:lnTo>
                  <a:pt x="15479" y="11861"/>
                </a:lnTo>
                <a:lnTo>
                  <a:pt x="15479" y="14049"/>
                </a:lnTo>
                <a:arcTo wR="21600" hR="7172" stAng="7900146" swAng="2470890"/>
                <a:lnTo>
                  <a:pt x="1394" y="9706"/>
                </a:lnTo>
                <a:arcTo wR="21600" hR="7172" stAng="-10371035" swAng="4971035"/>
                <a:close/>
              </a:path>
              <a:path fill="darkenLess" w="21600" h="21600">
                <a:moveTo>
                  <a:pt x="21600" y="0"/>
                </a:moveTo>
                <a:arcTo wR="21600" hR="7172" stAng="-5400000" swAng="-5400000"/>
                <a:lnTo>
                  <a:pt x="0" y="7172"/>
                </a:lnTo>
                <a:arcTo wR="21600" hR="7172" stAng="10800000" swAng="-428965"/>
                <a:lnTo>
                  <a:pt x="1394" y="9706"/>
                </a:lnTo>
                <a:arcTo wR="21600" hR="7172" stAng="-10371035" swAng="4971035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9"/>
          <p:cNvSpPr/>
          <p:nvPr/>
        </p:nvSpPr>
        <p:spPr>
          <a:xfrm rot="317400">
            <a:off x="982440" y="1193400"/>
            <a:ext cx="1198440" cy="2327400"/>
          </a:xfrm>
          <a:custGeom>
            <a:avLst/>
            <a:gdLst>
              <a:gd name="textAreaLeft" fmla="*/ 160560 w 1198440"/>
              <a:gd name="textAreaRight" fmla="*/ 1037880 w 1198440"/>
              <a:gd name="textAreaTop" fmla="*/ 487440 h 2327400"/>
              <a:gd name="textAreaBottom" fmla="*/ 1711800 h 232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47" stAng="-5400000" swAng="-5400000"/>
                <a:lnTo>
                  <a:pt x="0" y="11364"/>
                </a:lnTo>
                <a:arcTo wR="21600" hR="9047" stAng="10800000" swAng="-2894528"/>
                <a:lnTo>
                  <a:pt x="14035" y="21027"/>
                </a:lnTo>
                <a:lnTo>
                  <a:pt x="21600" y="19252"/>
                </a:lnTo>
                <a:lnTo>
                  <a:pt x="14035" y="16330"/>
                </a:lnTo>
                <a:lnTo>
                  <a:pt x="14035" y="17520"/>
                </a:lnTo>
                <a:arcTo wR="21600" hR="9047" stAng="7905472" swAng="2708797"/>
                <a:lnTo>
                  <a:pt x="178" y="10205"/>
                </a:lnTo>
                <a:arcTo wR="21600" hR="9047" stAng="-10614269" swAng="5214269"/>
                <a:close/>
              </a:path>
              <a:path fill="darkenLess" w="21600" h="21600">
                <a:moveTo>
                  <a:pt x="21600" y="0"/>
                </a:moveTo>
                <a:arcTo wR="21600" hR="9047" stAng="-5400000" swAng="-5400000"/>
                <a:lnTo>
                  <a:pt x="0" y="9047"/>
                </a:lnTo>
                <a:arcTo wR="21600" hR="9047" stAng="10800000" swAng="-185731"/>
                <a:lnTo>
                  <a:pt x="178" y="10205"/>
                </a:lnTo>
                <a:arcTo wR="21600" hR="9047" stAng="-10614269" swAng="5214269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9"/>
          <p:cNvSpPr/>
          <p:nvPr/>
        </p:nvSpPr>
        <p:spPr>
          <a:xfrm>
            <a:off x="1214280" y="1143000"/>
            <a:ext cx="1000440" cy="3500280"/>
          </a:xfrm>
          <a:custGeom>
            <a:avLst/>
            <a:gdLst>
              <a:gd name="textAreaLeft" fmla="*/ 133920 w 1000440"/>
              <a:gd name="textAreaRight" fmla="*/ 866520 w 1000440"/>
              <a:gd name="textAreaTop" fmla="*/ 762480 h 3500280"/>
              <a:gd name="textAreaBottom" fmla="*/ 2640600 h 35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12" stAng="-5400000" swAng="-5400000"/>
                <a:lnTo>
                  <a:pt x="0" y="11588"/>
                </a:lnTo>
                <a:arcTo wR="21600" hR="9412" stAng="10800000" swAng="-2996214"/>
                <a:lnTo>
                  <a:pt x="14168" y="21025"/>
                </a:lnTo>
                <a:lnTo>
                  <a:pt x="21600" y="19912"/>
                </a:lnTo>
                <a:lnTo>
                  <a:pt x="14168" y="17649"/>
                </a:lnTo>
                <a:lnTo>
                  <a:pt x="14168" y="18249"/>
                </a:lnTo>
                <a:arcTo wR="21600" hR="9412" stAng="7803786" swAng="2822034"/>
                <a:lnTo>
                  <a:pt x="145" y="10500"/>
                </a:lnTo>
                <a:arcTo wR="21600" hR="9412" stAng="-10625820" swAng="5225820"/>
                <a:close/>
              </a:path>
              <a:path fill="darkenLess" w="21600" h="21600">
                <a:moveTo>
                  <a:pt x="21600" y="0"/>
                </a:moveTo>
                <a:arcTo wR="21600" hR="9412" stAng="-5400000" swAng="-5400000"/>
                <a:lnTo>
                  <a:pt x="0" y="9412"/>
                </a:lnTo>
                <a:arcTo wR="21600" hR="9412" stAng="10800000" swAng="-174180"/>
                <a:lnTo>
                  <a:pt x="145" y="10500"/>
                </a:lnTo>
                <a:arcTo wR="21600" hR="9412" stAng="-10625820" swAng="5225820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Прямоугольник 14" descr=""/>
          <p:cNvPicPr/>
          <p:nvPr/>
        </p:nvPicPr>
        <p:blipFill>
          <a:blip r:embed="rId7"/>
          <a:stretch/>
        </p:blipFill>
        <p:spPr>
          <a:xfrm>
            <a:off x="2298600" y="450720"/>
            <a:ext cx="6040440" cy="433440"/>
          </a:xfrm>
          <a:prstGeom prst="rect">
            <a:avLst/>
          </a:prstGeom>
          <a:ln w="0">
            <a:noFill/>
          </a:ln>
        </p:spPr>
      </p:pic>
      <p:grpSp>
        <p:nvGrpSpPr>
          <p:cNvPr id="283" name="TextBox 15"/>
          <p:cNvGrpSpPr/>
          <p:nvPr/>
        </p:nvGrpSpPr>
        <p:grpSpPr>
          <a:xfrm>
            <a:off x="2152800" y="4896000"/>
            <a:ext cx="6119640" cy="1180800"/>
            <a:chOff x="2152800" y="4896000"/>
            <a:chExt cx="6119640" cy="1180800"/>
          </a:xfrm>
        </p:grpSpPr>
        <p:pic>
          <p:nvPicPr>
            <p:cNvPr id="284" name="TextBox 15" descr=""/>
            <p:cNvPicPr/>
            <p:nvPr/>
          </p:nvPicPr>
          <p:blipFill>
            <a:blip r:embed="rId8"/>
            <a:stretch/>
          </p:blipFill>
          <p:spPr>
            <a:xfrm>
              <a:off x="2152800" y="4896000"/>
              <a:ext cx="6119640" cy="11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2266920" y="4981680"/>
              <a:ext cx="5896080" cy="9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Калі выказнік далучаецца да дзейніка пры дапамозе слоў 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гэта, гэта значыць, значыць, вось, вось што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, то працяжнік ставіцца перад гэтымі словамі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 u="sng">
                  <a:solidFill>
                    <a:srgbClr val="3333ff"/>
                  </a:solidFill>
                  <a:uFillTx/>
                  <a:latin typeface="Times New Roman"/>
                  <a:ea typeface="Times New Roman"/>
                </a:rPr>
                <a:t>Хатынь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 – гэта балючая </a:t>
              </a:r>
              <a:r>
                <a:rPr b="1" i="1" lang="be-BY" sz="1100" spc="-1" strike="noStrike" u="sng">
                  <a:solidFill>
                    <a:srgbClr val="3333ff"/>
                  </a:solidFill>
                  <a:uFillTx/>
                  <a:latin typeface="Times New Roman"/>
                  <a:ea typeface="Times New Roman"/>
                </a:rPr>
                <a:t>памяць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 аб усіх беларускіх вёсках, спаленых разам з людзьмі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(М. Амельчанка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 u="sng">
                  <a:solidFill>
                    <a:srgbClr val="3333ff"/>
                  </a:solidFill>
                  <a:uFillTx/>
                  <a:latin typeface="Times New Roman"/>
                  <a:ea typeface="Times New Roman"/>
                </a:rPr>
                <a:t>Тварыць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 – гэта значыць</a:t>
              </a:r>
              <a:r>
                <a:rPr b="1" i="1" lang="be-BY" sz="1100" spc="-1" strike="noStrike" u="sng">
                  <a:solidFill>
                    <a:srgbClr val="3333ff"/>
                  </a:solidFill>
                  <a:uFillTx/>
                  <a:latin typeface="Times New Roman"/>
                  <a:ea typeface="Times New Roman"/>
                </a:rPr>
                <a:t> любіць 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Радзіму. (М. Лынькоў</a:t>
              </a:r>
              <a:r>
                <a:rPr b="1" i="1" lang="be-BY" sz="13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AutoShape 9"/>
          <p:cNvSpPr/>
          <p:nvPr/>
        </p:nvSpPr>
        <p:spPr>
          <a:xfrm>
            <a:off x="1366920" y="1295280"/>
            <a:ext cx="847800" cy="4562640"/>
          </a:xfrm>
          <a:custGeom>
            <a:avLst/>
            <a:gdLst>
              <a:gd name="textAreaLeft" fmla="*/ 113400 w 847800"/>
              <a:gd name="textAreaRight" fmla="*/ 734400 w 847800"/>
              <a:gd name="textAreaTop" fmla="*/ 1045080 h 4562640"/>
              <a:gd name="textAreaBottom" fmla="*/ 3435120 h 4562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897" stAng="-5400000" swAng="-5400000"/>
                <a:lnTo>
                  <a:pt x="0" y="11313"/>
                </a:lnTo>
                <a:arcTo wR="21600" hR="9897" stAng="10800000" swAng="-3080901"/>
                <a:lnTo>
                  <a:pt x="14168" y="20996"/>
                </a:lnTo>
                <a:lnTo>
                  <a:pt x="21600" y="20502"/>
                </a:lnTo>
                <a:lnTo>
                  <a:pt x="14168" y="18800"/>
                </a:lnTo>
                <a:lnTo>
                  <a:pt x="14168" y="19190"/>
                </a:lnTo>
                <a:arcTo wR="21600" hR="9897" stAng="7719099" swAng="2967971"/>
                <a:lnTo>
                  <a:pt x="55" y="10605"/>
                </a:lnTo>
                <a:arcTo wR="21600" hR="9897" stAng="-10687070" swAng="5287070"/>
                <a:close/>
              </a:path>
              <a:path fill="darkenLess" w="21600" h="21600">
                <a:moveTo>
                  <a:pt x="21600" y="0"/>
                </a:moveTo>
                <a:arcTo wR="21600" hR="9897" stAng="-5400000" swAng="-5400000"/>
                <a:lnTo>
                  <a:pt x="0" y="9897"/>
                </a:lnTo>
                <a:arcTo wR="21600" hR="9897" stAng="10800000" swAng="-112930"/>
                <a:lnTo>
                  <a:pt x="55" y="10605"/>
                </a:lnTo>
                <a:arcTo wR="21600" hR="9897" stAng="-10687070" swAng="5287070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3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5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3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5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3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95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3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0" descr="logo 21"/>
          <p:cNvPicPr/>
          <p:nvPr/>
        </p:nvPicPr>
        <p:blipFill>
          <a:blip r:embed="rId1"/>
          <a:stretch/>
        </p:blipFill>
        <p:spPr>
          <a:xfrm>
            <a:off x="6138720" y="6278400"/>
            <a:ext cx="3011760" cy="586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289" name="TextBox 11"/>
          <p:cNvGrpSpPr/>
          <p:nvPr/>
        </p:nvGrpSpPr>
        <p:grpSpPr>
          <a:xfrm>
            <a:off x="2225520" y="2749680"/>
            <a:ext cx="5973840" cy="622080"/>
            <a:chOff x="2225520" y="2749680"/>
            <a:chExt cx="5973840" cy="622080"/>
          </a:xfrm>
        </p:grpSpPr>
        <p:pic>
          <p:nvPicPr>
            <p:cNvPr id="290" name="TextBox 11" descr=""/>
            <p:cNvPicPr/>
            <p:nvPr/>
          </p:nvPicPr>
          <p:blipFill>
            <a:blip r:embed="rId3"/>
            <a:stretch/>
          </p:blipFill>
          <p:spPr>
            <a:xfrm>
              <a:off x="2225520" y="2749680"/>
              <a:ext cx="597384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2311560" y="2811600"/>
              <a:ext cx="5806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калі дзейнік выражаны асабовым займеннікам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Ён цяпер вялікі чалавек. (Б. Сачанк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TextBox 12"/>
          <p:cNvGrpSpPr/>
          <p:nvPr/>
        </p:nvGrpSpPr>
        <p:grpSpPr>
          <a:xfrm>
            <a:off x="2152800" y="3749760"/>
            <a:ext cx="6046560" cy="822240"/>
            <a:chOff x="2152800" y="3749760"/>
            <a:chExt cx="6046560" cy="822240"/>
          </a:xfrm>
        </p:grpSpPr>
        <p:pic>
          <p:nvPicPr>
            <p:cNvPr id="293" name="TextBox 12" descr=""/>
            <p:cNvPicPr/>
            <p:nvPr/>
          </p:nvPicPr>
          <p:blipFill>
            <a:blip r:embed="rId4"/>
            <a:stretch/>
          </p:blipFill>
          <p:spPr>
            <a:xfrm>
              <a:off x="2152800" y="3749760"/>
              <a:ext cx="604656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2249640" y="3821040"/>
              <a:ext cx="5859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калі выказнік далучаецца параўнальнымі злучнікамі </a:t>
              </a: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як</a:t>
              </a:r>
              <a:r>
                <a:rPr b="1" i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быццам</a:t>
              </a:r>
              <a:r>
                <a:rPr b="1" i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</a:t>
              </a: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і інш.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Пшаніца як мора. (П. Панчанка)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Месяц быццам вартаўнік.(Я. Купал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TextBox 13"/>
          <p:cNvGrpSpPr/>
          <p:nvPr/>
        </p:nvGrpSpPr>
        <p:grpSpPr>
          <a:xfrm>
            <a:off x="2225520" y="5108400"/>
            <a:ext cx="6046920" cy="622440"/>
            <a:chOff x="2225520" y="5108400"/>
            <a:chExt cx="6046920" cy="622440"/>
          </a:xfrm>
        </p:grpSpPr>
        <p:pic>
          <p:nvPicPr>
            <p:cNvPr id="296" name="TextBox 13" descr=""/>
            <p:cNvPicPr/>
            <p:nvPr/>
          </p:nvPicPr>
          <p:blipFill>
            <a:blip r:embed="rId5"/>
            <a:stretch/>
          </p:blipFill>
          <p:spPr>
            <a:xfrm>
              <a:off x="2225520" y="5108400"/>
              <a:ext cx="604692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2311560" y="5168880"/>
              <a:ext cx="5878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калі пры выказніку ёсць адмоўная часціца </a:t>
              </a: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не</a:t>
              </a: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Сэрца не камень. (Прыказк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TextBox 17"/>
          <p:cNvGrpSpPr/>
          <p:nvPr/>
        </p:nvGrpSpPr>
        <p:grpSpPr>
          <a:xfrm>
            <a:off x="2298600" y="1676520"/>
            <a:ext cx="5686560" cy="573120"/>
            <a:chOff x="2298600" y="1676520"/>
            <a:chExt cx="5686560" cy="573120"/>
          </a:xfrm>
        </p:grpSpPr>
        <p:pic>
          <p:nvPicPr>
            <p:cNvPr id="299" name="TextBox 17" descr=""/>
            <p:cNvPicPr/>
            <p:nvPr/>
          </p:nvPicPr>
          <p:blipFill>
            <a:blip r:embed="rId6"/>
            <a:stretch/>
          </p:blipFill>
          <p:spPr>
            <a:xfrm>
              <a:off x="2298600" y="1676520"/>
              <a:ext cx="568656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2357280" y="1714680"/>
              <a:ext cx="5572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ры адсутнасці дзеяслова-звязкі ў састаўным іменным выказніку паміж дзейнікам і выказнікам  працяжнік не ставіцца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AutoShape 9"/>
          <p:cNvSpPr/>
          <p:nvPr/>
        </p:nvSpPr>
        <p:spPr>
          <a:xfrm rot="317400">
            <a:off x="742680" y="1776240"/>
            <a:ext cx="1404720" cy="1590840"/>
          </a:xfrm>
          <a:custGeom>
            <a:avLst/>
            <a:gdLst>
              <a:gd name="textAreaLeft" fmla="*/ 187920 w 1404720"/>
              <a:gd name="textAreaRight" fmla="*/ 1216800 w 1404720"/>
              <a:gd name="textAreaTop" fmla="*/ 279720 h 1590840"/>
              <a:gd name="textAreaBottom" fmla="*/ 1168920 h 159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98" stAng="-5400000" swAng="-5400000"/>
                <a:lnTo>
                  <a:pt x="0" y="12071"/>
                </a:lnTo>
                <a:arcTo wR="21600" hR="7598" stAng="10800000" swAng="-2691142"/>
                <a:lnTo>
                  <a:pt x="14400" y="21165"/>
                </a:lnTo>
                <a:lnTo>
                  <a:pt x="21600" y="17432"/>
                </a:lnTo>
                <a:lnTo>
                  <a:pt x="14400" y="12828"/>
                </a:lnTo>
                <a:lnTo>
                  <a:pt x="14400" y="14760"/>
                </a:lnTo>
                <a:arcTo wR="21600" hR="7598" stAng="8108858" swAng="2320136"/>
                <a:lnTo>
                  <a:pt x="957" y="9834"/>
                </a:lnTo>
                <a:arcTo wR="21600" hR="7598" stAng="-10428994" swAng="5028994"/>
                <a:close/>
              </a:path>
              <a:path fill="darkenLess" w="21600" h="21600">
                <a:moveTo>
                  <a:pt x="21600" y="0"/>
                </a:moveTo>
                <a:arcTo wR="21600" hR="7598" stAng="-5400000" swAng="-5400000"/>
                <a:lnTo>
                  <a:pt x="0" y="7598"/>
                </a:lnTo>
                <a:arcTo wR="21600" hR="7598" stAng="10800000" swAng="-371006"/>
                <a:lnTo>
                  <a:pt x="957" y="9834"/>
                </a:lnTo>
                <a:arcTo wR="21600" hR="7598" stAng="-10428994" swAng="5028994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9"/>
          <p:cNvSpPr/>
          <p:nvPr/>
        </p:nvSpPr>
        <p:spPr>
          <a:xfrm rot="317400">
            <a:off x="900000" y="1835280"/>
            <a:ext cx="1189080" cy="2544480"/>
          </a:xfrm>
          <a:custGeom>
            <a:avLst/>
            <a:gdLst>
              <a:gd name="textAreaLeft" fmla="*/ 159120 w 1189080"/>
              <a:gd name="textAreaRight" fmla="*/ 1029960 w 1189080"/>
              <a:gd name="textAreaTop" fmla="*/ 542520 h 2544480"/>
              <a:gd name="textAreaBottom" fmla="*/ 1874880 h 254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11" stAng="-5400000" swAng="-5400000"/>
                <a:lnTo>
                  <a:pt x="0" y="11311"/>
                </a:lnTo>
                <a:arcTo wR="21600" hR="9211" stAng="10800000" swAng="-2925272"/>
                <a:lnTo>
                  <a:pt x="14035" y="21017"/>
                </a:lnTo>
                <a:lnTo>
                  <a:pt x="21600" y="19472"/>
                </a:lnTo>
                <a:lnTo>
                  <a:pt x="14035" y="16761"/>
                </a:lnTo>
                <a:lnTo>
                  <a:pt x="14035" y="17839"/>
                </a:lnTo>
                <a:arcTo wR="21600" hR="9211" stAng="7874728" swAng="2757197"/>
                <a:lnTo>
                  <a:pt x="141" y="10261"/>
                </a:lnTo>
                <a:arcTo wR="21600" hR="9211" stAng="-10631925" swAng="5231925"/>
                <a:close/>
              </a:path>
              <a:path fill="darkenLess" w="21600" h="21600">
                <a:moveTo>
                  <a:pt x="21600" y="0"/>
                </a:moveTo>
                <a:arcTo wR="21600" hR="9211" stAng="-5400000" swAng="-5400000"/>
                <a:lnTo>
                  <a:pt x="0" y="9211"/>
                </a:lnTo>
                <a:arcTo wR="21600" hR="9211" stAng="10800000" swAng="-168075"/>
                <a:lnTo>
                  <a:pt x="141" y="10261"/>
                </a:lnTo>
                <a:arcTo wR="21600" hR="9211" stAng="-10631925" swAng="5231925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9"/>
          <p:cNvSpPr/>
          <p:nvPr/>
        </p:nvSpPr>
        <p:spPr>
          <a:xfrm>
            <a:off x="1143000" y="1785960"/>
            <a:ext cx="1000080" cy="3929040"/>
          </a:xfrm>
          <a:custGeom>
            <a:avLst/>
            <a:gdLst>
              <a:gd name="textAreaLeft" fmla="*/ 133920 w 1000080"/>
              <a:gd name="textAreaRight" fmla="*/ 866160 w 1000080"/>
              <a:gd name="textAreaTop" fmla="*/ 869760 h 3929040"/>
              <a:gd name="textAreaBottom" fmla="*/ 2962080 h 392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564" stAng="-5400000" swAng="-5400000"/>
                <a:lnTo>
                  <a:pt x="0" y="11502"/>
                </a:lnTo>
                <a:arcTo wR="21600" hR="9564" stAng="10800000" swAng="-3023216"/>
                <a:lnTo>
                  <a:pt x="14168" y="21016"/>
                </a:lnTo>
                <a:lnTo>
                  <a:pt x="21600" y="20096"/>
                </a:lnTo>
                <a:lnTo>
                  <a:pt x="14168" y="18008"/>
                </a:lnTo>
                <a:lnTo>
                  <a:pt x="14168" y="18543"/>
                </a:lnTo>
                <a:arcTo wR="21600" hR="9564" stAng="7776784" swAng="2868302"/>
                <a:lnTo>
                  <a:pt x="111" y="10532"/>
                </a:lnTo>
                <a:arcTo wR="21600" hR="9564" stAng="-10645086" swAng="5245086"/>
                <a:close/>
              </a:path>
              <a:path fill="darkenLess" w="21600" h="21600">
                <a:moveTo>
                  <a:pt x="21600" y="0"/>
                </a:moveTo>
                <a:arcTo wR="21600" hR="9564" stAng="-5400000" swAng="-5400000"/>
                <a:lnTo>
                  <a:pt x="0" y="9564"/>
                </a:lnTo>
                <a:arcTo wR="21600" hR="9564" stAng="10800000" swAng="-154914"/>
                <a:lnTo>
                  <a:pt x="111" y="10532"/>
                </a:lnTo>
                <a:arcTo wR="21600" hR="9564" stAng="-10645086" swAng="5245086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Прямоугольник 14" descr=""/>
          <p:cNvPicPr/>
          <p:nvPr/>
        </p:nvPicPr>
        <p:blipFill>
          <a:blip r:embed="rId7"/>
          <a:stretch/>
        </p:blipFill>
        <p:spPr>
          <a:xfrm>
            <a:off x="2084400" y="738360"/>
            <a:ext cx="604188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3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5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3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3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5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3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3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9500"/>
                            </p:stCondLst>
                            <p:childTnLst>
                              <p:par>
                                <p:cTn id="3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3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3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307" name="Прямоугольник 4" descr=""/>
          <p:cNvPicPr/>
          <p:nvPr/>
        </p:nvPicPr>
        <p:blipFill>
          <a:blip r:embed="rId3"/>
          <a:stretch/>
        </p:blipFill>
        <p:spPr>
          <a:xfrm>
            <a:off x="2084400" y="738360"/>
            <a:ext cx="6041880" cy="431640"/>
          </a:xfrm>
          <a:prstGeom prst="rect">
            <a:avLst/>
          </a:prstGeom>
          <a:ln w="0">
            <a:noFill/>
          </a:ln>
        </p:spPr>
      </p:pic>
      <p:pic>
        <p:nvPicPr>
          <p:cNvPr id="308" name="Прямоугольник 5" descr=""/>
          <p:cNvPicPr/>
          <p:nvPr/>
        </p:nvPicPr>
        <p:blipFill>
          <a:blip r:embed="rId4"/>
          <a:stretch/>
        </p:blipFill>
        <p:spPr>
          <a:xfrm>
            <a:off x="3297240" y="1359000"/>
            <a:ext cx="2543040" cy="519120"/>
          </a:xfrm>
          <a:prstGeom prst="rect">
            <a:avLst/>
          </a:prstGeom>
          <a:ln w="0">
            <a:noFill/>
          </a:ln>
        </p:spPr>
      </p:pic>
      <p:grpSp>
        <p:nvGrpSpPr>
          <p:cNvPr id="309" name="Группа 12"/>
          <p:cNvGrpSpPr/>
          <p:nvPr/>
        </p:nvGrpSpPr>
        <p:grpSpPr>
          <a:xfrm>
            <a:off x="1071720" y="2214720"/>
            <a:ext cx="5857560" cy="2009520"/>
            <a:chOff x="1071720" y="2214720"/>
            <a:chExt cx="5857560" cy="2009520"/>
          </a:xfrm>
        </p:grpSpPr>
        <p:grpSp>
          <p:nvGrpSpPr>
            <p:cNvPr id="310" name="TextBox 6"/>
            <p:cNvGrpSpPr/>
            <p:nvPr/>
          </p:nvGrpSpPr>
          <p:grpSpPr>
            <a:xfrm>
              <a:off x="1071720" y="2214720"/>
              <a:ext cx="5857560" cy="2009520"/>
              <a:chOff x="1071720" y="2214720"/>
              <a:chExt cx="5857560" cy="2009520"/>
            </a:xfrm>
          </p:grpSpPr>
          <p:pic>
            <p:nvPicPr>
              <p:cNvPr id="311" name="TextBox 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1720" y="2214720"/>
                <a:ext cx="5857560" cy="200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"/>
              <p:cNvSpPr/>
              <p:nvPr/>
            </p:nvSpPr>
            <p:spPr>
              <a:xfrm>
                <a:off x="1226160" y="2343600"/>
                <a:ext cx="5551560" cy="179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buClr>
                    <a:srgbClr val="00007d"/>
                  </a:buClr>
                  <a:buFont typeface="Times New Roman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be-BY" sz="1400" spc="-1" strike="noStrike">
                    <a:solidFill>
                      <a:srgbClr val="00007d"/>
                    </a:solidFill>
                    <a:latin typeface="Times New Roman"/>
                    <a:ea typeface="Times New Roman"/>
                  </a:rPr>
                  <a:t>Калі на дзейнік падае лагічны націск, працяжнік паміж дзейнікам і выказнікам можа ставіцца: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be-BY" sz="1400" spc="-1" strike="noStrike">
                    <a:solidFill>
                      <a:srgbClr val="c00000"/>
                    </a:solidFill>
                    <a:latin typeface="Times New Roman"/>
                    <a:ea typeface="Times New Roman"/>
                  </a:rPr>
                  <a:t>Мы</a:t>
                </a:r>
                <a:r>
                  <a:rPr b="1" i="1" lang="be-BY" sz="14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 – жыцця гаспадары. (Я. Купала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be-BY" sz="14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Дубовы </a:t>
                </a:r>
                <a:r>
                  <a:rPr b="1" i="1" lang="be-BY" sz="1400" spc="-1" strike="noStrike">
                    <a:solidFill>
                      <a:srgbClr val="c00000"/>
                    </a:solidFill>
                    <a:latin typeface="Times New Roman"/>
                    <a:ea typeface="Times New Roman"/>
                  </a:rPr>
                  <a:t>куст </a:t>
                </a:r>
                <a:r>
                  <a:rPr b="1" i="1" lang="be-BY" sz="14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– не куст, а патаемны прывід (М. Лынькоў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be-BY" sz="14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Маё </a:t>
                </a:r>
                <a:r>
                  <a:rPr b="1" i="1" lang="be-BY" sz="1400" spc="-1" strike="noStrike">
                    <a:solidFill>
                      <a:srgbClr val="c00000"/>
                    </a:solidFill>
                    <a:latin typeface="Times New Roman"/>
                    <a:ea typeface="Times New Roman"/>
                  </a:rPr>
                  <a:t>жыццё</a:t>
                </a:r>
                <a:r>
                  <a:rPr b="1" i="1" lang="be-BY" sz="1400" spc="-1" strike="noStrike">
                    <a:solidFill>
                      <a:srgbClr val="3333ff"/>
                    </a:solidFill>
                    <a:latin typeface="Times New Roman"/>
                    <a:ea typeface="Times New Roman"/>
                  </a:rPr>
                  <a:t> – як сумны дэтэктыў. (Л. Галубовіч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13" name="Прямая со стрелкой 9"/>
            <p:cNvCxnSpPr/>
            <p:nvPr/>
          </p:nvCxnSpPr>
          <p:spPr>
            <a:xfrm flipV="1">
              <a:off x="2739600" y="2793240"/>
              <a:ext cx="3600" cy="203760"/>
            </a:xfrm>
            <a:prstGeom prst="straightConnector1">
              <a:avLst/>
            </a:prstGeom>
            <a:ln w="28440">
              <a:solidFill>
                <a:srgbClr val="00007d"/>
              </a:solidFill>
              <a:miter/>
              <a:tailEnd len="med" type="triangle" w="med"/>
            </a:ln>
          </p:spPr>
        </p:cxnSp>
        <p:cxnSp>
          <p:nvCxnSpPr>
            <p:cNvPr id="314" name="Прямая со стрелкой 10"/>
            <p:cNvCxnSpPr/>
            <p:nvPr/>
          </p:nvCxnSpPr>
          <p:spPr>
            <a:xfrm flipV="1">
              <a:off x="2601000" y="3199320"/>
              <a:ext cx="2160" cy="201960"/>
            </a:xfrm>
            <a:prstGeom prst="straightConnector1">
              <a:avLst/>
            </a:prstGeom>
            <a:ln w="28440">
              <a:solidFill>
                <a:srgbClr val="00007d"/>
              </a:solidFill>
              <a:miter/>
              <a:tailEnd len="med" type="triangle" w="med"/>
            </a:ln>
          </p:spPr>
        </p:cxnSp>
        <p:cxnSp>
          <p:nvCxnSpPr>
            <p:cNvPr id="315" name="Прямая со стрелкой 13"/>
            <p:cNvCxnSpPr/>
            <p:nvPr/>
          </p:nvCxnSpPr>
          <p:spPr>
            <a:xfrm flipV="1">
              <a:off x="2741040" y="3603960"/>
              <a:ext cx="2160" cy="203760"/>
            </a:xfrm>
            <a:prstGeom prst="straightConnector1">
              <a:avLst/>
            </a:prstGeom>
            <a:ln w="28440">
              <a:solidFill>
                <a:srgbClr val="00007d"/>
              </a:solidFill>
              <a:miter/>
              <a:tailEnd len="med" type="triangle" w="med"/>
            </a:ln>
          </p:spPr>
        </p:cxnSp>
      </p:grpSp>
      <p:grpSp>
        <p:nvGrpSpPr>
          <p:cNvPr id="316" name="Группа 17"/>
          <p:cNvGrpSpPr/>
          <p:nvPr/>
        </p:nvGrpSpPr>
        <p:grpSpPr>
          <a:xfrm>
            <a:off x="2428920" y="4786200"/>
            <a:ext cx="5857920" cy="1055880"/>
            <a:chOff x="2428920" y="4786200"/>
            <a:chExt cx="5857920" cy="1055880"/>
          </a:xfrm>
        </p:grpSpPr>
        <p:grpSp>
          <p:nvGrpSpPr>
            <p:cNvPr id="317" name="Группа 16"/>
            <p:cNvGrpSpPr/>
            <p:nvPr/>
          </p:nvGrpSpPr>
          <p:grpSpPr>
            <a:xfrm>
              <a:off x="2428920" y="4786200"/>
              <a:ext cx="5857920" cy="1055880"/>
              <a:chOff x="2428920" y="4786200"/>
              <a:chExt cx="5857920" cy="1055880"/>
            </a:xfrm>
          </p:grpSpPr>
          <p:grpSp>
            <p:nvGrpSpPr>
              <p:cNvPr id="318" name="TextBox 7"/>
              <p:cNvGrpSpPr/>
              <p:nvPr/>
            </p:nvGrpSpPr>
            <p:grpSpPr>
              <a:xfrm>
                <a:off x="2428920" y="4786200"/>
                <a:ext cx="5857920" cy="1055880"/>
                <a:chOff x="2428920" y="4786200"/>
                <a:chExt cx="5857920" cy="1055880"/>
              </a:xfrm>
            </p:grpSpPr>
            <p:pic>
              <p:nvPicPr>
                <p:cNvPr id="319" name="TextBox 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428920" y="4786200"/>
                  <a:ext cx="5857920" cy="105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0" name=""/>
                <p:cNvSpPr/>
                <p:nvPr/>
              </p:nvSpPr>
              <p:spPr>
                <a:xfrm>
                  <a:off x="2541600" y="4866840"/>
                  <a:ext cx="564300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43080" indent="-34308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be-BY" sz="1400" spc="-1" strike="noStrike">
                      <a:solidFill>
                        <a:srgbClr val="00007d"/>
                      </a:solidFill>
                      <a:latin typeface="Times New Roman"/>
                      <a:ea typeface="Times New Roman"/>
                    </a:rPr>
                    <a:t>2.  Працяжнік можа ставіцца і тады, калі выказнік выдзяляецца лагічна і перад ім ёсць паўза.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be-BY" sz="14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Віктар –</a:t>
                  </a:r>
                  <a:r>
                    <a:rPr b="1" i="1" lang="be-BY" sz="1400" spc="-1" strike="noStrike">
                      <a:solidFill>
                        <a:srgbClr val="c00000"/>
                      </a:solidFill>
                      <a:latin typeface="Times New Roman"/>
                      <a:ea typeface="Times New Roman"/>
                    </a:rPr>
                    <a:t> жывы,</a:t>
                  </a:r>
                  <a:r>
                    <a:rPr b="1" i="1" lang="be-BY" sz="14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i="1" lang="be-BY" sz="1400" spc="-1" strike="noStrike">
                      <a:solidFill>
                        <a:srgbClr val="c00000"/>
                      </a:solidFill>
                      <a:latin typeface="Times New Roman"/>
                      <a:ea typeface="Times New Roman"/>
                    </a:rPr>
                    <a:t>імклівы</a:t>
                  </a:r>
                  <a:r>
                    <a:rPr b="1" i="1" lang="be-BY" sz="1400" spc="-1" strike="noStrike">
                      <a:solidFill>
                        <a:srgbClr val="3333ff"/>
                      </a:solidFill>
                      <a:latin typeface="Times New Roman"/>
                      <a:ea typeface="Times New Roman"/>
                    </a:rPr>
                    <a:t>. (Я. Маўр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321" name="Прямая со стрелкой 14"/>
              <p:cNvCxnSpPr/>
              <p:nvPr/>
            </p:nvCxnSpPr>
            <p:spPr>
              <a:xfrm flipV="1">
                <a:off x="5013000" y="5338080"/>
                <a:ext cx="2160" cy="195120"/>
              </a:xfrm>
              <a:prstGeom prst="straightConnector1">
                <a:avLst/>
              </a:prstGeom>
              <a:ln w="28440">
                <a:solidFill>
                  <a:srgbClr val="00007d"/>
                </a:solidFill>
                <a:miter/>
                <a:tailEnd len="med" type="triangle" w="med"/>
              </a:ln>
            </p:spPr>
          </p:cxnSp>
        </p:grpSp>
        <p:cxnSp>
          <p:nvCxnSpPr>
            <p:cNvPr id="322" name="Прямая со стрелкой 15"/>
            <p:cNvCxnSpPr/>
            <p:nvPr/>
          </p:nvCxnSpPr>
          <p:spPr>
            <a:xfrm flipV="1">
              <a:off x="5643720" y="5357160"/>
              <a:ext cx="2160" cy="214920"/>
            </a:xfrm>
            <a:prstGeom prst="straightConnector1">
              <a:avLst/>
            </a:prstGeom>
            <a:ln w="28440">
              <a:solidFill>
                <a:srgbClr val="00007d"/>
              </a:solidFill>
              <a:miter/>
              <a:tailEnd len="med" type="triangle" w="med"/>
            </a:ln>
          </p:spPr>
        </p:cxnSp>
      </p:grp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3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45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325" name="Прямоугольник 4" descr=""/>
          <p:cNvPicPr/>
          <p:nvPr/>
        </p:nvPicPr>
        <p:blipFill>
          <a:blip r:embed="rId3"/>
          <a:stretch/>
        </p:blipFill>
        <p:spPr>
          <a:xfrm>
            <a:off x="3035160" y="426960"/>
            <a:ext cx="3127680" cy="560520"/>
          </a:xfrm>
          <a:prstGeom prst="rect">
            <a:avLst/>
          </a:prstGeom>
          <a:ln w="0">
            <a:noFill/>
          </a:ln>
        </p:spPr>
      </p:pic>
      <p:pic>
        <p:nvPicPr>
          <p:cNvPr id="326" name="Прямоугольник 5" descr=""/>
          <p:cNvPicPr/>
          <p:nvPr/>
        </p:nvPicPr>
        <p:blipFill>
          <a:blip r:embed="rId4"/>
          <a:stretch/>
        </p:blipFill>
        <p:spPr>
          <a:xfrm>
            <a:off x="512640" y="1279440"/>
            <a:ext cx="2327400" cy="561960"/>
          </a:xfrm>
          <a:prstGeom prst="rect">
            <a:avLst/>
          </a:prstGeom>
          <a:ln w="0">
            <a:noFill/>
          </a:ln>
        </p:spPr>
      </p:pic>
      <p:pic>
        <p:nvPicPr>
          <p:cNvPr id="327" name="Прямоугольник 6" descr=""/>
          <p:cNvPicPr/>
          <p:nvPr/>
        </p:nvPicPr>
        <p:blipFill>
          <a:blip r:embed="rId5"/>
          <a:stretch/>
        </p:blipFill>
        <p:spPr>
          <a:xfrm>
            <a:off x="3151080" y="1279440"/>
            <a:ext cx="2335320" cy="561960"/>
          </a:xfrm>
          <a:prstGeom prst="rect">
            <a:avLst/>
          </a:prstGeom>
          <a:ln w="0">
            <a:noFill/>
          </a:ln>
        </p:spPr>
      </p:pic>
      <p:pic>
        <p:nvPicPr>
          <p:cNvPr id="328" name="Прямоугольник 7" descr=""/>
          <p:cNvPicPr/>
          <p:nvPr/>
        </p:nvPicPr>
        <p:blipFill>
          <a:blip r:embed="rId6"/>
          <a:stretch/>
        </p:blipFill>
        <p:spPr>
          <a:xfrm>
            <a:off x="5937120" y="1212840"/>
            <a:ext cx="2335320" cy="560520"/>
          </a:xfrm>
          <a:prstGeom prst="rect">
            <a:avLst/>
          </a:prstGeom>
          <a:ln w="0">
            <a:noFill/>
          </a:ln>
        </p:spPr>
      </p:pic>
      <p:cxnSp>
        <p:nvCxnSpPr>
          <p:cNvPr id="329" name="Прямая со стрелкой 9"/>
          <p:cNvCxnSpPr/>
          <p:nvPr/>
        </p:nvCxnSpPr>
        <p:spPr>
          <a:xfrm flipH="1">
            <a:off x="4498200" y="928800"/>
            <a:ext cx="2520" cy="429120"/>
          </a:xfrm>
          <a:prstGeom prst="straightConnector1">
            <a:avLst/>
          </a:prstGeom>
          <a:ln w="28440">
            <a:solidFill>
              <a:srgbClr val="9393fc"/>
            </a:solidFill>
            <a:miter/>
            <a:tailEnd len="med" type="triangle" w="med"/>
          </a:ln>
        </p:spPr>
      </p:cxnSp>
      <p:cxnSp>
        <p:nvCxnSpPr>
          <p:cNvPr id="330" name="Прямая со стрелкой 11"/>
          <p:cNvCxnSpPr/>
          <p:nvPr/>
        </p:nvCxnSpPr>
        <p:spPr>
          <a:xfrm flipH="1">
            <a:off x="2214360" y="928800"/>
            <a:ext cx="2286720" cy="357840"/>
          </a:xfrm>
          <a:prstGeom prst="straightConnector1">
            <a:avLst/>
          </a:prstGeom>
          <a:ln w="28440">
            <a:solidFill>
              <a:srgbClr val="9393fc"/>
            </a:solidFill>
            <a:miter/>
            <a:tailEnd len="med" type="triangle" w="med"/>
          </a:ln>
        </p:spPr>
      </p:cxnSp>
      <p:cxnSp>
        <p:nvCxnSpPr>
          <p:cNvPr id="331" name="Прямая со стрелкой 13"/>
          <p:cNvCxnSpPr/>
          <p:nvPr/>
        </p:nvCxnSpPr>
        <p:spPr>
          <a:xfrm>
            <a:off x="4500720" y="928440"/>
            <a:ext cx="2286720" cy="286200"/>
          </a:xfrm>
          <a:prstGeom prst="straightConnector1">
            <a:avLst/>
          </a:prstGeom>
          <a:ln w="28440">
            <a:solidFill>
              <a:srgbClr val="9393fc"/>
            </a:solidFill>
            <a:miter/>
            <a:tailEnd len="med" type="triangle" w="med"/>
          </a:ln>
        </p:spPr>
      </p:cxnSp>
      <p:grpSp>
        <p:nvGrpSpPr>
          <p:cNvPr id="332" name="TextBox 17"/>
          <p:cNvGrpSpPr/>
          <p:nvPr/>
        </p:nvGrpSpPr>
        <p:grpSpPr>
          <a:xfrm>
            <a:off x="2073240" y="2389320"/>
            <a:ext cx="5338800" cy="1066680"/>
            <a:chOff x="2073240" y="2389320"/>
            <a:chExt cx="5338800" cy="1066680"/>
          </a:xfrm>
        </p:grpSpPr>
        <p:pic>
          <p:nvPicPr>
            <p:cNvPr id="333" name="TextBox 17" descr=""/>
            <p:cNvPicPr/>
            <p:nvPr/>
          </p:nvPicPr>
          <p:blipFill>
            <a:blip r:embed="rId7"/>
            <a:stretch/>
          </p:blipFill>
          <p:spPr>
            <a:xfrm>
              <a:off x="2073240" y="2389320"/>
              <a:ext cx="533880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2143080" y="2428920"/>
              <a:ext cx="52149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паясняюць галоўныя або іншыя даданыя члены сказ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Граматычныя значэнні даданых членаў сказа распазнаюцца па пытаннях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Шэрыя воблакі павіслі адвячоркам над зямлёй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35" name="Прямая со стрелкой 19"/>
          <p:cNvCxnSpPr/>
          <p:nvPr/>
        </p:nvCxnSpPr>
        <p:spPr>
          <a:xfrm flipV="1">
            <a:off x="4497840" y="1928160"/>
            <a:ext cx="2520" cy="500760"/>
          </a:xfrm>
          <a:prstGeom prst="straightConnector1">
            <a:avLst/>
          </a:prstGeom>
          <a:ln w="28440">
            <a:solidFill>
              <a:srgbClr val="9393fc"/>
            </a:solidFill>
            <a:miter/>
            <a:tailEnd len="med" type="triangle" w="med"/>
          </a:ln>
        </p:spPr>
      </p:cxnSp>
      <p:cxnSp>
        <p:nvCxnSpPr>
          <p:cNvPr id="336" name="Прямая со стрелкой 21"/>
          <p:cNvCxnSpPr/>
          <p:nvPr/>
        </p:nvCxnSpPr>
        <p:spPr>
          <a:xfrm flipV="1">
            <a:off x="4500360" y="1785960"/>
            <a:ext cx="2143800" cy="643320"/>
          </a:xfrm>
          <a:prstGeom prst="straightConnector1">
            <a:avLst/>
          </a:prstGeom>
          <a:ln w="28440">
            <a:solidFill>
              <a:srgbClr val="9393fc"/>
            </a:solidFill>
            <a:miter/>
            <a:tailEnd len="med" type="triangle" w="med"/>
          </a:ln>
        </p:spPr>
      </p:cxnSp>
      <p:cxnSp>
        <p:nvCxnSpPr>
          <p:cNvPr id="337" name="Прямая со стрелкой 23"/>
          <p:cNvCxnSpPr/>
          <p:nvPr/>
        </p:nvCxnSpPr>
        <p:spPr>
          <a:xfrm flipH="1" flipV="1">
            <a:off x="2142360" y="1856880"/>
            <a:ext cx="2358360" cy="572400"/>
          </a:xfrm>
          <a:prstGeom prst="straightConnector1">
            <a:avLst/>
          </a:prstGeom>
          <a:ln w="28440">
            <a:solidFill>
              <a:srgbClr val="9393fc"/>
            </a:solidFill>
            <a:miter/>
            <a:tailEnd len="med" type="triangle" w="med"/>
          </a:ln>
        </p:spPr>
      </p:cxnSp>
      <p:grpSp>
        <p:nvGrpSpPr>
          <p:cNvPr id="338" name="TextBox 31"/>
          <p:cNvGrpSpPr/>
          <p:nvPr/>
        </p:nvGrpSpPr>
        <p:grpSpPr>
          <a:xfrm>
            <a:off x="3651120" y="3889440"/>
            <a:ext cx="1901880" cy="420480"/>
            <a:chOff x="3651120" y="3889440"/>
            <a:chExt cx="1901880" cy="420480"/>
          </a:xfrm>
        </p:grpSpPr>
        <p:pic>
          <p:nvPicPr>
            <p:cNvPr id="339" name="TextBox 31" descr=""/>
            <p:cNvPicPr/>
            <p:nvPr/>
          </p:nvPicPr>
          <p:blipFill>
            <a:blip r:embed="rId8"/>
            <a:stretch/>
          </p:blipFill>
          <p:spPr>
            <a:xfrm>
              <a:off x="3651120" y="3889440"/>
              <a:ext cx="190188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714840" y="3929040"/>
              <a:ext cx="1785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што зрабілі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TextBox 32"/>
          <p:cNvGrpSpPr/>
          <p:nvPr/>
        </p:nvGrpSpPr>
        <p:grpSpPr>
          <a:xfrm>
            <a:off x="438120" y="4889520"/>
            <a:ext cx="1903320" cy="420840"/>
            <a:chOff x="438120" y="4889520"/>
            <a:chExt cx="1903320" cy="420840"/>
          </a:xfrm>
        </p:grpSpPr>
        <p:pic>
          <p:nvPicPr>
            <p:cNvPr id="342" name="TextBox 32" descr=""/>
            <p:cNvPicPr/>
            <p:nvPr/>
          </p:nvPicPr>
          <p:blipFill>
            <a:blip r:embed="rId9"/>
            <a:stretch/>
          </p:blipFill>
          <p:spPr>
            <a:xfrm>
              <a:off x="438120" y="4889520"/>
              <a:ext cx="190332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500040" y="4929120"/>
              <a:ext cx="1785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якія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TextBox 33"/>
          <p:cNvGrpSpPr/>
          <p:nvPr/>
        </p:nvGrpSpPr>
        <p:grpSpPr>
          <a:xfrm>
            <a:off x="4151160" y="4889520"/>
            <a:ext cx="1901880" cy="420840"/>
            <a:chOff x="4151160" y="4889520"/>
            <a:chExt cx="1901880" cy="420840"/>
          </a:xfrm>
        </p:grpSpPr>
        <p:pic>
          <p:nvPicPr>
            <p:cNvPr id="345" name="TextBox 33" descr=""/>
            <p:cNvPicPr/>
            <p:nvPr/>
          </p:nvPicPr>
          <p:blipFill>
            <a:blip r:embed="rId10"/>
            <a:stretch/>
          </p:blipFill>
          <p:spPr>
            <a:xfrm>
              <a:off x="4151160" y="4889520"/>
              <a:ext cx="19018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4214880" y="4929120"/>
              <a:ext cx="1785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калі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TextBox 34"/>
          <p:cNvGrpSpPr/>
          <p:nvPr/>
        </p:nvGrpSpPr>
        <p:grpSpPr>
          <a:xfrm>
            <a:off x="6583320" y="4889520"/>
            <a:ext cx="1901880" cy="420840"/>
            <a:chOff x="6583320" y="4889520"/>
            <a:chExt cx="1901880" cy="420840"/>
          </a:xfrm>
        </p:grpSpPr>
        <p:pic>
          <p:nvPicPr>
            <p:cNvPr id="348" name="TextBox 34" descr=""/>
            <p:cNvPicPr/>
            <p:nvPr/>
          </p:nvPicPr>
          <p:blipFill>
            <a:blip r:embed="rId11"/>
            <a:stretch/>
          </p:blipFill>
          <p:spPr>
            <a:xfrm>
              <a:off x="6583320" y="4889520"/>
              <a:ext cx="19018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6643800" y="4929120"/>
              <a:ext cx="1785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над чым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TextBox 35"/>
          <p:cNvGrpSpPr/>
          <p:nvPr/>
        </p:nvGrpSpPr>
        <p:grpSpPr>
          <a:xfrm>
            <a:off x="365040" y="3876840"/>
            <a:ext cx="1901880" cy="463320"/>
            <a:chOff x="365040" y="3876840"/>
            <a:chExt cx="1901880" cy="463320"/>
          </a:xfrm>
        </p:grpSpPr>
        <p:pic>
          <p:nvPicPr>
            <p:cNvPr id="351" name="TextBox 35" descr=""/>
            <p:cNvPicPr/>
            <p:nvPr/>
          </p:nvPicPr>
          <p:blipFill>
            <a:blip r:embed="rId12"/>
            <a:stretch/>
          </p:blipFill>
          <p:spPr>
            <a:xfrm>
              <a:off x="365040" y="3876840"/>
              <a:ext cx="190188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428760" y="3929040"/>
              <a:ext cx="178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6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воблак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TextBox 36"/>
          <p:cNvGrpSpPr/>
          <p:nvPr/>
        </p:nvGrpSpPr>
        <p:grpSpPr>
          <a:xfrm>
            <a:off x="6370560" y="3809880"/>
            <a:ext cx="1901880" cy="457200"/>
            <a:chOff x="6370560" y="3809880"/>
            <a:chExt cx="1901880" cy="457200"/>
          </a:xfrm>
        </p:grpSpPr>
        <p:pic>
          <p:nvPicPr>
            <p:cNvPr id="354" name="TextBox 36" descr=""/>
            <p:cNvPicPr/>
            <p:nvPr/>
          </p:nvPicPr>
          <p:blipFill>
            <a:blip r:embed="rId13"/>
            <a:stretch/>
          </p:blipFill>
          <p:spPr>
            <a:xfrm>
              <a:off x="6370560" y="3809880"/>
              <a:ext cx="1901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6429240" y="3857760"/>
              <a:ext cx="178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6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павісл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TextBox 37"/>
          <p:cNvGrpSpPr/>
          <p:nvPr/>
        </p:nvGrpSpPr>
        <p:grpSpPr>
          <a:xfrm>
            <a:off x="438120" y="5735520"/>
            <a:ext cx="1903320" cy="463680"/>
            <a:chOff x="438120" y="5735520"/>
            <a:chExt cx="1903320" cy="463680"/>
          </a:xfrm>
        </p:grpSpPr>
        <p:pic>
          <p:nvPicPr>
            <p:cNvPr id="357" name="TextBox 37" descr=""/>
            <p:cNvPicPr/>
            <p:nvPr/>
          </p:nvPicPr>
          <p:blipFill>
            <a:blip r:embed="rId14"/>
            <a:stretch/>
          </p:blipFill>
          <p:spPr>
            <a:xfrm>
              <a:off x="438120" y="5735520"/>
              <a:ext cx="19033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500040" y="5786280"/>
              <a:ext cx="178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6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шэры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TextBox 38"/>
          <p:cNvGrpSpPr/>
          <p:nvPr/>
        </p:nvGrpSpPr>
        <p:grpSpPr>
          <a:xfrm>
            <a:off x="3651120" y="5810400"/>
            <a:ext cx="1901880" cy="457200"/>
            <a:chOff x="3651120" y="5810400"/>
            <a:chExt cx="1901880" cy="457200"/>
          </a:xfrm>
        </p:grpSpPr>
        <p:pic>
          <p:nvPicPr>
            <p:cNvPr id="360" name="TextBox 38" descr=""/>
            <p:cNvPicPr/>
            <p:nvPr/>
          </p:nvPicPr>
          <p:blipFill>
            <a:blip r:embed="rId15"/>
            <a:stretch/>
          </p:blipFill>
          <p:spPr>
            <a:xfrm>
              <a:off x="3651120" y="5810400"/>
              <a:ext cx="1901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3714840" y="5857920"/>
              <a:ext cx="178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6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адвячорка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TextBox 39"/>
          <p:cNvGrpSpPr/>
          <p:nvPr/>
        </p:nvGrpSpPr>
        <p:grpSpPr>
          <a:xfrm>
            <a:off x="6510240" y="5810400"/>
            <a:ext cx="1901880" cy="457200"/>
            <a:chOff x="6510240" y="5810400"/>
            <a:chExt cx="1901880" cy="457200"/>
          </a:xfrm>
        </p:grpSpPr>
        <p:pic>
          <p:nvPicPr>
            <p:cNvPr id="363" name="TextBox 39" descr=""/>
            <p:cNvPicPr/>
            <p:nvPr/>
          </p:nvPicPr>
          <p:blipFill>
            <a:blip r:embed="rId16"/>
            <a:stretch/>
          </p:blipFill>
          <p:spPr>
            <a:xfrm>
              <a:off x="6510240" y="5810400"/>
              <a:ext cx="1901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6572160" y="5857920"/>
              <a:ext cx="178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6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над зямлё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65" name="Прямая со стрелкой 41"/>
          <p:cNvCxnSpPr/>
          <p:nvPr/>
        </p:nvCxnSpPr>
        <p:spPr>
          <a:xfrm flipH="1">
            <a:off x="7357680" y="4287600"/>
            <a:ext cx="2160" cy="572040"/>
          </a:xfrm>
          <a:prstGeom prst="straightConnector1">
            <a:avLst/>
          </a:prstGeom>
          <a:ln w="28440">
            <a:solidFill>
              <a:srgbClr val="9393fc"/>
            </a:solidFill>
            <a:miter/>
            <a:tailEnd len="med" type="triangle" w="med"/>
          </a:ln>
        </p:spPr>
      </p:cxnSp>
      <p:cxnSp>
        <p:nvCxnSpPr>
          <p:cNvPr id="366" name="Прямая со стрелкой 43"/>
          <p:cNvCxnSpPr/>
          <p:nvPr/>
        </p:nvCxnSpPr>
        <p:spPr>
          <a:xfrm flipH="1">
            <a:off x="5357520" y="4286160"/>
            <a:ext cx="2000880" cy="572400"/>
          </a:xfrm>
          <a:prstGeom prst="straightConnector1">
            <a:avLst/>
          </a:prstGeom>
          <a:ln w="28440">
            <a:solidFill>
              <a:srgbClr val="9393fc"/>
            </a:solidFill>
            <a:miter/>
            <a:tailEnd len="med" type="triangle" w="med"/>
          </a:ln>
        </p:spPr>
      </p:cxnSp>
      <p:cxnSp>
        <p:nvCxnSpPr>
          <p:cNvPr id="367" name="Прямая со стрелкой 45"/>
          <p:cNvCxnSpPr/>
          <p:nvPr/>
        </p:nvCxnSpPr>
        <p:spPr>
          <a:xfrm>
            <a:off x="2214720" y="4071960"/>
            <a:ext cx="1429200" cy="2160"/>
          </a:xfrm>
          <a:prstGeom prst="straightConnector1">
            <a:avLst/>
          </a:prstGeom>
          <a:ln w="28440">
            <a:solidFill>
              <a:srgbClr val="9393fc"/>
            </a:solidFill>
            <a:miter/>
            <a:tailEnd len="med" type="triangle" w="med"/>
          </a:ln>
        </p:spPr>
      </p:cxnSp>
      <p:cxnSp>
        <p:nvCxnSpPr>
          <p:cNvPr id="368" name="Прямая со стрелкой 47"/>
          <p:cNvCxnSpPr/>
          <p:nvPr/>
        </p:nvCxnSpPr>
        <p:spPr>
          <a:xfrm>
            <a:off x="5500440" y="4071960"/>
            <a:ext cx="857880" cy="2160"/>
          </a:xfrm>
          <a:prstGeom prst="straightConnector1">
            <a:avLst/>
          </a:prstGeom>
          <a:ln w="28440">
            <a:solidFill>
              <a:srgbClr val="9393fc"/>
            </a:solidFill>
            <a:miter/>
            <a:tailEnd len="med" type="triangle" w="med"/>
          </a:ln>
        </p:spPr>
      </p:cxnSp>
      <p:cxnSp>
        <p:nvCxnSpPr>
          <p:cNvPr id="369" name="Прямая со стрелкой 49"/>
          <p:cNvCxnSpPr/>
          <p:nvPr/>
        </p:nvCxnSpPr>
        <p:spPr>
          <a:xfrm flipH="1">
            <a:off x="1283400" y="4287960"/>
            <a:ext cx="2520" cy="643320"/>
          </a:xfrm>
          <a:prstGeom prst="straightConnector1">
            <a:avLst/>
          </a:prstGeom>
          <a:ln w="28440">
            <a:solidFill>
              <a:srgbClr val="9393fc"/>
            </a:solidFill>
            <a:miter/>
            <a:tailEnd len="med" type="triangle" w="med"/>
          </a:ln>
        </p:spPr>
      </p:cxnSp>
      <p:cxnSp>
        <p:nvCxnSpPr>
          <p:cNvPr id="370" name="Прямая со стрелкой 51"/>
          <p:cNvCxnSpPr/>
          <p:nvPr/>
        </p:nvCxnSpPr>
        <p:spPr>
          <a:xfrm flipH="1">
            <a:off x="1283400" y="5288040"/>
            <a:ext cx="2520" cy="429120"/>
          </a:xfrm>
          <a:prstGeom prst="straightConnector1">
            <a:avLst/>
          </a:prstGeom>
          <a:ln w="28440">
            <a:solidFill>
              <a:srgbClr val="9393fc"/>
            </a:solidFill>
            <a:miter/>
            <a:tailEnd len="med" type="triangle" w="med"/>
          </a:ln>
        </p:spPr>
      </p:cxnSp>
      <p:cxnSp>
        <p:nvCxnSpPr>
          <p:cNvPr id="371" name="Прямая со стрелкой 53"/>
          <p:cNvCxnSpPr/>
          <p:nvPr/>
        </p:nvCxnSpPr>
        <p:spPr>
          <a:xfrm flipH="1">
            <a:off x="4928400" y="5287680"/>
            <a:ext cx="2520" cy="500760"/>
          </a:xfrm>
          <a:prstGeom prst="straightConnector1">
            <a:avLst/>
          </a:prstGeom>
          <a:ln w="28440">
            <a:solidFill>
              <a:srgbClr val="9393fc"/>
            </a:solidFill>
            <a:miter/>
            <a:tailEnd len="med" type="triangle" w="med"/>
          </a:ln>
        </p:spPr>
      </p:cxnSp>
      <p:cxnSp>
        <p:nvCxnSpPr>
          <p:cNvPr id="372" name="Прямая со стрелкой 55"/>
          <p:cNvCxnSpPr/>
          <p:nvPr/>
        </p:nvCxnSpPr>
        <p:spPr>
          <a:xfrm flipH="1">
            <a:off x="7357680" y="5287680"/>
            <a:ext cx="2160" cy="500760"/>
          </a:xfrm>
          <a:prstGeom prst="straightConnector1">
            <a:avLst/>
          </a:prstGeom>
          <a:ln w="28440">
            <a:solidFill>
              <a:srgbClr val="9393fc"/>
            </a:solidFill>
            <a:miter/>
            <a:tailEnd len="med" type="triangle" w="med"/>
          </a:ln>
        </p:spPr>
      </p:cxn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500"/>
                            </p:stCondLst>
                            <p:childTnLst>
                              <p:par>
                                <p:cTn id="3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5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4500"/>
                            </p:stCondLst>
                            <p:childTnLst>
                              <p:par>
                                <p:cTn id="4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500"/>
                            </p:stCondLst>
                            <p:childTnLst>
                              <p:par>
                                <p:cTn id="4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6500"/>
                            </p:stCondLst>
                            <p:childTnLst>
                              <p:par>
                                <p:cTn id="4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85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9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600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8000"/>
                            </p:stCondLst>
                            <p:childTnLst>
                              <p:par>
                                <p:cTn id="4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8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9000"/>
                            </p:stCondLst>
                            <p:childTnLst>
                              <p:par>
                                <p:cTn id="4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0000"/>
                            </p:stCondLst>
                            <p:childTnLst>
                              <p:par>
                                <p:cTn id="4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10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30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40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375" name="Прямоугольник 4" descr=""/>
          <p:cNvPicPr/>
          <p:nvPr/>
        </p:nvPicPr>
        <p:blipFill>
          <a:blip r:embed="rId3"/>
          <a:stretch/>
        </p:blipFill>
        <p:spPr>
          <a:xfrm>
            <a:off x="725400" y="426960"/>
            <a:ext cx="2328840" cy="560520"/>
          </a:xfrm>
          <a:prstGeom prst="rect">
            <a:avLst/>
          </a:prstGeom>
          <a:ln w="0">
            <a:noFill/>
          </a:ln>
        </p:spPr>
      </p:pic>
      <p:grpSp>
        <p:nvGrpSpPr>
          <p:cNvPr id="376" name="TextBox 5"/>
          <p:cNvGrpSpPr/>
          <p:nvPr/>
        </p:nvGrpSpPr>
        <p:grpSpPr>
          <a:xfrm>
            <a:off x="3365640" y="536400"/>
            <a:ext cx="5473440" cy="536760"/>
            <a:chOff x="3365640" y="536400"/>
            <a:chExt cx="5473440" cy="536760"/>
          </a:xfrm>
        </p:grpSpPr>
        <p:pic>
          <p:nvPicPr>
            <p:cNvPr id="377" name="TextBox 5" descr=""/>
            <p:cNvPicPr/>
            <p:nvPr/>
          </p:nvPicPr>
          <p:blipFill>
            <a:blip r:embed="rId4"/>
            <a:stretch/>
          </p:blipFill>
          <p:spPr>
            <a:xfrm>
              <a:off x="3365640" y="536400"/>
              <a:ext cx="54734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3429000" y="571680"/>
              <a:ext cx="53578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гэта даданы член сказа, які абазначае прадмет, аб’ект дзеяння ці стан, залежыць ад выказніка або іншага члена сказа і адказвае на пытанні ўскосных склонаў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TextBox 6"/>
          <p:cNvGrpSpPr/>
          <p:nvPr/>
        </p:nvGrpSpPr>
        <p:grpSpPr>
          <a:xfrm>
            <a:off x="3365640" y="1176480"/>
            <a:ext cx="5473440" cy="1311120"/>
            <a:chOff x="3365640" y="1176480"/>
            <a:chExt cx="5473440" cy="1311120"/>
          </a:xfrm>
        </p:grpSpPr>
        <p:pic>
          <p:nvPicPr>
            <p:cNvPr id="380" name="TextBox 6" descr=""/>
            <p:cNvPicPr/>
            <p:nvPr/>
          </p:nvPicPr>
          <p:blipFill>
            <a:blip r:embed="rId5"/>
            <a:stretch/>
          </p:blipFill>
          <p:spPr>
            <a:xfrm>
              <a:off x="3365640" y="1176480"/>
              <a:ext cx="547344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3429000" y="1214280"/>
              <a:ext cx="535788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Вішнёвы вецер студзіць  (што?)  </a:t>
              </a:r>
              <a:r>
                <a:rPr b="1" i="1" lang="be-BY" sz="12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грудзі 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(С. Гаўрук) –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дапаўненне  абазначае прадмет, на які пераходзіць дзеянне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Рэха адгукнулася  (каму?) </a:t>
              </a:r>
              <a:r>
                <a:rPr b="1" i="1" lang="be-BY" sz="12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зязюлі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дапаўненне абазначае адрасата дзеяння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Людзі гаварылі  (аб чым?) </a:t>
              </a:r>
              <a:r>
                <a:rPr b="1" i="1" lang="be-BY" sz="12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аб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 нядобрых </a:t>
              </a:r>
              <a:r>
                <a:rPr b="1" i="1" lang="be-BY" sz="12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падзеях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(К. Чорны) 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дапаўненне абазначае прадмет  гутарк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Прямая соединительная линия 8"/>
          <p:cNvSpPr/>
          <p:nvPr/>
        </p:nvSpPr>
        <p:spPr>
          <a:xfrm>
            <a:off x="3071880" y="714240"/>
            <a:ext cx="214200" cy="1800"/>
          </a:xfrm>
          <a:prstGeom prst="line">
            <a:avLst/>
          </a:prstGeom>
          <a:ln w="28440">
            <a:solidFill>
              <a:srgbClr val="9393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9"/>
          <p:cNvSpPr/>
          <p:nvPr/>
        </p:nvSpPr>
        <p:spPr>
          <a:xfrm>
            <a:off x="2357280" y="2714760"/>
            <a:ext cx="4000680" cy="30708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паўненне</a:t>
            </a:r>
            <a:r>
              <a:rPr b="1" lang="be-BY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бывае </a:t>
            </a:r>
            <a:r>
              <a:rPr b="1" lang="be-BY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мое</a:t>
            </a:r>
            <a:r>
              <a:rPr b="1" lang="be-BY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і </a:t>
            </a:r>
            <a:r>
              <a:rPr b="1" lang="be-BY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ўскосна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0"/>
          <p:cNvSpPr/>
          <p:nvPr/>
        </p:nvSpPr>
        <p:spPr>
          <a:xfrm>
            <a:off x="214200" y="3143160"/>
            <a:ext cx="6286680" cy="64152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мое дапаўненне </a:t>
            </a: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адносіцца да пераходнага дзеяслова і абазначае прадмет, на які накіравана дзеянн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 u="sng">
                <a:solidFill>
                  <a:srgbClr val="0000e5"/>
                </a:solidFill>
                <a:uFillTx/>
                <a:latin typeface="Times New Roman"/>
                <a:ea typeface="Times New Roman"/>
              </a:rPr>
              <a:t>Паехаў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Мішка </a:t>
            </a:r>
            <a:r>
              <a:rPr b="1" i="1" lang="be-BY" sz="1200" spc="-1" strike="noStrike" u="sng">
                <a:solidFill>
                  <a:srgbClr val="0000e5"/>
                </a:solidFill>
                <a:uFillTx/>
                <a:latin typeface="Times New Roman"/>
                <a:ea typeface="Times New Roman"/>
              </a:rPr>
              <a:t>наведваць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(каго?) </a:t>
            </a:r>
            <a:r>
              <a:rPr b="1" i="1" lang="be-BY" sz="1200" spc="-1" strike="noStrike" u="sng">
                <a:solidFill>
                  <a:srgbClr val="0000e5"/>
                </a:solidFill>
                <a:uFillTx/>
                <a:latin typeface="Times New Roman"/>
                <a:ea typeface="Times New Roman"/>
              </a:rPr>
              <a:t>маці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. (М. Зарэцкі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1"/>
          <p:cNvSpPr/>
          <p:nvPr/>
        </p:nvSpPr>
        <p:spPr>
          <a:xfrm>
            <a:off x="928800" y="4143240"/>
            <a:ext cx="6500880" cy="82404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мое дапаўненне </a:t>
            </a: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звычайна выражаецца назоўнікам у форме вінавальнага склону без прыназоўніка. Калі ж дзеянне пераходзіць на частку прадмета ці пры дзеяслове ёсць адмоўе, прамое дапаўненне ўжываецца ў форме  роднага склону без прыназоўні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 u="sng">
                <a:solidFill>
                  <a:srgbClr val="0000e5"/>
                </a:solidFill>
                <a:uFillTx/>
                <a:latin typeface="Times New Roman"/>
                <a:ea typeface="Times New Roman"/>
              </a:rPr>
              <a:t>Не губляйце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, людзі, (чаго?) </a:t>
            </a:r>
            <a:r>
              <a:rPr b="1" i="1" lang="be-BY" sz="1200" spc="-1" strike="noStrike" u="sng">
                <a:solidFill>
                  <a:srgbClr val="0000e5"/>
                </a:solidFill>
                <a:uFillTx/>
                <a:latin typeface="Times New Roman"/>
                <a:ea typeface="Times New Roman"/>
              </a:rPr>
              <a:t>часу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. (П. Глеб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2"/>
          <p:cNvSpPr/>
          <p:nvPr/>
        </p:nvSpPr>
        <p:spPr>
          <a:xfrm>
            <a:off x="1857240" y="5286240"/>
            <a:ext cx="6500880" cy="82404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Дапаўненне, выражанае назоўнікам у форме вінавальнага склону з прыназоўнікам або роднага, давальнага, творнага і меснага склонаў з прыназоўнікамі ці без прыназоўнікаў, а таксама словамі іншых часцін мовы, называецца </a:t>
            </a:r>
            <a:r>
              <a:rPr b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косны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Экскурсавод </a:t>
            </a:r>
            <a:r>
              <a:rPr b="1" i="1" lang="be-BY" sz="1200" spc="-1" strike="noStrike" u="sng">
                <a:solidFill>
                  <a:srgbClr val="0000e5"/>
                </a:solidFill>
                <a:uFillTx/>
                <a:latin typeface="Times New Roman"/>
                <a:ea typeface="Times New Roman"/>
              </a:rPr>
              <a:t>прапанаваў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(каму?) </a:t>
            </a:r>
            <a:r>
              <a:rPr b="1" i="1" lang="be-BY" sz="1200" spc="-1" strike="noStrike" u="sng">
                <a:solidFill>
                  <a:srgbClr val="0000e5"/>
                </a:solidFill>
                <a:uFillTx/>
                <a:latin typeface="Times New Roman"/>
                <a:ea typeface="Times New Roman"/>
              </a:rPr>
              <a:t>нам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 (што?)  </a:t>
            </a:r>
            <a:r>
              <a:rPr b="1" i="1" lang="be-BY" sz="1200" spc="-1" strike="noStrike" u="sng">
                <a:solidFill>
                  <a:srgbClr val="0000e5"/>
                </a:solidFill>
                <a:uFillTx/>
                <a:latin typeface="Times New Roman"/>
                <a:ea typeface="Times New Roman"/>
              </a:rPr>
              <a:t>наведаць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музей. (Газет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6000"/>
                            </p:stCondLst>
                            <p:childTnLst>
                              <p:par>
                                <p:cTn id="5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5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3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3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3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sp>
        <p:nvSpPr>
          <p:cNvPr id="389" name="Прямоугольник 5"/>
          <p:cNvSpPr/>
          <p:nvPr/>
        </p:nvSpPr>
        <p:spPr>
          <a:xfrm>
            <a:off x="2214720" y="142920"/>
            <a:ext cx="4714560" cy="307080"/>
          </a:xfrm>
          <a:prstGeom prst="rect">
            <a:avLst/>
          </a:prstGeom>
          <a:solidFill>
            <a:srgbClr val="99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абы выражэння дапаўн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Прямоугольник 7" descr=""/>
          <p:cNvPicPr/>
          <p:nvPr/>
        </p:nvPicPr>
        <p:blipFill>
          <a:blip r:embed="rId3"/>
          <a:stretch/>
        </p:blipFill>
        <p:spPr>
          <a:xfrm>
            <a:off x="298440" y="785880"/>
            <a:ext cx="2182680" cy="519120"/>
          </a:xfrm>
          <a:prstGeom prst="rect">
            <a:avLst/>
          </a:prstGeom>
          <a:ln w="0">
            <a:noFill/>
          </a:ln>
        </p:spPr>
      </p:pic>
      <p:pic>
        <p:nvPicPr>
          <p:cNvPr id="391" name="Прямоугольник 8" descr=""/>
          <p:cNvPicPr/>
          <p:nvPr/>
        </p:nvPicPr>
        <p:blipFill>
          <a:blip r:embed="rId4"/>
          <a:stretch/>
        </p:blipFill>
        <p:spPr>
          <a:xfrm>
            <a:off x="3297240" y="646200"/>
            <a:ext cx="2543040" cy="517320"/>
          </a:xfrm>
          <a:prstGeom prst="rect">
            <a:avLst/>
          </a:prstGeom>
          <a:ln w="0">
            <a:noFill/>
          </a:ln>
        </p:spPr>
      </p:pic>
      <p:grpSp>
        <p:nvGrpSpPr>
          <p:cNvPr id="392" name="TextBox 10"/>
          <p:cNvGrpSpPr/>
          <p:nvPr/>
        </p:nvGrpSpPr>
        <p:grpSpPr>
          <a:xfrm>
            <a:off x="2438280" y="1390680"/>
            <a:ext cx="3687840" cy="388800"/>
            <a:chOff x="2438280" y="1390680"/>
            <a:chExt cx="3687840" cy="388800"/>
          </a:xfrm>
        </p:grpSpPr>
        <p:pic>
          <p:nvPicPr>
            <p:cNvPr id="393" name="TextBox 10" descr=""/>
            <p:cNvPicPr/>
            <p:nvPr/>
          </p:nvPicPr>
          <p:blipFill>
            <a:blip r:embed="rId5"/>
            <a:stretch/>
          </p:blipFill>
          <p:spPr>
            <a:xfrm>
              <a:off x="2438280" y="1390680"/>
              <a:ext cx="368784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2500200" y="1428840"/>
              <a:ext cx="357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Суровы гімн пяе зямля мая. (Л.  Геніюш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Прямоугольник 11"/>
          <p:cNvGrpSpPr/>
          <p:nvPr/>
        </p:nvGrpSpPr>
        <p:grpSpPr>
          <a:xfrm>
            <a:off x="225360" y="1450800"/>
            <a:ext cx="2041560" cy="463680"/>
            <a:chOff x="225360" y="1450800"/>
            <a:chExt cx="2041560" cy="463680"/>
          </a:xfrm>
        </p:grpSpPr>
        <p:pic>
          <p:nvPicPr>
            <p:cNvPr id="396" name="Прямоугольник 11" descr=""/>
            <p:cNvPicPr/>
            <p:nvPr/>
          </p:nvPicPr>
          <p:blipFill>
            <a:blip r:embed="rId6"/>
            <a:stretch/>
          </p:blipFill>
          <p:spPr>
            <a:xfrm>
              <a:off x="225360" y="1450800"/>
              <a:ext cx="20415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285840" y="1500120"/>
              <a:ext cx="19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назоўні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TextBox 12"/>
          <p:cNvGrpSpPr/>
          <p:nvPr/>
        </p:nvGrpSpPr>
        <p:grpSpPr>
          <a:xfrm>
            <a:off x="2438280" y="1962000"/>
            <a:ext cx="3687840" cy="390600"/>
            <a:chOff x="2438280" y="1962000"/>
            <a:chExt cx="3687840" cy="390600"/>
          </a:xfrm>
        </p:grpSpPr>
        <p:pic>
          <p:nvPicPr>
            <p:cNvPr id="399" name="TextBox 12" descr=""/>
            <p:cNvPicPr/>
            <p:nvPr/>
          </p:nvPicPr>
          <p:blipFill>
            <a:blip r:embed="rId7"/>
            <a:stretch/>
          </p:blipFill>
          <p:spPr>
            <a:xfrm>
              <a:off x="2438280" y="1962000"/>
              <a:ext cx="36878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2500200" y="2000160"/>
              <a:ext cx="357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Яго стаміла  дарога. (М.  Лужанін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TextBox 14"/>
          <p:cNvGrpSpPr/>
          <p:nvPr/>
        </p:nvGrpSpPr>
        <p:grpSpPr>
          <a:xfrm>
            <a:off x="2438280" y="2610000"/>
            <a:ext cx="3687840" cy="382320"/>
            <a:chOff x="2438280" y="2610000"/>
            <a:chExt cx="3687840" cy="382320"/>
          </a:xfrm>
        </p:grpSpPr>
        <p:pic>
          <p:nvPicPr>
            <p:cNvPr id="402" name="TextBox 14" descr=""/>
            <p:cNvPicPr/>
            <p:nvPr/>
          </p:nvPicPr>
          <p:blipFill>
            <a:blip r:embed="rId8"/>
            <a:stretch/>
          </p:blipFill>
          <p:spPr>
            <a:xfrm>
              <a:off x="2438280" y="2610000"/>
              <a:ext cx="3687840" cy="38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2500200" y="2643120"/>
              <a:ext cx="357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Дзесяць дзеліцца на пяць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TextBox 15"/>
          <p:cNvGrpSpPr/>
          <p:nvPr/>
        </p:nvGrpSpPr>
        <p:grpSpPr>
          <a:xfrm>
            <a:off x="2438280" y="3322800"/>
            <a:ext cx="3687840" cy="384120"/>
            <a:chOff x="2438280" y="3322800"/>
            <a:chExt cx="3687840" cy="384120"/>
          </a:xfrm>
        </p:grpSpPr>
        <p:pic>
          <p:nvPicPr>
            <p:cNvPr id="405" name="TextBox 15" descr=""/>
            <p:cNvPicPr/>
            <p:nvPr/>
          </p:nvPicPr>
          <p:blipFill>
            <a:blip r:embed="rId9"/>
            <a:stretch/>
          </p:blipFill>
          <p:spPr>
            <a:xfrm>
              <a:off x="2438280" y="3322800"/>
              <a:ext cx="368784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2500200" y="3357720"/>
              <a:ext cx="357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Маці ўспамінала аб мінулым. (М.  Зарэцкі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TextBox 17"/>
          <p:cNvGrpSpPr/>
          <p:nvPr/>
        </p:nvGrpSpPr>
        <p:grpSpPr>
          <a:xfrm>
            <a:off x="2511360" y="4322880"/>
            <a:ext cx="3614760" cy="382320"/>
            <a:chOff x="2511360" y="4322880"/>
            <a:chExt cx="3614760" cy="382320"/>
          </a:xfrm>
        </p:grpSpPr>
        <p:pic>
          <p:nvPicPr>
            <p:cNvPr id="408" name="TextBox 17" descr=""/>
            <p:cNvPicPr/>
            <p:nvPr/>
          </p:nvPicPr>
          <p:blipFill>
            <a:blip r:embed="rId10"/>
            <a:stretch/>
          </p:blipFill>
          <p:spPr>
            <a:xfrm>
              <a:off x="2511360" y="4322880"/>
              <a:ext cx="3614760" cy="38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2571840" y="4357800"/>
              <a:ext cx="350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Бацька сына вучыў касіць. (Ц.  Гартны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TextBox 18"/>
          <p:cNvGrpSpPr/>
          <p:nvPr/>
        </p:nvGrpSpPr>
        <p:grpSpPr>
          <a:xfrm>
            <a:off x="2365200" y="5248440"/>
            <a:ext cx="3687840" cy="944280"/>
            <a:chOff x="2365200" y="5248440"/>
            <a:chExt cx="3687840" cy="944280"/>
          </a:xfrm>
        </p:grpSpPr>
        <p:pic>
          <p:nvPicPr>
            <p:cNvPr id="411" name="TextBox 18" descr=""/>
            <p:cNvPicPr/>
            <p:nvPr/>
          </p:nvPicPr>
          <p:blipFill>
            <a:blip r:embed="rId11"/>
            <a:stretch/>
          </p:blipFill>
          <p:spPr>
            <a:xfrm>
              <a:off x="2365200" y="5248440"/>
              <a:ext cx="368784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2428920" y="5286240"/>
              <a:ext cx="3571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Паступленне ў інстытут прынесла яму шмат клопатаў. (У. Карпаў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Восень пахла бабіным летам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(І.  Чыгрынаў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Прямоугольник 19"/>
          <p:cNvGrpSpPr/>
          <p:nvPr/>
        </p:nvGrpSpPr>
        <p:grpSpPr>
          <a:xfrm>
            <a:off x="225360" y="2590920"/>
            <a:ext cx="2041560" cy="463320"/>
            <a:chOff x="225360" y="2590920"/>
            <a:chExt cx="2041560" cy="463320"/>
          </a:xfrm>
        </p:grpSpPr>
        <p:pic>
          <p:nvPicPr>
            <p:cNvPr id="414" name="Прямоугольник 19" descr=""/>
            <p:cNvPicPr/>
            <p:nvPr/>
          </p:nvPicPr>
          <p:blipFill>
            <a:blip r:embed="rId12"/>
            <a:stretch/>
          </p:blipFill>
          <p:spPr>
            <a:xfrm>
              <a:off x="225360" y="2590920"/>
              <a:ext cx="204156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285840" y="2643120"/>
              <a:ext cx="19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лічэбні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Прямоугольник 20"/>
          <p:cNvGrpSpPr/>
          <p:nvPr/>
        </p:nvGrpSpPr>
        <p:grpSpPr>
          <a:xfrm>
            <a:off x="225360" y="2023920"/>
            <a:ext cx="2041560" cy="457200"/>
            <a:chOff x="225360" y="2023920"/>
            <a:chExt cx="2041560" cy="457200"/>
          </a:xfrm>
        </p:grpSpPr>
        <p:pic>
          <p:nvPicPr>
            <p:cNvPr id="417" name="Прямоугольник 20" descr=""/>
            <p:cNvPicPr/>
            <p:nvPr/>
          </p:nvPicPr>
          <p:blipFill>
            <a:blip r:embed="rId13"/>
            <a:stretch/>
          </p:blipFill>
          <p:spPr>
            <a:xfrm>
              <a:off x="225360" y="2023920"/>
              <a:ext cx="20415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285840" y="2071800"/>
              <a:ext cx="19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займенні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Прямоугольник 21"/>
          <p:cNvGrpSpPr/>
          <p:nvPr/>
        </p:nvGrpSpPr>
        <p:grpSpPr>
          <a:xfrm>
            <a:off x="225360" y="4164120"/>
            <a:ext cx="2041560" cy="706320"/>
            <a:chOff x="225360" y="4164120"/>
            <a:chExt cx="2041560" cy="706320"/>
          </a:xfrm>
        </p:grpSpPr>
        <p:pic>
          <p:nvPicPr>
            <p:cNvPr id="420" name="Прямоугольник 21" descr=""/>
            <p:cNvPicPr/>
            <p:nvPr/>
          </p:nvPicPr>
          <p:blipFill>
            <a:blip r:embed="rId14"/>
            <a:stretch/>
          </p:blipFill>
          <p:spPr>
            <a:xfrm>
              <a:off x="225360" y="4164120"/>
              <a:ext cx="204156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85840" y="4214880"/>
              <a:ext cx="1928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неазначальная формай дзеясло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Прямоугольник 22"/>
          <p:cNvGrpSpPr/>
          <p:nvPr/>
        </p:nvGrpSpPr>
        <p:grpSpPr>
          <a:xfrm>
            <a:off x="225360" y="5389560"/>
            <a:ext cx="2041560" cy="633240"/>
            <a:chOff x="225360" y="5389560"/>
            <a:chExt cx="2041560" cy="633240"/>
          </a:xfrm>
        </p:grpSpPr>
        <p:pic>
          <p:nvPicPr>
            <p:cNvPr id="423" name="Прямоугольник 22" descr=""/>
            <p:cNvPicPr/>
            <p:nvPr/>
          </p:nvPicPr>
          <p:blipFill>
            <a:blip r:embed="rId15"/>
            <a:stretch/>
          </p:blipFill>
          <p:spPr>
            <a:xfrm>
              <a:off x="225360" y="5389560"/>
              <a:ext cx="20415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285840" y="5429160"/>
              <a:ext cx="1928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састаўная цэласная назва, фразеалагіз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5" name="Прямоугольник 23" descr=""/>
          <p:cNvPicPr/>
          <p:nvPr/>
        </p:nvPicPr>
        <p:blipFill>
          <a:blip r:embed="rId16"/>
          <a:stretch/>
        </p:blipFill>
        <p:spPr>
          <a:xfrm>
            <a:off x="6510240" y="785880"/>
            <a:ext cx="2189160" cy="519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4"/>
          <p:cNvSpPr/>
          <p:nvPr/>
        </p:nvSpPr>
        <p:spPr>
          <a:xfrm>
            <a:off x="6429240" y="1357200"/>
            <a:ext cx="2347920" cy="27648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пяе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(што?) </a:t>
            </a:r>
            <a:r>
              <a:rPr b="1" i="1" lang="be-BY" sz="12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гім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25"/>
          <p:cNvSpPr/>
          <p:nvPr/>
        </p:nvSpPr>
        <p:spPr>
          <a:xfrm>
            <a:off x="6429240" y="1928880"/>
            <a:ext cx="2347920" cy="27648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стаміла 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(каго?) </a:t>
            </a:r>
            <a:r>
              <a:rPr b="1" i="1" lang="be-BY" sz="12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я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26"/>
          <p:cNvSpPr/>
          <p:nvPr/>
        </p:nvSpPr>
        <p:spPr>
          <a:xfrm>
            <a:off x="6429240" y="2571840"/>
            <a:ext cx="2347920" cy="27648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дзеліцца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(на што?) </a:t>
            </a:r>
            <a:r>
              <a:rPr b="1" i="1" lang="be-BY" sz="12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на пяц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Прямоугольник 27"/>
          <p:cNvGrpSpPr/>
          <p:nvPr/>
        </p:nvGrpSpPr>
        <p:grpSpPr>
          <a:xfrm>
            <a:off x="219240" y="3103560"/>
            <a:ext cx="2054160" cy="633240"/>
            <a:chOff x="219240" y="3103560"/>
            <a:chExt cx="2054160" cy="633240"/>
          </a:xfrm>
        </p:grpSpPr>
        <p:pic>
          <p:nvPicPr>
            <p:cNvPr id="430" name="Прямоугольник 27" descr=""/>
            <p:cNvPicPr/>
            <p:nvPr/>
          </p:nvPicPr>
          <p:blipFill>
            <a:blip r:embed="rId17"/>
            <a:stretch/>
          </p:blipFill>
          <p:spPr>
            <a:xfrm>
              <a:off x="219240" y="3103560"/>
              <a:ext cx="20541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285840" y="3143160"/>
              <a:ext cx="1928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іншыя часціны мовы ў значэнні назоўні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TextBox 28"/>
          <p:cNvSpPr/>
          <p:nvPr/>
        </p:nvSpPr>
        <p:spPr>
          <a:xfrm>
            <a:off x="6429240" y="3143160"/>
            <a:ext cx="2347920" cy="45900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успамінала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(аб чым?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аб мінул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9"/>
          <p:cNvSpPr/>
          <p:nvPr/>
        </p:nvSpPr>
        <p:spPr>
          <a:xfrm>
            <a:off x="6429240" y="4357800"/>
            <a:ext cx="2347920" cy="27648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вучыў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(чаму?) </a:t>
            </a:r>
            <a:r>
              <a:rPr b="1" i="1" lang="be-BY" sz="12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касіц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30"/>
          <p:cNvSpPr/>
          <p:nvPr/>
        </p:nvSpPr>
        <p:spPr>
          <a:xfrm>
            <a:off x="6357960" y="5286240"/>
            <a:ext cx="2347920" cy="82404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прынесла 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(што?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шмат клопата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пахла 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(чым?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бабіным ле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500"/>
                            </p:stCondLst>
                            <p:childTnLst>
                              <p:par>
                                <p:cTn id="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6500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85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5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25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45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8500"/>
                            </p:stCondLst>
                            <p:childTnLst>
                              <p:par>
                                <p:cTn id="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0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25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4500"/>
                            </p:stCondLst>
                            <p:childTnLst>
                              <p:par>
                                <p:cTn id="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65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8500"/>
                            </p:stCondLst>
                            <p:childTnLst>
                              <p:par>
                                <p:cTn id="6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30500"/>
                            </p:stCondLst>
                            <p:childTnLst>
                              <p:par>
                                <p:cTn id="6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32500"/>
                            </p:stCondLst>
                            <p:childTnLst>
                              <p:par>
                                <p:cTn id="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34500"/>
                            </p:stCondLst>
                            <p:childTnLst>
                              <p:par>
                                <p:cTn id="6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3650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385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405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0" descr="logo 21"/>
          <p:cNvPicPr/>
          <p:nvPr/>
        </p:nvPicPr>
        <p:blipFill>
          <a:blip r:embed="rId1"/>
          <a:stretch/>
        </p:blipFill>
        <p:spPr>
          <a:xfrm>
            <a:off x="6138720" y="5638680"/>
            <a:ext cx="3011760" cy="1225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4" descr=""/>
          <p:cNvPicPr/>
          <p:nvPr/>
        </p:nvPicPr>
        <p:blipFill>
          <a:blip r:embed="rId3"/>
          <a:stretch/>
        </p:blipFill>
        <p:spPr>
          <a:xfrm>
            <a:off x="1494000" y="476280"/>
            <a:ext cx="6156000" cy="1071360"/>
          </a:xfrm>
          <a:prstGeom prst="rect">
            <a:avLst/>
          </a:prstGeom>
          <a:ln w="0">
            <a:noFill/>
          </a:ln>
        </p:spPr>
      </p:pic>
      <p:pic>
        <p:nvPicPr>
          <p:cNvPr id="120" name="Схема 5" descr=""/>
          <p:cNvPicPr/>
          <p:nvPr/>
        </p:nvPicPr>
        <p:blipFill>
          <a:blip r:embed="rId4"/>
          <a:stretch/>
        </p:blipFill>
        <p:spPr>
          <a:xfrm>
            <a:off x="341280" y="920880"/>
            <a:ext cx="8454960" cy="565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437" name="Прямоугольник 4" descr=""/>
          <p:cNvPicPr/>
          <p:nvPr/>
        </p:nvPicPr>
        <p:blipFill>
          <a:blip r:embed="rId3"/>
          <a:stretch/>
        </p:blipFill>
        <p:spPr>
          <a:xfrm>
            <a:off x="725400" y="426960"/>
            <a:ext cx="2328840" cy="560520"/>
          </a:xfrm>
          <a:prstGeom prst="rect">
            <a:avLst/>
          </a:prstGeom>
          <a:ln w="0">
            <a:noFill/>
          </a:ln>
        </p:spPr>
      </p:pic>
      <p:grpSp>
        <p:nvGrpSpPr>
          <p:cNvPr id="438" name="TextBox 5"/>
          <p:cNvGrpSpPr/>
          <p:nvPr/>
        </p:nvGrpSpPr>
        <p:grpSpPr>
          <a:xfrm>
            <a:off x="3365640" y="390600"/>
            <a:ext cx="5492520" cy="1047600"/>
            <a:chOff x="3365640" y="390600"/>
            <a:chExt cx="5492520" cy="1047600"/>
          </a:xfrm>
        </p:grpSpPr>
        <p:pic>
          <p:nvPicPr>
            <p:cNvPr id="439" name="TextBox 5" descr=""/>
            <p:cNvPicPr/>
            <p:nvPr/>
          </p:nvPicPr>
          <p:blipFill>
            <a:blip r:embed="rId4"/>
            <a:stretch/>
          </p:blipFill>
          <p:spPr>
            <a:xfrm>
              <a:off x="3365640" y="390600"/>
              <a:ext cx="549252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3429000" y="428760"/>
              <a:ext cx="535788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гэта даданы член сказа, які абазначае прымету прадмета, паясняе дзейнік, дапаўненне і іншыя члены сказа, выражаныя назоўнікам. Азначэнні адказваюць на пытанні  </a:t>
              </a:r>
              <a:r>
                <a:rPr b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які?  чый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Гэта быў (які?) </a:t>
              </a:r>
              <a:r>
                <a:rPr b="1" i="1" lang="be-BY" sz="11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старасвецкі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лес. (Я. Колас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Сон (чый?) </a:t>
              </a:r>
              <a:r>
                <a:rPr b="1" i="1" lang="be-BY" sz="11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Сцёпкаў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прайшоў умомант. (Я. Колас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Прямая соединительная линия 8"/>
          <p:cNvSpPr/>
          <p:nvPr/>
        </p:nvSpPr>
        <p:spPr>
          <a:xfrm>
            <a:off x="3071880" y="714240"/>
            <a:ext cx="214200" cy="1800"/>
          </a:xfrm>
          <a:prstGeom prst="line">
            <a:avLst/>
          </a:prstGeom>
          <a:ln w="28440">
            <a:solidFill>
              <a:srgbClr val="9393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9"/>
          <p:cNvSpPr/>
          <p:nvPr/>
        </p:nvSpPr>
        <p:spPr>
          <a:xfrm>
            <a:off x="2286000" y="1571760"/>
            <a:ext cx="5286240" cy="30708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паўненне</a:t>
            </a:r>
            <a:r>
              <a:rPr b="1" lang="be-BY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бываюць </a:t>
            </a:r>
            <a:r>
              <a:rPr b="1" lang="be-BY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пасаваныя </a:t>
            </a:r>
            <a:r>
              <a:rPr b="1" lang="be-BY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і </a:t>
            </a:r>
            <a:r>
              <a:rPr b="1" lang="be-BY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дапасаваны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0"/>
          <p:cNvSpPr/>
          <p:nvPr/>
        </p:nvSpPr>
        <p:spPr>
          <a:xfrm>
            <a:off x="1214280" y="2214720"/>
            <a:ext cx="7286760" cy="64152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пасаванае азначэнне </a:t>
            </a: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звязваецца з азначаемым словам спосабам дапасаванн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Спрадвеку гадаваліся на астраўку (якія?)</a:t>
            </a:r>
            <a:r>
              <a:rPr b="1" i="1" lang="be-BY" sz="1200" spc="-1" strike="noStrike" u="sng">
                <a:solidFill>
                  <a:srgbClr val="0000e5"/>
                </a:solidFill>
                <a:uFillTx/>
                <a:latin typeface="Times New Roman"/>
                <a:ea typeface="Times New Roman"/>
              </a:rPr>
              <a:t> розныя дрэвы. 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(Я. Кола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Мы любім (чыю?) </a:t>
            </a:r>
            <a:r>
              <a:rPr b="1" i="1" lang="be-BY" sz="1200" spc="-1" strike="noStrike" u="sng">
                <a:solidFill>
                  <a:srgbClr val="0000e5"/>
                </a:solidFill>
                <a:uFillTx/>
                <a:latin typeface="Times New Roman"/>
                <a:ea typeface="Times New Roman"/>
              </a:rPr>
              <a:t>сваю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 </a:t>
            </a:r>
            <a:r>
              <a:rPr b="1" i="1" lang="be-BY" sz="1200" spc="-1" strike="noStrike" u="sng">
                <a:solidFill>
                  <a:srgbClr val="0000e5"/>
                </a:solidFill>
                <a:uFillTx/>
                <a:latin typeface="Times New Roman"/>
                <a:ea typeface="Times New Roman"/>
              </a:rPr>
              <a:t>радзіму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11"/>
          <p:cNvSpPr/>
          <p:nvPr/>
        </p:nvSpPr>
        <p:spPr>
          <a:xfrm>
            <a:off x="1214280" y="3071880"/>
            <a:ext cx="7286760" cy="64152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Азначэнні, выражаныя прыметнікавымі ці дзеепрыметнікавымі зваротамі,  на пісьме выдзяляюцца коскамі, калі стаяць пасля азначаемага сло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З лесу выйшаў грыбнік, </a:t>
            </a:r>
            <a:r>
              <a:rPr b="1" i="1" lang="be-BY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кры ад расы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. (І. Чыгрына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12"/>
          <p:cNvSpPr/>
          <p:nvPr/>
        </p:nvSpPr>
        <p:spPr>
          <a:xfrm>
            <a:off x="1214280" y="3929040"/>
            <a:ext cx="7286760" cy="64152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дапасаванае азначэнне </a:t>
            </a: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звязваецца з назоўнікам спосабам кіравання ці прымыканн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Максім асцярожна ўвайшоў </a:t>
            </a:r>
            <a:r>
              <a:rPr b="1" i="1" lang="be-BY" sz="1200" spc="-1" strike="noStrike" u="sng">
                <a:solidFill>
                  <a:srgbClr val="0000e5"/>
                </a:solidFill>
                <a:uFillTx/>
                <a:latin typeface="Times New Roman"/>
                <a:ea typeface="Times New Roman"/>
              </a:rPr>
              <a:t>у пакой 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(чый?) </a:t>
            </a:r>
            <a:r>
              <a:rPr b="1" i="1" lang="be-BY" sz="1200" spc="-1" strike="noStrike" u="sng">
                <a:solidFill>
                  <a:srgbClr val="0000e5"/>
                </a:solidFill>
                <a:uFillTx/>
                <a:latin typeface="Times New Roman"/>
                <a:ea typeface="Times New Roman"/>
              </a:rPr>
              <a:t>настаўніка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. (І. Шамякі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 u="sng">
                <a:solidFill>
                  <a:srgbClr val="0000e5"/>
                </a:solidFill>
                <a:uFillTx/>
                <a:latin typeface="Times New Roman"/>
                <a:ea typeface="Times New Roman"/>
              </a:rPr>
              <a:t>Прывычка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(якая?) </a:t>
            </a:r>
            <a:r>
              <a:rPr b="1" i="1" lang="be-BY" sz="1200" spc="-1" strike="noStrike" u="sng">
                <a:solidFill>
                  <a:srgbClr val="0000e5"/>
                </a:solidFill>
                <a:uFillTx/>
                <a:latin typeface="Times New Roman"/>
                <a:ea typeface="Times New Roman"/>
              </a:rPr>
              <a:t>чытаць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не пакідала яго. (М. Калачынскі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13"/>
          <p:cNvSpPr/>
          <p:nvPr/>
        </p:nvSpPr>
        <p:spPr>
          <a:xfrm>
            <a:off x="1214280" y="5000760"/>
            <a:ext cx="7286760" cy="64152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Недапасаваныя азначэнні могуць мець дадатковыя значэнні дапаўнення, акалічнасці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У паветры стаяў </a:t>
            </a:r>
            <a:r>
              <a:rPr b="1" i="1" lang="be-BY" sz="1200" spc="-1" strike="noStrike" u="sng">
                <a:solidFill>
                  <a:srgbClr val="0000e5"/>
                </a:solidFill>
                <a:uFillTx/>
                <a:latin typeface="Times New Roman"/>
                <a:ea typeface="Times New Roman"/>
              </a:rPr>
              <a:t>пах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(які? чаго?)</a:t>
            </a:r>
            <a:r>
              <a:rPr b="1" i="1" lang="be-BY" sz="1200" spc="-1" strike="noStrike" u="sng">
                <a:solidFill>
                  <a:srgbClr val="0000e5"/>
                </a:solidFill>
                <a:uFillTx/>
                <a:latin typeface="Times New Roman"/>
                <a:ea typeface="Times New Roman"/>
              </a:rPr>
              <a:t> мяты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. (М. Лынько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 u="sng">
                <a:solidFill>
                  <a:srgbClr val="0000e5"/>
                </a:solidFill>
                <a:uFillTx/>
                <a:latin typeface="Times New Roman"/>
                <a:ea typeface="Times New Roman"/>
              </a:rPr>
              <a:t>Жыццё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(якое? дзе?) </a:t>
            </a:r>
            <a:r>
              <a:rPr b="1" i="1" lang="be-BY" sz="1200" spc="-1" strike="noStrike" u="sng">
                <a:solidFill>
                  <a:srgbClr val="0000e5"/>
                </a:solidFill>
                <a:uFillTx/>
                <a:latin typeface="Times New Roman"/>
                <a:ea typeface="Times New Roman"/>
              </a:rPr>
              <a:t>на поўначы 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мае свае адметнасці. (М. Паслядовіч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14"/>
          <p:cNvSpPr/>
          <p:nvPr/>
        </p:nvSpPr>
        <p:spPr>
          <a:xfrm>
            <a:off x="1143000" y="5857920"/>
            <a:ext cx="7286760" cy="64152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Недапасаванае азначэнне можа быць выражана сінтаксічна непадзельным словазлучэннем назоўніка і прыметні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У клас увайшла </a:t>
            </a:r>
            <a:r>
              <a:rPr b="1" i="1" lang="be-BY" sz="1200" spc="-1" strike="noStrike" u="sng">
                <a:solidFill>
                  <a:srgbClr val="0000e5"/>
                </a:solidFill>
                <a:uFillTx/>
                <a:latin typeface="Times New Roman"/>
                <a:ea typeface="Times New Roman"/>
              </a:rPr>
              <a:t>дзяўчынка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(якая?) </a:t>
            </a:r>
            <a:r>
              <a:rPr b="1" i="1" lang="be-BY" sz="1200" spc="-1" strike="noStrike" u="sng">
                <a:solidFill>
                  <a:srgbClr val="0000e5"/>
                </a:solidFill>
                <a:uFillTx/>
                <a:latin typeface="Times New Roman"/>
                <a:ea typeface="Times New Roman"/>
              </a:rPr>
              <a:t>высокага росту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ая соединительная линия 16"/>
          <p:cNvSpPr/>
          <p:nvPr/>
        </p:nvSpPr>
        <p:spPr>
          <a:xfrm>
            <a:off x="3643200" y="5715000"/>
            <a:ext cx="857520" cy="1440"/>
          </a:xfrm>
          <a:prstGeom prst="line">
            <a:avLst/>
          </a:prstGeom>
          <a:ln w="19080">
            <a:solidFill>
              <a:srgbClr val="00007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ая соединительная линия 21"/>
          <p:cNvSpPr/>
          <p:nvPr/>
        </p:nvSpPr>
        <p:spPr>
          <a:xfrm>
            <a:off x="5286240" y="5500800"/>
            <a:ext cx="571680" cy="1440"/>
          </a:xfrm>
          <a:prstGeom prst="line">
            <a:avLst/>
          </a:prstGeom>
          <a:ln w="12600">
            <a:solidFill>
              <a:srgbClr val="0000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3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4000"/>
                            </p:stCondLst>
                            <p:childTnLst>
                              <p:par>
                                <p:cTn id="6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0"/>
                            </p:stCondLst>
                            <p:childTnLst>
                              <p:par>
                                <p:cTn id="6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3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3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8000"/>
                            </p:stCondLst>
                            <p:childTnLst>
                              <p:par>
                                <p:cTn id="6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3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3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3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6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3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3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3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3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3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3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3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40" descr="logo 21"/>
          <p:cNvPicPr/>
          <p:nvPr/>
        </p:nvPicPr>
        <p:blipFill>
          <a:blip r:embed="rId1"/>
          <a:stretch/>
        </p:blipFill>
        <p:spPr>
          <a:xfrm>
            <a:off x="6138720" y="6424560"/>
            <a:ext cx="3011760" cy="4399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452" name="Схема 6" descr=""/>
          <p:cNvPicPr/>
          <p:nvPr/>
        </p:nvPicPr>
        <p:blipFill>
          <a:blip r:embed="rId3"/>
          <a:stretch/>
        </p:blipFill>
        <p:spPr>
          <a:xfrm>
            <a:off x="907920" y="1365120"/>
            <a:ext cx="7802640" cy="4157640"/>
          </a:xfrm>
          <a:prstGeom prst="rect">
            <a:avLst/>
          </a:prstGeom>
          <a:ln w="0">
            <a:noFill/>
          </a:ln>
        </p:spPr>
      </p:pic>
      <p:pic>
        <p:nvPicPr>
          <p:cNvPr id="453" name="Прямоугольник 5" descr=""/>
          <p:cNvPicPr/>
          <p:nvPr/>
        </p:nvPicPr>
        <p:blipFill>
          <a:blip r:embed="rId4"/>
          <a:stretch/>
        </p:blipFill>
        <p:spPr>
          <a:xfrm>
            <a:off x="3724200" y="566640"/>
            <a:ext cx="2328840" cy="5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456" name="Прямоугольник 4" descr=""/>
          <p:cNvPicPr/>
          <p:nvPr/>
        </p:nvPicPr>
        <p:blipFill>
          <a:blip r:embed="rId3"/>
          <a:stretch/>
        </p:blipFill>
        <p:spPr>
          <a:xfrm>
            <a:off x="3511440" y="426960"/>
            <a:ext cx="2328840" cy="560520"/>
          </a:xfrm>
          <a:prstGeom prst="rect">
            <a:avLst/>
          </a:prstGeom>
          <a:ln w="0">
            <a:noFill/>
          </a:ln>
        </p:spPr>
      </p:pic>
      <p:sp>
        <p:nvSpPr>
          <p:cNvPr id="457" name="TextBox 5"/>
          <p:cNvSpPr/>
          <p:nvPr/>
        </p:nvSpPr>
        <p:spPr>
          <a:xfrm>
            <a:off x="785880" y="1000080"/>
            <a:ext cx="7715160" cy="103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Асобым відам прыдаткаў з’яўляюцца назвы газет, часопісаў, мастацкіх твораў, устаноў, прадпрыемстваў, якія пішуцца з вялікай літары і бяруцца ў двукосс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Яны заўсёды стаяць у назоўным склоне, таму з’яўляюцца недапасаванымі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1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У калгасе </a:t>
            </a:r>
            <a:r>
              <a:rPr b="1" i="1" lang="be-BY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Праўда” 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пачалася сяўба. (Газета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1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У часопісе </a:t>
            </a:r>
            <a:r>
              <a:rPr b="1" i="1" lang="be-BY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Неман” 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надрукавана аповесць </a:t>
            </a:r>
            <a:r>
              <a:rPr b="1" i="1" lang="be-BY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Чазенія” 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ў перакладзе на рускую мов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6"/>
          <p:cNvSpPr/>
          <p:nvPr/>
        </p:nvSpPr>
        <p:spPr>
          <a:xfrm>
            <a:off x="785880" y="2357280"/>
            <a:ext cx="7715160" cy="508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Назоўнікі-сінонімы тыпу </a:t>
            </a:r>
            <a:r>
              <a:rPr b="1" i="1" lang="be-BY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ляхі-дарогі, ветры-буры, думкі-мары, гусі-лебедзі </a:t>
            </a: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не з’яўляюцца прыдаткамі, бо іх словы-кампаненты паводле ролі і значэння  ўтвараюць адзінае паняц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Схема 8" descr=""/>
          <p:cNvPicPr/>
          <p:nvPr/>
        </p:nvPicPr>
        <p:blipFill>
          <a:blip r:embed="rId4"/>
          <a:stretch/>
        </p:blipFill>
        <p:spPr>
          <a:xfrm>
            <a:off x="1231920" y="3822840"/>
            <a:ext cx="7246800" cy="2943000"/>
          </a:xfrm>
          <a:prstGeom prst="rect">
            <a:avLst/>
          </a:prstGeom>
          <a:ln w="0">
            <a:noFill/>
          </a:ln>
        </p:spPr>
      </p:pic>
      <p:grpSp>
        <p:nvGrpSpPr>
          <p:cNvPr id="460" name="TextBox 10"/>
          <p:cNvGrpSpPr/>
          <p:nvPr/>
        </p:nvGrpSpPr>
        <p:grpSpPr>
          <a:xfrm>
            <a:off x="1792440" y="3243240"/>
            <a:ext cx="6199200" cy="615960"/>
            <a:chOff x="1792440" y="3243240"/>
            <a:chExt cx="6199200" cy="615960"/>
          </a:xfrm>
        </p:grpSpPr>
        <p:pic>
          <p:nvPicPr>
            <p:cNvPr id="461" name="TextBox 10" descr=""/>
            <p:cNvPicPr/>
            <p:nvPr/>
          </p:nvPicPr>
          <p:blipFill>
            <a:blip r:embed="rId5"/>
            <a:stretch/>
          </p:blipFill>
          <p:spPr>
            <a:xfrm>
              <a:off x="1792440" y="3243240"/>
              <a:ext cx="61992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1857240" y="3286080"/>
              <a:ext cx="607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Адзіночны прыдатак утварае з азначаемым словам сэнсавае цэлае, інтанацыйна не выдзяляецца і пішацца праз дэфіс: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3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500"/>
                            </p:stCondLst>
                            <p:childTnLst>
                              <p:par>
                                <p:cTn id="7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3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6500"/>
                            </p:stCondLst>
                            <p:childTnLst>
                              <p:par>
                                <p:cTn id="7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7500"/>
                            </p:stCondLst>
                            <p:childTnLst>
                              <p:par>
                                <p:cTn id="7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3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40" descr="logo 21"/>
          <p:cNvPicPr/>
          <p:nvPr/>
        </p:nvPicPr>
        <p:blipFill>
          <a:blip r:embed="rId1"/>
          <a:stretch/>
        </p:blipFill>
        <p:spPr>
          <a:xfrm>
            <a:off x="6138720" y="6278400"/>
            <a:ext cx="3011760" cy="5860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465" name="TextBox 11"/>
          <p:cNvGrpSpPr/>
          <p:nvPr/>
        </p:nvGrpSpPr>
        <p:grpSpPr>
          <a:xfrm>
            <a:off x="2225520" y="2749680"/>
            <a:ext cx="5973840" cy="877680"/>
            <a:chOff x="2225520" y="2749680"/>
            <a:chExt cx="5973840" cy="877680"/>
          </a:xfrm>
        </p:grpSpPr>
        <p:pic>
          <p:nvPicPr>
            <p:cNvPr id="466" name="TextBox 11" descr=""/>
            <p:cNvPicPr/>
            <p:nvPr/>
          </p:nvPicPr>
          <p:blipFill>
            <a:blip r:embed="rId3"/>
            <a:stretch/>
          </p:blipFill>
          <p:spPr>
            <a:xfrm>
              <a:off x="2225520" y="2749680"/>
              <a:ext cx="597384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2324160" y="2824200"/>
              <a:ext cx="578160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прыдаткі служаць своеасаблівымі характарыстыкамі, выступаючы эпітэтамі: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3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З-пад снежнага куродыму ўзняўся стогн дрэва-</a:t>
              </a:r>
              <a:r>
                <a:rPr b="1" i="1" lang="be-BY" sz="13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асілка</a:t>
              </a:r>
              <a:r>
                <a:rPr b="1" i="1" lang="be-BY" sz="13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. (З. Бядуля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TextBox 12"/>
          <p:cNvGrpSpPr/>
          <p:nvPr/>
        </p:nvGrpSpPr>
        <p:grpSpPr>
          <a:xfrm>
            <a:off x="2225520" y="3749760"/>
            <a:ext cx="5973840" cy="650880"/>
            <a:chOff x="2225520" y="3749760"/>
            <a:chExt cx="5973840" cy="650880"/>
          </a:xfrm>
        </p:grpSpPr>
        <p:pic>
          <p:nvPicPr>
            <p:cNvPr id="469" name="TextBox 12" descr=""/>
            <p:cNvPicPr/>
            <p:nvPr/>
          </p:nvPicPr>
          <p:blipFill>
            <a:blip r:embed="rId4"/>
            <a:stretch/>
          </p:blipFill>
          <p:spPr>
            <a:xfrm>
              <a:off x="2225520" y="3749760"/>
              <a:ext cx="597384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2313000" y="3813120"/>
              <a:ext cx="5803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прыдаткі часта можна замяніць азначэннямі-прыметнікамі: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3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Нішчымны колас-</a:t>
              </a:r>
              <a:r>
                <a:rPr b="1" i="1" lang="be-BY" sz="13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ірацінка</a:t>
              </a:r>
              <a:r>
                <a:rPr b="1" i="1" lang="be-BY" sz="13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 ў зацішку лёгенька гайдаўся. (Я. Колас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TextBox 13"/>
          <p:cNvGrpSpPr/>
          <p:nvPr/>
        </p:nvGrpSpPr>
        <p:grpSpPr>
          <a:xfrm>
            <a:off x="2225520" y="4675320"/>
            <a:ext cx="6046920" cy="658800"/>
            <a:chOff x="2225520" y="4675320"/>
            <a:chExt cx="6046920" cy="658800"/>
          </a:xfrm>
        </p:grpSpPr>
        <p:pic>
          <p:nvPicPr>
            <p:cNvPr id="472" name="TextBox 13" descr=""/>
            <p:cNvPicPr/>
            <p:nvPr/>
          </p:nvPicPr>
          <p:blipFill>
            <a:blip r:embed="rId5"/>
            <a:stretch/>
          </p:blipFill>
          <p:spPr>
            <a:xfrm>
              <a:off x="2225520" y="4675320"/>
              <a:ext cx="604692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2313000" y="4741920"/>
              <a:ext cx="58752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выказнікі і азначэнні дапасуюцца не да прыдатка, а да паясняемага слова: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3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Часопіс </a:t>
              </a:r>
              <a:r>
                <a:rPr b="1" i="1" lang="be-BY" sz="13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“Маладосць” </a:t>
              </a:r>
              <a:r>
                <a:rPr b="1" i="1" lang="be-BY" sz="13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арадаваў </a:t>
              </a:r>
              <a:r>
                <a:rPr b="1" i="1" lang="be-BY" sz="13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новымі творамі. (У. Гніламёдаў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TextBox 17"/>
          <p:cNvGrpSpPr/>
          <p:nvPr/>
        </p:nvGrpSpPr>
        <p:grpSpPr>
          <a:xfrm>
            <a:off x="2298600" y="1805040"/>
            <a:ext cx="5686560" cy="712800"/>
            <a:chOff x="2298600" y="1805040"/>
            <a:chExt cx="5686560" cy="712800"/>
          </a:xfrm>
        </p:grpSpPr>
        <p:pic>
          <p:nvPicPr>
            <p:cNvPr id="475" name="TextBox 17" descr=""/>
            <p:cNvPicPr/>
            <p:nvPr/>
          </p:nvPicPr>
          <p:blipFill>
            <a:blip r:embed="rId6"/>
            <a:stretch/>
          </p:blipFill>
          <p:spPr>
            <a:xfrm>
              <a:off x="2298600" y="1805040"/>
              <a:ext cx="568656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2357280" y="1857240"/>
              <a:ext cx="557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Каб адрозніць прыдатак ад паясняемага слова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трэба ведаць, што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AutoShape 9"/>
          <p:cNvSpPr/>
          <p:nvPr/>
        </p:nvSpPr>
        <p:spPr>
          <a:xfrm rot="317400">
            <a:off x="742680" y="1776240"/>
            <a:ext cx="1404720" cy="1590840"/>
          </a:xfrm>
          <a:custGeom>
            <a:avLst/>
            <a:gdLst>
              <a:gd name="textAreaLeft" fmla="*/ 187920 w 1404720"/>
              <a:gd name="textAreaRight" fmla="*/ 1216800 w 1404720"/>
              <a:gd name="textAreaTop" fmla="*/ 279720 h 1590840"/>
              <a:gd name="textAreaBottom" fmla="*/ 1168920 h 159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98" stAng="-5400000" swAng="-5400000"/>
                <a:lnTo>
                  <a:pt x="0" y="12071"/>
                </a:lnTo>
                <a:arcTo wR="21600" hR="7598" stAng="10800000" swAng="-2691142"/>
                <a:lnTo>
                  <a:pt x="14400" y="21165"/>
                </a:lnTo>
                <a:lnTo>
                  <a:pt x="21600" y="17432"/>
                </a:lnTo>
                <a:lnTo>
                  <a:pt x="14400" y="12828"/>
                </a:lnTo>
                <a:lnTo>
                  <a:pt x="14400" y="14760"/>
                </a:lnTo>
                <a:arcTo wR="21600" hR="7598" stAng="8108858" swAng="2320136"/>
                <a:lnTo>
                  <a:pt x="957" y="9834"/>
                </a:lnTo>
                <a:arcTo wR="21600" hR="7598" stAng="-10428994" swAng="5028994"/>
                <a:close/>
              </a:path>
              <a:path fill="darkenLess" w="21600" h="21600">
                <a:moveTo>
                  <a:pt x="21600" y="0"/>
                </a:moveTo>
                <a:arcTo wR="21600" hR="7598" stAng="-5400000" swAng="-5400000"/>
                <a:lnTo>
                  <a:pt x="0" y="7598"/>
                </a:lnTo>
                <a:arcTo wR="21600" hR="7598" stAng="10800000" swAng="-371006"/>
                <a:lnTo>
                  <a:pt x="957" y="9834"/>
                </a:lnTo>
                <a:arcTo wR="21600" hR="7598" stAng="-10428994" swAng="5028994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9"/>
          <p:cNvSpPr/>
          <p:nvPr/>
        </p:nvSpPr>
        <p:spPr>
          <a:xfrm rot="317400">
            <a:off x="900000" y="1835280"/>
            <a:ext cx="1189080" cy="2544480"/>
          </a:xfrm>
          <a:custGeom>
            <a:avLst/>
            <a:gdLst>
              <a:gd name="textAreaLeft" fmla="*/ 159120 w 1189080"/>
              <a:gd name="textAreaRight" fmla="*/ 1029960 w 1189080"/>
              <a:gd name="textAreaTop" fmla="*/ 542520 h 2544480"/>
              <a:gd name="textAreaBottom" fmla="*/ 1874880 h 254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11" stAng="-5400000" swAng="-5400000"/>
                <a:lnTo>
                  <a:pt x="0" y="11311"/>
                </a:lnTo>
                <a:arcTo wR="21600" hR="9211" stAng="10800000" swAng="-2925272"/>
                <a:lnTo>
                  <a:pt x="14035" y="21017"/>
                </a:lnTo>
                <a:lnTo>
                  <a:pt x="21600" y="19472"/>
                </a:lnTo>
                <a:lnTo>
                  <a:pt x="14035" y="16761"/>
                </a:lnTo>
                <a:lnTo>
                  <a:pt x="14035" y="17839"/>
                </a:lnTo>
                <a:arcTo wR="21600" hR="9211" stAng="7874728" swAng="2757197"/>
                <a:lnTo>
                  <a:pt x="141" y="10261"/>
                </a:lnTo>
                <a:arcTo wR="21600" hR="9211" stAng="-10631925" swAng="5231925"/>
                <a:close/>
              </a:path>
              <a:path fill="darkenLess" w="21600" h="21600">
                <a:moveTo>
                  <a:pt x="21600" y="0"/>
                </a:moveTo>
                <a:arcTo wR="21600" hR="9211" stAng="-5400000" swAng="-5400000"/>
                <a:lnTo>
                  <a:pt x="0" y="9211"/>
                </a:lnTo>
                <a:arcTo wR="21600" hR="9211" stAng="10800000" swAng="-168075"/>
                <a:lnTo>
                  <a:pt x="141" y="10261"/>
                </a:lnTo>
                <a:arcTo wR="21600" hR="9211" stAng="-10631925" swAng="5231925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9"/>
          <p:cNvSpPr/>
          <p:nvPr/>
        </p:nvSpPr>
        <p:spPr>
          <a:xfrm>
            <a:off x="1143000" y="1785960"/>
            <a:ext cx="1071720" cy="3571920"/>
          </a:xfrm>
          <a:custGeom>
            <a:avLst/>
            <a:gdLst>
              <a:gd name="textAreaLeft" fmla="*/ 143280 w 1071720"/>
              <a:gd name="textAreaRight" fmla="*/ 928440 w 1071720"/>
              <a:gd name="textAreaTop" fmla="*/ 772200 h 3571920"/>
              <a:gd name="textAreaBottom" fmla="*/ 2695320 h 3571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43" stAng="-5400000" swAng="-5400000"/>
                <a:lnTo>
                  <a:pt x="0" y="11628"/>
                </a:lnTo>
                <a:arcTo wR="21600" hR="9343" stAng="10800000" swAng="-2983655"/>
                <a:lnTo>
                  <a:pt x="14168" y="21030"/>
                </a:lnTo>
                <a:lnTo>
                  <a:pt x="21600" y="19828"/>
                </a:lnTo>
                <a:lnTo>
                  <a:pt x="14168" y="17485"/>
                </a:lnTo>
                <a:lnTo>
                  <a:pt x="14168" y="18115"/>
                </a:lnTo>
                <a:arcTo wR="21600" hR="9343" stAng="7816345" swAng="2800618"/>
                <a:lnTo>
                  <a:pt x="162" y="10485"/>
                </a:lnTo>
                <a:arcTo wR="21600" hR="9343" stAng="-10616964" swAng="5216964"/>
                <a:close/>
              </a:path>
              <a:path fill="darkenLess" w="21600" h="21600">
                <a:moveTo>
                  <a:pt x="21600" y="0"/>
                </a:moveTo>
                <a:arcTo wR="21600" hR="9343" stAng="-5400000" swAng="-5400000"/>
                <a:lnTo>
                  <a:pt x="0" y="9343"/>
                </a:lnTo>
                <a:arcTo wR="21600" hR="9343" stAng="10800000" swAng="-183036"/>
                <a:lnTo>
                  <a:pt x="162" y="10485"/>
                </a:lnTo>
                <a:arcTo wR="21600" hR="9343" stAng="-10616964" swAng="5216964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3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3000"/>
                            </p:stCondLst>
                            <p:childTnLst>
                              <p:par>
                                <p:cTn id="7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3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3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6000"/>
                            </p:stCondLst>
                            <p:childTnLst>
                              <p:par>
                                <p:cTn id="7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3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3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9000"/>
                            </p:stCondLst>
                            <p:childTnLst>
                              <p:par>
                                <p:cTn id="7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3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3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482" name="Прямоугольник 4" descr=""/>
          <p:cNvPicPr/>
          <p:nvPr/>
        </p:nvPicPr>
        <p:blipFill>
          <a:blip r:embed="rId3"/>
          <a:stretch/>
        </p:blipFill>
        <p:spPr>
          <a:xfrm>
            <a:off x="512640" y="1139760"/>
            <a:ext cx="2327400" cy="560520"/>
          </a:xfrm>
          <a:prstGeom prst="rect">
            <a:avLst/>
          </a:prstGeom>
          <a:ln w="0">
            <a:noFill/>
          </a:ln>
        </p:spPr>
      </p:pic>
      <p:sp>
        <p:nvSpPr>
          <p:cNvPr id="483" name="Прямая соединительная линия 5"/>
          <p:cNvSpPr/>
          <p:nvPr/>
        </p:nvSpPr>
        <p:spPr>
          <a:xfrm>
            <a:off x="3071880" y="1428840"/>
            <a:ext cx="214200" cy="1440"/>
          </a:xfrm>
          <a:prstGeom prst="line">
            <a:avLst/>
          </a:prstGeom>
          <a:ln w="28440">
            <a:solidFill>
              <a:srgbClr val="9393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TextBox 6"/>
          <p:cNvGrpSpPr/>
          <p:nvPr/>
        </p:nvGrpSpPr>
        <p:grpSpPr>
          <a:xfrm>
            <a:off x="3584520" y="1103400"/>
            <a:ext cx="5473800" cy="853920"/>
            <a:chOff x="3584520" y="1103400"/>
            <a:chExt cx="5473800" cy="853920"/>
          </a:xfrm>
        </p:grpSpPr>
        <p:pic>
          <p:nvPicPr>
            <p:cNvPr id="485" name="TextBox 6" descr=""/>
            <p:cNvPicPr/>
            <p:nvPr/>
          </p:nvPicPr>
          <p:blipFill>
            <a:blip r:embed="rId4"/>
            <a:stretch/>
          </p:blipFill>
          <p:spPr>
            <a:xfrm>
              <a:off x="3584520" y="1103400"/>
              <a:ext cx="547380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3643200" y="1143000"/>
              <a:ext cx="535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даданы член сказа, які абазначае характар дзеяння, стану або прыметы і адказвае на </a:t>
              </a:r>
              <a:r>
                <a:rPr b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ытанні як? дзе? чаму? па якой прычыне?</a:t>
              </a: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і інш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Прямоугольник 8"/>
          <p:cNvGrpSpPr/>
          <p:nvPr/>
        </p:nvGrpSpPr>
        <p:grpSpPr>
          <a:xfrm>
            <a:off x="1938240" y="2170080"/>
            <a:ext cx="4687920" cy="669960"/>
            <a:chOff x="1938240" y="2170080"/>
            <a:chExt cx="4687920" cy="669960"/>
          </a:xfrm>
        </p:grpSpPr>
        <p:pic>
          <p:nvPicPr>
            <p:cNvPr id="488" name="Прямоугольник 8" descr=""/>
            <p:cNvPicPr/>
            <p:nvPr/>
          </p:nvPicPr>
          <p:blipFill>
            <a:blip r:embed="rId5"/>
            <a:stretch/>
          </p:blipFill>
          <p:spPr>
            <a:xfrm>
              <a:off x="1938240" y="2170080"/>
              <a:ext cx="468792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2000160" y="2214720"/>
              <a:ext cx="45720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аводле  значэння  акалічнасці падзяляюцца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на  наступныя групы (віды):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Прямоугольник 9"/>
          <p:cNvGrpSpPr/>
          <p:nvPr/>
        </p:nvGrpSpPr>
        <p:grpSpPr>
          <a:xfrm>
            <a:off x="652320" y="3365640"/>
            <a:ext cx="2328840" cy="536400"/>
            <a:chOff x="652320" y="3365640"/>
            <a:chExt cx="2328840" cy="536400"/>
          </a:xfrm>
        </p:grpSpPr>
        <p:pic>
          <p:nvPicPr>
            <p:cNvPr id="491" name="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652320" y="3365640"/>
              <a:ext cx="23288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714240" y="3429000"/>
              <a:ext cx="221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месц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Прямоугольник 10"/>
          <p:cNvGrpSpPr/>
          <p:nvPr/>
        </p:nvGrpSpPr>
        <p:grpSpPr>
          <a:xfrm>
            <a:off x="4937040" y="3438360"/>
            <a:ext cx="2335320" cy="536760"/>
            <a:chOff x="4937040" y="3438360"/>
            <a:chExt cx="2335320" cy="536760"/>
          </a:xfrm>
        </p:grpSpPr>
        <p:pic>
          <p:nvPicPr>
            <p:cNvPr id="494" name="Прямоугольник 10" descr=""/>
            <p:cNvPicPr/>
            <p:nvPr/>
          </p:nvPicPr>
          <p:blipFill>
            <a:blip r:embed="rId7"/>
            <a:stretch/>
          </p:blipFill>
          <p:spPr>
            <a:xfrm>
              <a:off x="4937040" y="3438360"/>
              <a:ext cx="233532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5000760" y="3500280"/>
              <a:ext cx="221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час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Прямоугольник 11"/>
          <p:cNvGrpSpPr/>
          <p:nvPr/>
        </p:nvGrpSpPr>
        <p:grpSpPr>
          <a:xfrm>
            <a:off x="2724120" y="3938760"/>
            <a:ext cx="2328840" cy="536400"/>
            <a:chOff x="2724120" y="3938760"/>
            <a:chExt cx="2328840" cy="536400"/>
          </a:xfrm>
        </p:grpSpPr>
        <p:pic>
          <p:nvPicPr>
            <p:cNvPr id="497" name="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2724120" y="3938760"/>
              <a:ext cx="23288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2786040" y="4000680"/>
              <a:ext cx="221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прычы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Прямоугольник 12"/>
          <p:cNvGrpSpPr/>
          <p:nvPr/>
        </p:nvGrpSpPr>
        <p:grpSpPr>
          <a:xfrm>
            <a:off x="652320" y="4578480"/>
            <a:ext cx="2328840" cy="536400"/>
            <a:chOff x="652320" y="4578480"/>
            <a:chExt cx="2328840" cy="536400"/>
          </a:xfrm>
        </p:grpSpPr>
        <p:pic>
          <p:nvPicPr>
            <p:cNvPr id="500" name="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652320" y="4578480"/>
              <a:ext cx="23288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714240" y="4643280"/>
              <a:ext cx="221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мэ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Прямоугольник 13"/>
          <p:cNvGrpSpPr/>
          <p:nvPr/>
        </p:nvGrpSpPr>
        <p:grpSpPr>
          <a:xfrm>
            <a:off x="4937040" y="4511520"/>
            <a:ext cx="2335320" cy="536760"/>
            <a:chOff x="4937040" y="4511520"/>
            <a:chExt cx="2335320" cy="536760"/>
          </a:xfrm>
        </p:grpSpPr>
        <p:pic>
          <p:nvPicPr>
            <p:cNvPr id="503" name="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4937040" y="4511520"/>
              <a:ext cx="233532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5000760" y="4572000"/>
              <a:ext cx="221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спосабу дзеянн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Прямоугольник 14"/>
          <p:cNvGrpSpPr/>
          <p:nvPr/>
        </p:nvGrpSpPr>
        <p:grpSpPr>
          <a:xfrm>
            <a:off x="2938320" y="5151600"/>
            <a:ext cx="2328840" cy="536400"/>
            <a:chOff x="2938320" y="5151600"/>
            <a:chExt cx="2328840" cy="536400"/>
          </a:xfrm>
        </p:grpSpPr>
        <p:pic>
          <p:nvPicPr>
            <p:cNvPr id="506" name="Прямоугольник 14" descr=""/>
            <p:cNvPicPr/>
            <p:nvPr/>
          </p:nvPicPr>
          <p:blipFill>
            <a:blip r:embed="rId11"/>
            <a:stretch/>
          </p:blipFill>
          <p:spPr>
            <a:xfrm>
              <a:off x="2938320" y="5151600"/>
              <a:ext cx="23288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3000240" y="5214960"/>
              <a:ext cx="221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меры і ступен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Прямоугольник 15"/>
          <p:cNvGrpSpPr/>
          <p:nvPr/>
        </p:nvGrpSpPr>
        <p:grpSpPr>
          <a:xfrm>
            <a:off x="2938320" y="5864400"/>
            <a:ext cx="2328840" cy="536400"/>
            <a:chOff x="2938320" y="5864400"/>
            <a:chExt cx="2328840" cy="536400"/>
          </a:xfrm>
        </p:grpSpPr>
        <p:pic>
          <p:nvPicPr>
            <p:cNvPr id="509" name="Прямоугольник 15" descr=""/>
            <p:cNvPicPr/>
            <p:nvPr/>
          </p:nvPicPr>
          <p:blipFill>
            <a:blip r:embed="rId12"/>
            <a:stretch/>
          </p:blipFill>
          <p:spPr>
            <a:xfrm>
              <a:off x="2938320" y="5864400"/>
              <a:ext cx="23288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3000240" y="5929200"/>
              <a:ext cx="221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ўмовы і уступк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0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3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8000"/>
                            </p:stCondLst>
                            <p:childTnLst>
                              <p:par>
                                <p:cTn id="7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8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8000"/>
                            </p:stCondLst>
                            <p:childTnLst>
                              <p:par>
                                <p:cTn id="8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513" name="AutoShape 5"/>
          <p:cNvGrpSpPr/>
          <p:nvPr/>
        </p:nvGrpSpPr>
        <p:grpSpPr>
          <a:xfrm>
            <a:off x="4224240" y="103320"/>
            <a:ext cx="4834080" cy="1261800"/>
            <a:chOff x="4224240" y="103320"/>
            <a:chExt cx="4834080" cy="1261800"/>
          </a:xfrm>
        </p:grpSpPr>
        <p:pic>
          <p:nvPicPr>
            <p:cNvPr id="514" name="AutoShape 5" descr=""/>
            <p:cNvPicPr/>
            <p:nvPr/>
          </p:nvPicPr>
          <p:blipFill>
            <a:blip r:embed="rId3"/>
            <a:stretch/>
          </p:blipFill>
          <p:spPr>
            <a:xfrm>
              <a:off x="4224240" y="103320"/>
              <a:ext cx="4834080" cy="12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4286160" y="336600"/>
              <a:ext cx="4059360" cy="9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Акалічнасці звычайна выражаюцца прыслоўямі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ці назоўнікамі ва ўскосных склонах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Канверт быў (як?) </a:t>
              </a:r>
              <a:r>
                <a:rPr b="1" lang="be-BY" sz="11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акуратна</a:t>
              </a:r>
              <a:r>
                <a:rPr b="1" lang="be-BY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заклеены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Я. Скрыган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AutoShape 5"/>
          <p:cNvGrpSpPr/>
          <p:nvPr/>
        </p:nvGrpSpPr>
        <p:grpSpPr>
          <a:xfrm>
            <a:off x="152280" y="1322280"/>
            <a:ext cx="4834080" cy="1543320"/>
            <a:chOff x="152280" y="1322280"/>
            <a:chExt cx="4834080" cy="1543320"/>
          </a:xfrm>
        </p:grpSpPr>
        <p:pic>
          <p:nvPicPr>
            <p:cNvPr id="517" name="AutoShape 5" descr=""/>
            <p:cNvPicPr/>
            <p:nvPr/>
          </p:nvPicPr>
          <p:blipFill>
            <a:blip r:embed="rId4"/>
            <a:stretch/>
          </p:blipFill>
          <p:spPr>
            <a:xfrm>
              <a:off x="152280" y="1322280"/>
              <a:ext cx="4834080" cy="15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>
              <a:off x="214200" y="1600200"/>
              <a:ext cx="405936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Акалічнасці часу, спосабу дзеяння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прычыны, умовы часта выражаюцца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дзеепрыслоўямі  ці дзеепрыслоўнымі зваротамі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(Калі?) </a:t>
              </a:r>
              <a:r>
                <a:rPr b="1" i="1" lang="be-BY" sz="11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Назбіраўшы ягад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, дзяўчаты (як?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не спяшаючыся 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вярталіся дамоў. (Б. Сачанка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AutoShape 5"/>
          <p:cNvGrpSpPr/>
          <p:nvPr/>
        </p:nvGrpSpPr>
        <p:grpSpPr>
          <a:xfrm>
            <a:off x="3870360" y="2462040"/>
            <a:ext cx="4902120" cy="1549440"/>
            <a:chOff x="3870360" y="2462040"/>
            <a:chExt cx="4902120" cy="1549440"/>
          </a:xfrm>
        </p:grpSpPr>
        <p:pic>
          <p:nvPicPr>
            <p:cNvPr id="520" name="AutoShape 5" descr=""/>
            <p:cNvPicPr/>
            <p:nvPr/>
          </p:nvPicPr>
          <p:blipFill>
            <a:blip r:embed="rId5"/>
            <a:stretch/>
          </p:blipFill>
          <p:spPr>
            <a:xfrm>
              <a:off x="3870360" y="2462040"/>
              <a:ext cx="490212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3929040" y="2743200"/>
              <a:ext cx="412128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Акалічнасці мэты могуць быць выражаны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неазначальнай формай дзеяслова і непадзельным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словазлучэннем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Раман Сцяпанавіч ехаў увесну (з якой мэтай?)</a:t>
              </a:r>
              <a:r>
                <a:rPr b="1" i="1" lang="be-BY" sz="11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 наведац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маці. (Б. Сачанка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AutoShape 5"/>
          <p:cNvGrpSpPr/>
          <p:nvPr/>
        </p:nvGrpSpPr>
        <p:grpSpPr>
          <a:xfrm>
            <a:off x="152280" y="3962520"/>
            <a:ext cx="4900680" cy="1547640"/>
            <a:chOff x="152280" y="3962520"/>
            <a:chExt cx="4900680" cy="1547640"/>
          </a:xfrm>
        </p:grpSpPr>
        <p:pic>
          <p:nvPicPr>
            <p:cNvPr id="523" name="AutoShape 5" descr=""/>
            <p:cNvPicPr/>
            <p:nvPr/>
          </p:nvPicPr>
          <p:blipFill>
            <a:blip r:embed="rId6"/>
            <a:stretch/>
          </p:blipFill>
          <p:spPr>
            <a:xfrm>
              <a:off x="152280" y="3962520"/>
              <a:ext cx="4900680" cy="15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214200" y="4243320"/>
              <a:ext cx="412128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Акалічнасць спосабу дзеяння можа выражацц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параўнальным зваротам са злучнікам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як, нібы, быццам, як быццам</a:t>
              </a:r>
              <a:r>
                <a:rPr b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Працуюць бабры </a:t>
              </a:r>
              <a:r>
                <a:rPr b="1" i="1" lang="be-BY" sz="11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нібы заўзятыя гаспадары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(Я. Пархута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AutoShape 5"/>
          <p:cNvGrpSpPr/>
          <p:nvPr/>
        </p:nvGrpSpPr>
        <p:grpSpPr>
          <a:xfrm>
            <a:off x="3938760" y="5108400"/>
            <a:ext cx="4900320" cy="1616400"/>
            <a:chOff x="3938760" y="5108400"/>
            <a:chExt cx="4900320" cy="1616400"/>
          </a:xfrm>
        </p:grpSpPr>
        <p:pic>
          <p:nvPicPr>
            <p:cNvPr id="526" name="AutoShape 5" descr=""/>
            <p:cNvPicPr/>
            <p:nvPr/>
          </p:nvPicPr>
          <p:blipFill>
            <a:blip r:embed="rId7"/>
            <a:stretch/>
          </p:blipFill>
          <p:spPr>
            <a:xfrm>
              <a:off x="3938760" y="5108400"/>
              <a:ext cx="4900320" cy="161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4000680" y="5398920"/>
              <a:ext cx="412092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Акалічнасць звязваецца со словам, да яког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адносіцца, спосабам прымыкання ці кіравання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Пры кіраванні можа паяўляцца дадаткова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значэнне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(Дзе?) </a:t>
              </a:r>
              <a:r>
                <a:rPr b="1" i="1" lang="be-BY" sz="11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Над хвалямі 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лётаюць чайкі. (Р. Барадулін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тут дапускаецца і іншае пытанне 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над чым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0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5" dur="5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5000"/>
                            </p:stCondLst>
                            <p:childTnLst>
                              <p:par>
                                <p:cTn id="8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9" dur="5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3" dur="5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7" dur="5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20000"/>
                            </p:stCondLst>
                            <p:childTnLst>
                              <p:par>
                                <p:cTn id="8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1" dur="5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0" name=""/>
          <p:cNvGraphicFramePr/>
          <p:nvPr/>
        </p:nvGraphicFramePr>
        <p:xfrm>
          <a:off x="785880" y="142920"/>
          <a:ext cx="8001000" cy="5308560"/>
        </p:xfrm>
        <a:graphic>
          <a:graphicData uri="http://schemas.openxmlformats.org/drawingml/2006/table">
            <a:tbl>
              <a:tblPr/>
              <a:tblGrid>
                <a:gridCol w="1928880"/>
                <a:gridCol w="2214360"/>
                <a:gridCol w="38577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іды акалічнасц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аводле значэ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ытанн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ыкла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мес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3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дзе?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3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куды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3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адкуль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1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(Дзе?) </a:t>
                      </a:r>
                      <a:r>
                        <a:rPr b="1" i="1" lang="be-BY" sz="1100" spc="-1" strike="noStrike" u="sng">
                          <a:solidFill>
                            <a:srgbClr val="00007d"/>
                          </a:solidFill>
                          <a:uFillTx/>
                          <a:latin typeface="Times New Roman"/>
                          <a:ea typeface="Times New Roman"/>
                        </a:rPr>
                        <a:t>Паўсюль</a:t>
                      </a:r>
                      <a:r>
                        <a:rPr b="1" i="1" lang="be-BY" sz="11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 расцвілі рамонкі. (У. Жылка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1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Людзі ішлі (куды?) </a:t>
                      </a:r>
                      <a:r>
                        <a:rPr b="1" i="1" lang="be-BY" sz="1100" spc="-1" strike="noStrike" u="sng">
                          <a:solidFill>
                            <a:srgbClr val="00007d"/>
                          </a:solidFill>
                          <a:uFillTx/>
                          <a:latin typeface="Times New Roman"/>
                          <a:ea typeface="Times New Roman"/>
                        </a:rPr>
                        <a:t>ў лес</a:t>
                      </a:r>
                      <a:r>
                        <a:rPr b="1" i="1" lang="be-BY" sz="11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.(А. Ставер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1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(Адкуль?) </a:t>
                      </a:r>
                      <a:r>
                        <a:rPr b="1" i="1" lang="be-BY" sz="1100" spc="-1" strike="noStrike" u="sng">
                          <a:solidFill>
                            <a:srgbClr val="00007d"/>
                          </a:solidFill>
                          <a:uFillTx/>
                          <a:latin typeface="Times New Roman"/>
                          <a:ea typeface="Times New Roman"/>
                        </a:rPr>
                        <a:t>З захаду </a:t>
                      </a:r>
                      <a:r>
                        <a:rPr b="1" i="1" lang="be-BY" sz="11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ішла вайна. (Р. Сабаленка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час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3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калі? з якога часу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3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да якога часу? за які час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1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(Калі?) </a:t>
                      </a:r>
                      <a:r>
                        <a:rPr b="1" i="1" lang="be-BY" sz="1100" spc="-1" strike="noStrike" u="sng">
                          <a:solidFill>
                            <a:srgbClr val="00007d"/>
                          </a:solidFill>
                          <a:uFillTx/>
                          <a:latin typeface="Times New Roman"/>
                          <a:ea typeface="Times New Roman"/>
                        </a:rPr>
                        <a:t>Зімой</a:t>
                      </a:r>
                      <a:r>
                        <a:rPr b="1" i="1" lang="be-BY" sz="11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 на печцы не  сядзіцца. (Я. Кола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1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(З якога часу?) </a:t>
                      </a:r>
                      <a:r>
                        <a:rPr b="1" i="1" lang="be-BY" sz="1100" spc="-1" strike="noStrike" u="sng">
                          <a:solidFill>
                            <a:srgbClr val="00007d"/>
                          </a:solidFill>
                          <a:uFillTx/>
                          <a:latin typeface="Times New Roman"/>
                          <a:ea typeface="Times New Roman"/>
                        </a:rPr>
                        <a:t>З раніцы </a:t>
                      </a:r>
                      <a:r>
                        <a:rPr b="1" i="1" lang="be-BY" sz="11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(да якога часу?) </a:t>
                      </a:r>
                      <a:r>
                        <a:rPr b="1" i="1" lang="be-BY" sz="1100" spc="-1" strike="noStrike" u="sng">
                          <a:solidFill>
                            <a:srgbClr val="00007d"/>
                          </a:solidFill>
                          <a:uFillTx/>
                          <a:latin typeface="Times New Roman"/>
                          <a:ea typeface="Times New Roman"/>
                        </a:rPr>
                        <a:t>да вечара</a:t>
                      </a:r>
                      <a:r>
                        <a:rPr b="1" i="1" lang="be-BY" sz="11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 церусіў дробны дождж. (В. Быкаў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1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(За які час?) </a:t>
                      </a:r>
                      <a:r>
                        <a:rPr b="1" i="1" lang="be-BY" sz="1100" spc="-1" strike="noStrike" u="sng">
                          <a:solidFill>
                            <a:srgbClr val="00007d"/>
                          </a:solidFill>
                          <a:uFillTx/>
                          <a:latin typeface="Times New Roman"/>
                          <a:ea typeface="Times New Roman"/>
                        </a:rPr>
                        <a:t>За два тыдні </a:t>
                      </a:r>
                      <a:r>
                        <a:rPr b="1" i="1" lang="be-BY" sz="11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адрамантавалі стадыё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прычы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3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чаму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3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з якой прычыны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1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(Чаму?) </a:t>
                      </a:r>
                      <a:r>
                        <a:rPr b="1" i="1" lang="be-BY" sz="1100" spc="-1" strike="noStrike" u="sng">
                          <a:solidFill>
                            <a:srgbClr val="00007d"/>
                          </a:solidFill>
                          <a:uFillTx/>
                          <a:latin typeface="Times New Roman"/>
                          <a:ea typeface="Times New Roman"/>
                        </a:rPr>
                        <a:t>Чамусьці</a:t>
                      </a:r>
                      <a:r>
                        <a:rPr b="1" i="1" lang="be-BY" sz="11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 калгаснікі не паверылі старшыні. (Газета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1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(З якой прычыны?) </a:t>
                      </a:r>
                      <a:r>
                        <a:rPr b="1" i="1" lang="be-BY" sz="1100" spc="-1" strike="noStrike" u="sng">
                          <a:solidFill>
                            <a:srgbClr val="00007d"/>
                          </a:solidFill>
                          <a:uFillTx/>
                          <a:latin typeface="Times New Roman"/>
                          <a:ea typeface="Times New Roman"/>
                        </a:rPr>
                        <a:t>З прычыны добрай пагоды і святочнага дня</a:t>
                      </a:r>
                      <a:r>
                        <a:rPr b="1" i="1" lang="be-BY" sz="11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 сход асабліва мнагалюдны і шумны. (К. Крапіва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мэ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3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для каго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3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з якой мэтай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1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(Для чаго?) </a:t>
                      </a:r>
                      <a:r>
                        <a:rPr b="1" i="1" lang="be-BY" sz="1100" spc="-1" strike="noStrike" u="sng">
                          <a:solidFill>
                            <a:srgbClr val="00007d"/>
                          </a:solidFill>
                          <a:uFillTx/>
                          <a:latin typeface="Times New Roman"/>
                          <a:ea typeface="Times New Roman"/>
                        </a:rPr>
                        <a:t>Для шчасця вашага</a:t>
                      </a:r>
                      <a:r>
                        <a:rPr b="1" i="1" lang="be-BY" sz="11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, сыны, бацькі на ўсё гатовы. (П. Глебка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1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Вучні сабраліся (з якой мэтай?) </a:t>
                      </a:r>
                      <a:r>
                        <a:rPr b="1" i="1" lang="be-BY" sz="1100" spc="-1" strike="noStrike" u="sng">
                          <a:solidFill>
                            <a:srgbClr val="00007d"/>
                          </a:solidFill>
                          <a:uFillTx/>
                          <a:latin typeface="Times New Roman"/>
                          <a:ea typeface="Times New Roman"/>
                        </a:rPr>
                        <a:t>абмеркаваць праграму вечар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спосабу дзея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3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як? якім чынам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1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Дык яно ўсё і робіцца (як?) </a:t>
                      </a:r>
                      <a:r>
                        <a:rPr b="1" i="1" lang="be-BY" sz="1100" spc="-1" strike="noStrike" u="sng">
                          <a:solidFill>
                            <a:srgbClr val="00007d"/>
                          </a:solidFill>
                          <a:uFillTx/>
                          <a:latin typeface="Times New Roman"/>
                          <a:ea typeface="Times New Roman"/>
                        </a:rPr>
                        <a:t>па канец рук</a:t>
                      </a:r>
                      <a:r>
                        <a:rPr b="1" i="1" lang="be-BY" sz="11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. (К. Чорны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меры і ступен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3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колькі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3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як многа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3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у кой ступені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1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(Колькі?) </a:t>
                      </a:r>
                      <a:r>
                        <a:rPr b="1" i="1" lang="be-BY" sz="1100" spc="-1" strike="noStrike" u="sng">
                          <a:solidFill>
                            <a:srgbClr val="00007d"/>
                          </a:solidFill>
                          <a:uFillTx/>
                          <a:latin typeface="Times New Roman"/>
                          <a:ea typeface="Times New Roman"/>
                        </a:rPr>
                        <a:t>Столькі</a:t>
                      </a:r>
                      <a:r>
                        <a:rPr b="1" i="1" lang="be-BY" sz="11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 працы рукам! (І. Мележ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1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(У якой ступені?) </a:t>
                      </a:r>
                      <a:r>
                        <a:rPr b="1" i="1" lang="be-BY" sz="1100" spc="-1" strike="noStrike" u="sng">
                          <a:solidFill>
                            <a:srgbClr val="00007d"/>
                          </a:solidFill>
                          <a:uFillTx/>
                          <a:latin typeface="Times New Roman"/>
                          <a:ea typeface="Times New Roman"/>
                        </a:rPr>
                        <a:t>Страх як </a:t>
                      </a:r>
                      <a:r>
                        <a:rPr b="1" i="1" lang="be-BY" sz="11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хацелася яму мець такую кніжку. (Я. Колас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умовы і ўступк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3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пры якой умове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3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нягледзячы на што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1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(Пры якой умове?) </a:t>
                      </a:r>
                      <a:r>
                        <a:rPr b="1" i="1" lang="be-BY" sz="1100" spc="-1" strike="noStrike" u="sng">
                          <a:solidFill>
                            <a:srgbClr val="00007d"/>
                          </a:solidFill>
                          <a:uFillTx/>
                          <a:latin typeface="Times New Roman"/>
                          <a:ea typeface="Times New Roman"/>
                        </a:rPr>
                        <a:t>Пры пэўных умовах </a:t>
                      </a:r>
                      <a:r>
                        <a:rPr b="1" i="1" lang="be-BY" sz="11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сяўба будзе скончана. (Газета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1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(Нягледзячы на што?) </a:t>
                      </a:r>
                      <a:r>
                        <a:rPr b="1" i="1" lang="be-BY" sz="1100" spc="-1" strike="noStrike" u="sng">
                          <a:solidFill>
                            <a:srgbClr val="00007d"/>
                          </a:solidFill>
                          <a:uFillTx/>
                          <a:latin typeface="Times New Roman"/>
                          <a:ea typeface="Times New Roman"/>
                        </a:rPr>
                        <a:t>Нягледзячы на дождж</a:t>
                      </a:r>
                      <a:r>
                        <a:rPr b="1" i="1" lang="be-BY" sz="11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, сабраліся ў дарогу. (І. Мележ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533" name="TextBox 6"/>
          <p:cNvGrpSpPr/>
          <p:nvPr/>
        </p:nvGrpSpPr>
        <p:grpSpPr>
          <a:xfrm>
            <a:off x="2152800" y="1889280"/>
            <a:ext cx="6186240" cy="452160"/>
            <a:chOff x="2152800" y="1889280"/>
            <a:chExt cx="6186240" cy="452160"/>
          </a:xfrm>
        </p:grpSpPr>
        <p:pic>
          <p:nvPicPr>
            <p:cNvPr id="534" name="TextBox 6" descr=""/>
            <p:cNvPicPr/>
            <p:nvPr/>
          </p:nvPicPr>
          <p:blipFill>
            <a:blip r:embed="rId3"/>
            <a:stretch/>
          </p:blipFill>
          <p:spPr>
            <a:xfrm>
              <a:off x="2152800" y="1889280"/>
              <a:ext cx="6186240" cy="45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2230560" y="1944720"/>
              <a:ext cx="604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400" spc="-1" strike="noStrike" u="sng">
                  <a:solidFill>
                    <a:srgbClr val="00007d"/>
                  </a:solidFill>
                  <a:uFillTx/>
                  <a:latin typeface="Times New Roman"/>
                  <a:ea typeface="Times New Roman"/>
                </a:rPr>
                <a:t>Лугавы</a:t>
              </a:r>
              <a:r>
                <a:rPr b="1" i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be-BY" sz="1400" spc="-1" strike="noStrike" u="sng">
                  <a:solidFill>
                    <a:srgbClr val="00007d"/>
                  </a:solidFill>
                  <a:uFillTx/>
                  <a:latin typeface="Times New Roman"/>
                  <a:ea typeface="Times New Roman"/>
                </a:rPr>
                <a:t>туман</a:t>
              </a:r>
              <a:r>
                <a:rPr b="1" i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be-BY" sz="1400" spc="-1" strike="noStrike" u="sng">
                  <a:solidFill>
                    <a:srgbClr val="00007d"/>
                  </a:solidFill>
                  <a:uFillTx/>
                  <a:latin typeface="Times New Roman"/>
                  <a:ea typeface="Times New Roman"/>
                </a:rPr>
                <a:t>няспешна </a:t>
              </a:r>
              <a:r>
                <a:rPr b="1" i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be-BY" sz="1400" spc="-1" strike="noStrike" u="sng">
                  <a:solidFill>
                    <a:srgbClr val="00007d"/>
                  </a:solidFill>
                  <a:uFillTx/>
                  <a:latin typeface="Times New Roman"/>
                  <a:ea typeface="Times New Roman"/>
                </a:rPr>
                <a:t>адыходзіць</a:t>
              </a:r>
              <a:r>
                <a:rPr b="1" i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be-BY" sz="1400" spc="-1" strike="noStrike" u="sng">
                  <a:solidFill>
                    <a:srgbClr val="00007d"/>
                  </a:solidFill>
                  <a:uFillTx/>
                  <a:latin typeface="Times New Roman"/>
                  <a:ea typeface="Times New Roman"/>
                </a:rPr>
                <a:t>за  раку</a:t>
              </a:r>
              <a:r>
                <a:rPr b="1" i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. (Я. Маўр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TextBox 8"/>
          <p:cNvGrpSpPr/>
          <p:nvPr/>
        </p:nvGrpSpPr>
        <p:grpSpPr>
          <a:xfrm>
            <a:off x="225360" y="2462040"/>
            <a:ext cx="1901880" cy="420840"/>
            <a:chOff x="225360" y="2462040"/>
            <a:chExt cx="1901880" cy="420840"/>
          </a:xfrm>
        </p:grpSpPr>
        <p:pic>
          <p:nvPicPr>
            <p:cNvPr id="537" name="TextBox 8" descr=""/>
            <p:cNvPicPr/>
            <p:nvPr/>
          </p:nvPicPr>
          <p:blipFill>
            <a:blip r:embed="rId4"/>
            <a:stretch/>
          </p:blipFill>
          <p:spPr>
            <a:xfrm>
              <a:off x="225360" y="2462040"/>
              <a:ext cx="19018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"/>
            <p:cNvSpPr/>
            <p:nvPr/>
          </p:nvSpPr>
          <p:spPr>
            <a:xfrm>
              <a:off x="285840" y="2500200"/>
              <a:ext cx="1785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Вусны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TextBox 9"/>
          <p:cNvGrpSpPr/>
          <p:nvPr/>
        </p:nvGrpSpPr>
        <p:grpSpPr>
          <a:xfrm>
            <a:off x="2152800" y="2462040"/>
            <a:ext cx="6259320" cy="2481480"/>
            <a:chOff x="2152800" y="2462040"/>
            <a:chExt cx="6259320" cy="2481480"/>
          </a:xfrm>
        </p:grpSpPr>
        <p:pic>
          <p:nvPicPr>
            <p:cNvPr id="540" name="TextBox 9" descr=""/>
            <p:cNvPicPr/>
            <p:nvPr/>
          </p:nvPicPr>
          <p:blipFill>
            <a:blip r:embed="rId5"/>
            <a:stretch/>
          </p:blipFill>
          <p:spPr>
            <a:xfrm>
              <a:off x="2152800" y="2462040"/>
              <a:ext cx="6259320" cy="24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2214720" y="2500200"/>
              <a:ext cx="6143400" cy="23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Сказ просты, апавядальны, няклічны, двухсастаўны, развіты, поўны. Граматычная аснова – 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туман адыходзіць</a:t>
              </a: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(Што?) 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туман</a:t>
              </a:r>
              <a:r>
                <a:rPr b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</a:t>
              </a: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– дзейнік, выражаны назоўнікам у форме Н. скл., адз. л.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туман</a:t>
              </a:r>
              <a:r>
                <a:rPr b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</a:t>
              </a: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(што робіць?) 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адыходзіць</a:t>
              </a: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– просты дзеяслоўны выказнік, выражаны дзеясловам у форме абв. ладу, цяп. ч., 3-й ас., адз. л.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туман</a:t>
              </a: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(які?) 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лугавы</a:t>
              </a: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– дапасаванае азначэнне, выражана прыметнікам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адыходзіць</a:t>
              </a: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(як?) 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няспешна</a:t>
              </a: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– акалічнасць спосабу дзеяння, выражана прыслоўем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адыходзіць</a:t>
              </a: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(куды?) 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за раку </a:t>
              </a: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– акалічнасць месца, выражана  назоўнікам у форме В. скл. з прыназоўнікам за</a:t>
              </a:r>
              <a:r>
                <a:rPr b="1" i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TextBox 10"/>
          <p:cNvGrpSpPr/>
          <p:nvPr/>
        </p:nvGrpSpPr>
        <p:grpSpPr>
          <a:xfrm>
            <a:off x="152280" y="1889280"/>
            <a:ext cx="1901880" cy="420480"/>
            <a:chOff x="152280" y="1889280"/>
            <a:chExt cx="1901880" cy="420480"/>
          </a:xfrm>
        </p:grpSpPr>
        <p:pic>
          <p:nvPicPr>
            <p:cNvPr id="543" name="TextBox 10" descr=""/>
            <p:cNvPicPr/>
            <p:nvPr/>
          </p:nvPicPr>
          <p:blipFill>
            <a:blip r:embed="rId6"/>
            <a:stretch/>
          </p:blipFill>
          <p:spPr>
            <a:xfrm>
              <a:off x="152280" y="1889280"/>
              <a:ext cx="190188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214200" y="1928880"/>
              <a:ext cx="1785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Пісьмовы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TextBox 11"/>
          <p:cNvGrpSpPr/>
          <p:nvPr/>
        </p:nvGrpSpPr>
        <p:grpSpPr>
          <a:xfrm>
            <a:off x="2011320" y="878040"/>
            <a:ext cx="5900760" cy="463320"/>
            <a:chOff x="2011320" y="878040"/>
            <a:chExt cx="5900760" cy="463320"/>
          </a:xfrm>
        </p:grpSpPr>
        <p:pic>
          <p:nvPicPr>
            <p:cNvPr id="546" name="TextBox 11" descr=""/>
            <p:cNvPicPr/>
            <p:nvPr/>
          </p:nvPicPr>
          <p:blipFill>
            <a:blip r:embed="rId7"/>
            <a:stretch/>
          </p:blipFill>
          <p:spPr>
            <a:xfrm>
              <a:off x="2011320" y="878040"/>
              <a:ext cx="590076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2071800" y="928800"/>
              <a:ext cx="578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Сінтаксічны разбор двухсастаўнага ска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0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3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3000"/>
                            </p:stCondLst>
                            <p:childTnLst>
                              <p:par>
                                <p:cTn id="8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3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6000"/>
                            </p:stCondLst>
                            <p:childTnLst>
                              <p:par>
                                <p:cTn id="8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3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900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3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23" name="Схема 4" descr=""/>
          <p:cNvPicPr/>
          <p:nvPr/>
        </p:nvPicPr>
        <p:blipFill>
          <a:blip r:embed="rId3"/>
          <a:stretch/>
        </p:blipFill>
        <p:spPr>
          <a:xfrm>
            <a:off x="652320" y="781200"/>
            <a:ext cx="7905960" cy="4724280"/>
          </a:xfrm>
          <a:prstGeom prst="rect">
            <a:avLst/>
          </a:prstGeom>
          <a:ln w="0">
            <a:noFill/>
          </a:ln>
        </p:spPr>
      </p:pic>
      <p:grpSp>
        <p:nvGrpSpPr>
          <p:cNvPr id="124" name="Группа 7"/>
          <p:cNvGrpSpPr/>
          <p:nvPr/>
        </p:nvGrpSpPr>
        <p:grpSpPr>
          <a:xfrm>
            <a:off x="1857240" y="1999800"/>
            <a:ext cx="4145400" cy="286200"/>
            <a:chOff x="1857240" y="1999800"/>
            <a:chExt cx="4145400" cy="286200"/>
          </a:xfrm>
        </p:grpSpPr>
        <p:cxnSp>
          <p:nvCxnSpPr>
            <p:cNvPr id="125" name="Прямая со стрелкой 6"/>
            <p:cNvCxnSpPr/>
            <p:nvPr/>
          </p:nvCxnSpPr>
          <p:spPr>
            <a:xfrm flipV="1">
              <a:off x="1857240" y="2071080"/>
              <a:ext cx="2160" cy="215280"/>
            </a:xfrm>
            <a:prstGeom prst="straightConnector1">
              <a:avLst/>
            </a:prstGeom>
            <a:ln w="19080">
              <a:solidFill>
                <a:srgbClr val="0000e5"/>
              </a:solidFill>
              <a:miter/>
              <a:tailEnd len="med" type="arrow" w="med"/>
            </a:ln>
          </p:spPr>
        </p:cxnSp>
        <p:cxnSp>
          <p:nvCxnSpPr>
            <p:cNvPr id="126" name="Прямая со стрелкой 8"/>
            <p:cNvCxnSpPr/>
            <p:nvPr/>
          </p:nvCxnSpPr>
          <p:spPr>
            <a:xfrm flipV="1">
              <a:off x="4000320" y="2071080"/>
              <a:ext cx="2160" cy="215280"/>
            </a:xfrm>
            <a:prstGeom prst="straightConnector1">
              <a:avLst/>
            </a:prstGeom>
            <a:ln w="19080">
              <a:solidFill>
                <a:srgbClr val="0000e5"/>
              </a:solidFill>
              <a:miter/>
              <a:tailEnd len="med" type="arrow" w="med"/>
            </a:ln>
          </p:spPr>
        </p:cxnSp>
        <p:cxnSp>
          <p:nvCxnSpPr>
            <p:cNvPr id="127" name="Прямая со стрелкой 9"/>
            <p:cNvCxnSpPr/>
            <p:nvPr/>
          </p:nvCxnSpPr>
          <p:spPr>
            <a:xfrm flipV="1">
              <a:off x="6000840" y="1999800"/>
              <a:ext cx="2160" cy="215280"/>
            </a:xfrm>
            <a:prstGeom prst="straightConnector1">
              <a:avLst/>
            </a:prstGeom>
            <a:ln w="19080">
              <a:solidFill>
                <a:srgbClr val="0000e5"/>
              </a:solidFill>
              <a:miter/>
              <a:tailEnd len="med" type="arrow" w="med"/>
            </a:ln>
          </p:spPr>
        </p:cxn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0" descr="logo 21"/>
          <p:cNvPicPr/>
          <p:nvPr/>
        </p:nvPicPr>
        <p:blipFill>
          <a:blip r:embed="rId1"/>
          <a:stretch/>
        </p:blipFill>
        <p:spPr>
          <a:xfrm>
            <a:off x="6138720" y="5638680"/>
            <a:ext cx="3011760" cy="1225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4" descr=""/>
          <p:cNvPicPr/>
          <p:nvPr/>
        </p:nvPicPr>
        <p:blipFill>
          <a:blip r:embed="rId3"/>
          <a:stretch/>
        </p:blipFill>
        <p:spPr>
          <a:xfrm>
            <a:off x="2730600" y="884160"/>
            <a:ext cx="3609720" cy="639720"/>
          </a:xfrm>
          <a:prstGeom prst="rect">
            <a:avLst/>
          </a:prstGeom>
          <a:ln w="0">
            <a:noFill/>
          </a:ln>
        </p:spPr>
      </p:pic>
      <p:pic>
        <p:nvPicPr>
          <p:cNvPr id="131" name="Схема 5" descr=""/>
          <p:cNvPicPr/>
          <p:nvPr/>
        </p:nvPicPr>
        <p:blipFill>
          <a:blip r:embed="rId4"/>
          <a:stretch/>
        </p:blipFill>
        <p:spPr>
          <a:xfrm>
            <a:off x="1285920" y="1920960"/>
            <a:ext cx="7151760" cy="407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4" descr=""/>
          <p:cNvPicPr/>
          <p:nvPr/>
        </p:nvPicPr>
        <p:blipFill>
          <a:blip r:embed="rId3"/>
          <a:stretch/>
        </p:blipFill>
        <p:spPr>
          <a:xfrm>
            <a:off x="2803680" y="1096920"/>
            <a:ext cx="3182760" cy="426960"/>
          </a:xfrm>
          <a:prstGeom prst="rect">
            <a:avLst/>
          </a:prstGeom>
          <a:ln w="0">
            <a:noFill/>
          </a:ln>
        </p:spPr>
      </p:pic>
      <p:pic>
        <p:nvPicPr>
          <p:cNvPr id="135" name="Прямоугольник 5" descr=""/>
          <p:cNvPicPr/>
          <p:nvPr/>
        </p:nvPicPr>
        <p:blipFill>
          <a:blip r:embed="rId4"/>
          <a:stretch/>
        </p:blipFill>
        <p:spPr>
          <a:xfrm>
            <a:off x="3224160" y="1736640"/>
            <a:ext cx="2328840" cy="433440"/>
          </a:xfrm>
          <a:prstGeom prst="rect">
            <a:avLst/>
          </a:prstGeom>
          <a:ln w="0">
            <a:noFill/>
          </a:ln>
        </p:spPr>
      </p:pic>
      <p:grpSp>
        <p:nvGrpSpPr>
          <p:cNvPr id="136" name="TextBox 7"/>
          <p:cNvGrpSpPr/>
          <p:nvPr/>
        </p:nvGrpSpPr>
        <p:grpSpPr>
          <a:xfrm>
            <a:off x="1152360" y="2724120"/>
            <a:ext cx="6473880" cy="1427040"/>
            <a:chOff x="1152360" y="2724120"/>
            <a:chExt cx="6473880" cy="1427040"/>
          </a:xfrm>
        </p:grpSpPr>
        <p:pic>
          <p:nvPicPr>
            <p:cNvPr id="137" name="TextBox 7" descr=""/>
            <p:cNvPicPr/>
            <p:nvPr/>
          </p:nvPicPr>
          <p:blipFill>
            <a:blip r:embed="rId5"/>
            <a:stretch/>
          </p:blipFill>
          <p:spPr>
            <a:xfrm>
              <a:off x="1152360" y="2724120"/>
              <a:ext cx="647388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1214280" y="2786040"/>
              <a:ext cx="6357960" cy="12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Дзейнік –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гэта галоўны член сказа, які абазначае прадмет мовы (думкі); з’яўляецца носьбітам прыметы, абазначанай выказнікам, і адказвае на пытанні назоўнага склону   хто?    што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Нават космас сівы перайначым (хто?) </a:t>
              </a:r>
              <a:r>
                <a:rPr b="1" i="1" lang="be-BY" sz="12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мы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. (Р. Барадулін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Пад ветрам вольна гайдалася (што?) </a:t>
              </a:r>
              <a:r>
                <a:rPr b="1" i="1" lang="be-BY" sz="12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калоссе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.(М. Машар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4" descr=""/>
          <p:cNvPicPr/>
          <p:nvPr/>
        </p:nvPicPr>
        <p:blipFill>
          <a:blip r:embed="rId3"/>
          <a:stretch/>
        </p:blipFill>
        <p:spPr>
          <a:xfrm>
            <a:off x="2298600" y="66600"/>
            <a:ext cx="4827600" cy="56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"/>
          <p:cNvGraphicFramePr/>
          <p:nvPr/>
        </p:nvGraphicFramePr>
        <p:xfrm>
          <a:off x="785880" y="714240"/>
          <a:ext cx="7643880" cy="5562720"/>
        </p:xfrm>
        <a:graphic>
          <a:graphicData uri="http://schemas.openxmlformats.org/drawingml/2006/table">
            <a:tbl>
              <a:tblPr/>
              <a:tblGrid>
                <a:gridCol w="3429000"/>
                <a:gridCol w="4214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Часціна мов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ыкла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назоўнік у назоўным скло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200" spc="-1" strike="noStrike" u="sng">
                          <a:solidFill>
                            <a:srgbClr val="0000e5"/>
                          </a:solidFill>
                          <a:uFillTx/>
                          <a:latin typeface="Times New Roman"/>
                          <a:ea typeface="Times New Roman"/>
                        </a:rPr>
                        <a:t>Холад</a:t>
                      </a:r>
                      <a:r>
                        <a:rPr b="1" i="1" lang="be-BY" sz="1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 прабіраў да касц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іншая часціна мовы ў значэнні назоўні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прыметн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200" spc="-1" strike="noStrike" u="sng">
                          <a:solidFill>
                            <a:srgbClr val="0000e5"/>
                          </a:solidFill>
                          <a:uFillTx/>
                          <a:latin typeface="Times New Roman"/>
                          <a:ea typeface="Times New Roman"/>
                        </a:rPr>
                        <a:t>Разумны</a:t>
                      </a:r>
                      <a:r>
                        <a:rPr b="1" i="1" lang="be-BY" sz="1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 нікому дрэннага не зробіц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займеннік у назоўным скло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200" spc="-1" strike="noStrike" u="sng">
                          <a:solidFill>
                            <a:srgbClr val="0000e5"/>
                          </a:solidFill>
                          <a:uFillTx/>
                          <a:latin typeface="Times New Roman"/>
                          <a:ea typeface="Times New Roman"/>
                        </a:rPr>
                        <a:t>Вы</a:t>
                      </a:r>
                      <a:r>
                        <a:rPr b="1" i="1" lang="be-BY" sz="1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 робіце добрую справ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неазначальная форма дзеясло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200" spc="-1" strike="noStrike" u="sng">
                          <a:solidFill>
                            <a:srgbClr val="0000e5"/>
                          </a:solidFill>
                          <a:uFillTx/>
                          <a:latin typeface="Times New Roman"/>
                          <a:ea typeface="Times New Roman"/>
                        </a:rPr>
                        <a:t>Любіць</a:t>
                      </a:r>
                      <a:r>
                        <a:rPr b="1" i="1" lang="be-BY" sz="1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 літаратуру – значыць любіць сло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дзеепрыметн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200" spc="-1" strike="noStrike" u="sng">
                          <a:solidFill>
                            <a:srgbClr val="0000e5"/>
                          </a:solidFill>
                          <a:uFillTx/>
                          <a:latin typeface="Times New Roman"/>
                          <a:ea typeface="Times New Roman"/>
                        </a:rPr>
                        <a:t>Забытае</a:t>
                      </a:r>
                      <a:r>
                        <a:rPr b="1" i="1" lang="be-BY" sz="1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 часта вяртаецца ў памяц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лічэбн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200" spc="-1" strike="noStrike" u="sng">
                          <a:solidFill>
                            <a:srgbClr val="0000e5"/>
                          </a:solidFill>
                          <a:uFillTx/>
                          <a:latin typeface="Times New Roman"/>
                          <a:ea typeface="Times New Roman"/>
                        </a:rPr>
                        <a:t>Дзесяць</a:t>
                      </a:r>
                      <a:r>
                        <a:rPr b="1" i="1" lang="be-BY" sz="1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 дзеліцца на д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прыслоў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Прыйшло чаканае </a:t>
                      </a:r>
                      <a:r>
                        <a:rPr b="1" i="1" lang="be-BY" sz="1200" spc="-1" strike="noStrike" u="sng">
                          <a:solidFill>
                            <a:srgbClr val="0000e5"/>
                          </a:solidFill>
                          <a:uFillTx/>
                          <a:latin typeface="Times New Roman"/>
                          <a:ea typeface="Times New Roman"/>
                        </a:rPr>
                        <a:t>паслязаўтра</a:t>
                      </a:r>
                      <a:r>
                        <a:rPr b="1" i="1" lang="be-BY" sz="1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выклічн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Здалёк пачулася “</a:t>
                      </a:r>
                      <a:r>
                        <a:rPr b="1" i="1" lang="be-BY" sz="1200" spc="-1" strike="noStrike" u="sng">
                          <a:solidFill>
                            <a:srgbClr val="0000e5"/>
                          </a:solidFill>
                          <a:uFillTx/>
                          <a:latin typeface="Times New Roman"/>
                          <a:ea typeface="Times New Roman"/>
                        </a:rPr>
                        <a:t>ура</a:t>
                      </a:r>
                      <a:r>
                        <a:rPr b="1" i="1" lang="be-BY" sz="1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”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прыназоўні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200" spc="-1" strike="noStrike" u="sng">
                          <a:solidFill>
                            <a:srgbClr val="0000e5"/>
                          </a:solidFill>
                          <a:uFillTx/>
                          <a:latin typeface="Times New Roman"/>
                          <a:ea typeface="Times New Roman"/>
                        </a:rPr>
                        <a:t>Ад</a:t>
                      </a:r>
                      <a:r>
                        <a:rPr b="1" i="1" lang="be-BY" sz="1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 – прыназоўні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злучнік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200" spc="-1" strike="noStrike" u="sng">
                          <a:solidFill>
                            <a:srgbClr val="0000e5"/>
                          </a:solidFill>
                          <a:uFillTx/>
                          <a:latin typeface="Times New Roman"/>
                          <a:ea typeface="Times New Roman"/>
                        </a:rPr>
                        <a:t>Але</a:t>
                      </a:r>
                      <a:r>
                        <a:rPr b="1" i="1" lang="be-BY" sz="1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 – супраціўны злучні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фразеалагіз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У паветры кружаць </a:t>
                      </a:r>
                      <a:r>
                        <a:rPr b="1" i="1" lang="be-BY" sz="1200" spc="-1" strike="noStrike" u="sng">
                          <a:solidFill>
                            <a:srgbClr val="0000e5"/>
                          </a:solidFill>
                          <a:uFillTx/>
                          <a:latin typeface="Times New Roman"/>
                          <a:ea typeface="Times New Roman"/>
                        </a:rPr>
                        <a:t>белыя мухі</a:t>
                      </a:r>
                      <a:r>
                        <a:rPr b="1" i="1" lang="be-BY" sz="1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уласная назва з некалькіх сло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200" spc="-1" strike="noStrike" u="sng">
                          <a:solidFill>
                            <a:srgbClr val="0000e5"/>
                          </a:solidFill>
                          <a:uFillTx/>
                          <a:latin typeface="Times New Roman"/>
                          <a:ea typeface="Times New Roman"/>
                        </a:rPr>
                        <a:t>Белавежская пушча </a:t>
                      </a:r>
                      <a:r>
                        <a:rPr b="1" i="1" lang="be-BY" sz="1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сустрэла нас ветлі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сінтаксічнае непадзельнае словазлучэн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200" spc="-1" strike="noStrike" u="sng">
                          <a:solidFill>
                            <a:srgbClr val="0000e5"/>
                          </a:solidFill>
                          <a:uFillTx/>
                          <a:latin typeface="Times New Roman"/>
                          <a:ea typeface="Times New Roman"/>
                        </a:rPr>
                        <a:t>Віця з Сашам </a:t>
                      </a:r>
                      <a:r>
                        <a:rPr b="1" i="1" lang="be-BY" sz="1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пайшлі ў грыб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45" name="Прямоугольник 4" descr=""/>
          <p:cNvPicPr/>
          <p:nvPr/>
        </p:nvPicPr>
        <p:blipFill>
          <a:blip r:embed="rId3"/>
          <a:stretch/>
        </p:blipFill>
        <p:spPr>
          <a:xfrm>
            <a:off x="3151080" y="950760"/>
            <a:ext cx="3048120" cy="433440"/>
          </a:xfrm>
          <a:prstGeom prst="rect">
            <a:avLst/>
          </a:prstGeom>
          <a:ln w="0">
            <a:noFill/>
          </a:ln>
        </p:spPr>
      </p:pic>
      <p:grpSp>
        <p:nvGrpSpPr>
          <p:cNvPr id="146" name="TextBox 5"/>
          <p:cNvGrpSpPr/>
          <p:nvPr/>
        </p:nvGrpSpPr>
        <p:grpSpPr>
          <a:xfrm>
            <a:off x="1511280" y="2109960"/>
            <a:ext cx="5761080" cy="3151080"/>
            <a:chOff x="1511280" y="2109960"/>
            <a:chExt cx="5761080" cy="3151080"/>
          </a:xfrm>
        </p:grpSpPr>
        <p:pic>
          <p:nvPicPr>
            <p:cNvPr id="147" name="TextBox 5" descr=""/>
            <p:cNvPicPr/>
            <p:nvPr/>
          </p:nvPicPr>
          <p:blipFill>
            <a:blip r:embed="rId4"/>
            <a:stretch/>
          </p:blipFill>
          <p:spPr>
            <a:xfrm>
              <a:off x="1511280" y="2109960"/>
              <a:ext cx="5761080" cy="31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719360" y="2290680"/>
              <a:ext cx="5348160" cy="27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Выказнік –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гэта галоўны член сказа, які звычайна дапасуецца да дзейніка і мае значэнне, выражанае ў пытаннях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3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што робіць прадмет (асоба)?: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Прытка </a:t>
              </a:r>
              <a:r>
                <a:rPr b="1" i="1" lang="be-BY" sz="13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дзед</a:t>
              </a: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be-BY" sz="13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запраўляе</a:t>
              </a: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сяўню. (А. Пісарык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што з ім робіцца ці адбываецца?: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Сонца</a:t>
              </a:r>
              <a:r>
                <a:rPr b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</a:t>
              </a:r>
              <a:r>
                <a:rPr b="1" lang="be-BY" sz="13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падымаецца</a:t>
              </a:r>
              <a:r>
                <a:rPr b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над лесам. (Я. Скрыган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які ён?: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Мішка</a:t>
              </a:r>
              <a:r>
                <a:rPr b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</a:t>
              </a:r>
              <a:r>
                <a:rPr b="1" lang="be-BY" sz="13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не “зялёны” </a:t>
              </a:r>
              <a:r>
                <a:rPr b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ў гэтай справе. (М. Лынькоў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хто ён такі?: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Ігар Лучанок </a:t>
              </a:r>
              <a:r>
                <a:rPr b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– </a:t>
              </a:r>
              <a:r>
                <a:rPr b="1" lang="be-BY" sz="13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кампазітар</a:t>
              </a:r>
              <a:r>
                <a:rPr b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што ён такое?: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Дзейнік</a:t>
              </a:r>
              <a:r>
                <a:rPr b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– галоўны </a:t>
              </a:r>
              <a:r>
                <a:rPr b="1" lang="be-BY" sz="13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член сказа</a:t>
              </a:r>
              <a:r>
                <a:rPr b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151" name="TextBox 4"/>
          <p:cNvGrpSpPr/>
          <p:nvPr/>
        </p:nvGrpSpPr>
        <p:grpSpPr>
          <a:xfrm>
            <a:off x="1438200" y="1749600"/>
            <a:ext cx="5614920" cy="2877840"/>
            <a:chOff x="1438200" y="1749600"/>
            <a:chExt cx="5614920" cy="2877840"/>
          </a:xfrm>
        </p:grpSpPr>
        <p:pic>
          <p:nvPicPr>
            <p:cNvPr id="152" name="TextBox 4" descr=""/>
            <p:cNvPicPr/>
            <p:nvPr/>
          </p:nvPicPr>
          <p:blipFill>
            <a:blip r:embed="rId3"/>
            <a:stretch/>
          </p:blipFill>
          <p:spPr>
            <a:xfrm>
              <a:off x="1438200" y="1749600"/>
              <a:ext cx="5614920" cy="28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1635120" y="1920960"/>
              <a:ext cx="5230800" cy="24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Выказнік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выражаны адным дзеясловам у форме якога-небудзь ладу (умоўнага, абвеснага або загаднага), называецца </a:t>
              </a:r>
              <a:r>
                <a:rPr b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ростым дзеяслоўным</a:t>
              </a: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Абходзіў 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важна гаспадар свае абсеяныя межы. (Я. Купал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Ляцяць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высока жураўлі. (Я. Янішчыц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Яшчэ лепш мы </a:t>
              </a:r>
              <a:r>
                <a:rPr b="1" i="1" lang="be-BY" sz="12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будзем жыць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. (Газет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у гэтых сказах дзеясловы-выказнікі маюць формы адпаведна прошлага, цяперашняга і будучага складанага часу абвеснага ладу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Пры належнай падтрымцы дзяржавы спартсмены </a:t>
              </a:r>
              <a:r>
                <a:rPr b="1" i="1" lang="be-BY" sz="12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спаборнічалі б  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яшчэ больш паспяхова. (Газет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</a:t>
              </a: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- выказнік выражаны дзеясловам умоўнага ладу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Вы з сабою ў паход песню</a:t>
              </a:r>
              <a:r>
                <a:rPr b="1" i="1" lang="be-BY" sz="12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 вазьміце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! (П. Глебка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– </a:t>
              </a: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выказнік выражаны дзеясловам загаднага ладу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Прямоугольник 5" descr=""/>
          <p:cNvPicPr/>
          <p:nvPr/>
        </p:nvPicPr>
        <p:blipFill>
          <a:blip r:embed="rId4"/>
          <a:stretch/>
        </p:blipFill>
        <p:spPr>
          <a:xfrm>
            <a:off x="2054160" y="853920"/>
            <a:ext cx="4091040" cy="560520"/>
          </a:xfrm>
          <a:prstGeom prst="rect">
            <a:avLst/>
          </a:prstGeom>
          <a:ln w="0">
            <a:noFill/>
          </a:ln>
        </p:spPr>
      </p:pic>
      <p:grpSp>
        <p:nvGrpSpPr>
          <p:cNvPr id="155" name="TextBox 6"/>
          <p:cNvGrpSpPr/>
          <p:nvPr/>
        </p:nvGrpSpPr>
        <p:grpSpPr>
          <a:xfrm>
            <a:off x="2938320" y="4962600"/>
            <a:ext cx="5608800" cy="1109520"/>
            <a:chOff x="2938320" y="4962600"/>
            <a:chExt cx="5608800" cy="1109520"/>
          </a:xfrm>
        </p:grpSpPr>
        <p:pic>
          <p:nvPicPr>
            <p:cNvPr id="156" name="TextBox 6" descr=""/>
            <p:cNvPicPr/>
            <p:nvPr/>
          </p:nvPicPr>
          <p:blipFill>
            <a:blip r:embed="rId5"/>
            <a:stretch/>
          </p:blipFill>
          <p:spPr>
            <a:xfrm>
              <a:off x="2938320" y="4962600"/>
              <a:ext cx="560880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3048120" y="5048280"/>
              <a:ext cx="539568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росты дзеяслоўны выказнік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можа </a:t>
              </a: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выражацца фразеалагічнымі адзінкамі і спалучэннямі тыпу </a:t>
              </a: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даць згоду</a:t>
              </a: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аказаць падтрымку</a:t>
              </a: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Мае зёлкі яго хутка </a:t>
              </a:r>
              <a:r>
                <a:rPr b="1" i="1" lang="be-BY" sz="12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на ногі паставяць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. (В.Вольскі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60" name="Прямоугольник 4" descr=""/>
          <p:cNvPicPr/>
          <p:nvPr/>
        </p:nvPicPr>
        <p:blipFill>
          <a:blip r:embed="rId3"/>
          <a:stretch/>
        </p:blipFill>
        <p:spPr>
          <a:xfrm>
            <a:off x="2298600" y="1090440"/>
            <a:ext cx="4827600" cy="646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1" name=""/>
          <p:cNvGraphicFramePr/>
          <p:nvPr/>
        </p:nvGraphicFramePr>
        <p:xfrm>
          <a:off x="785880" y="2571840"/>
          <a:ext cx="7858080" cy="2460600"/>
        </p:xfrm>
        <a:graphic>
          <a:graphicData uri="http://schemas.openxmlformats.org/drawingml/2006/table">
            <a:tbl>
              <a:tblPr/>
              <a:tblGrid>
                <a:gridCol w="3929040"/>
                <a:gridCol w="392904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Формы дзеясл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ыкла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3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абвесны лад (цяперашні, прошлы, будучы просты і будучы складаны час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Сонца </a:t>
                      </a:r>
                      <a:r>
                        <a:rPr b="1" i="1" lang="be-BY" sz="1200" spc="-1" strike="noStrike" u="sng">
                          <a:solidFill>
                            <a:srgbClr val="0000e5"/>
                          </a:solidFill>
                          <a:uFillTx/>
                          <a:latin typeface="Times New Roman"/>
                          <a:ea typeface="Times New Roman"/>
                        </a:rPr>
                        <a:t>ўзыходзіць</a:t>
                      </a:r>
                      <a:r>
                        <a:rPr b="1" i="1" lang="be-BY" sz="1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 і</a:t>
                      </a:r>
                      <a:r>
                        <a:rPr b="1" i="1" lang="be-BY" sz="1200" spc="-1" strike="noStrike" u="sng">
                          <a:solidFill>
                            <a:srgbClr val="0000e5"/>
                          </a:solidFill>
                          <a:uFillTx/>
                          <a:latin typeface="Times New Roman"/>
                          <a:ea typeface="Times New Roman"/>
                        </a:rPr>
                        <a:t> заходзіць</a:t>
                      </a:r>
                      <a:r>
                        <a:rPr b="1" i="1" lang="be-BY" sz="1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Мароз </a:t>
                      </a:r>
                      <a:r>
                        <a:rPr b="1" i="1" lang="be-BY" sz="1200" spc="-1" strike="noStrike" u="sng">
                          <a:solidFill>
                            <a:srgbClr val="0000e5"/>
                          </a:solidFill>
                          <a:uFillTx/>
                          <a:latin typeface="Times New Roman"/>
                          <a:ea typeface="Times New Roman"/>
                        </a:rPr>
                        <a:t>трашчаў</a:t>
                      </a:r>
                      <a:r>
                        <a:rPr b="1" i="1" lang="be-BY" sz="1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 у плат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200" spc="-1" strike="noStrike" u="sng">
                          <a:solidFill>
                            <a:srgbClr val="0000e5"/>
                          </a:solidFill>
                          <a:uFillTx/>
                          <a:latin typeface="Times New Roman"/>
                          <a:ea typeface="Times New Roman"/>
                        </a:rPr>
                        <a:t>Настануць</a:t>
                      </a:r>
                      <a:r>
                        <a:rPr b="1" i="1" lang="be-BY" sz="1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 дні цудоўны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Мы </a:t>
                      </a:r>
                      <a:r>
                        <a:rPr b="1" i="1" lang="be-BY" sz="1200" spc="-1" strike="noStrike" u="sng">
                          <a:solidFill>
                            <a:srgbClr val="0000e5"/>
                          </a:solidFill>
                          <a:uFillTx/>
                          <a:latin typeface="Times New Roman"/>
                          <a:ea typeface="Times New Roman"/>
                        </a:rPr>
                        <a:t>будзем змагацца </a:t>
                      </a:r>
                      <a:r>
                        <a:rPr b="1" i="1" lang="be-BY" sz="1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за лепшую долю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3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умоўны ла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Нам трэба песень, якія </a:t>
                      </a:r>
                      <a:r>
                        <a:rPr b="1" i="1" lang="be-BY" sz="1200" spc="-1" strike="noStrike" u="sng">
                          <a:solidFill>
                            <a:srgbClr val="0000e5"/>
                          </a:solidFill>
                          <a:uFillTx/>
                          <a:latin typeface="Times New Roman"/>
                          <a:ea typeface="Times New Roman"/>
                        </a:rPr>
                        <a:t>спяваў бы</a:t>
                      </a:r>
                      <a:r>
                        <a:rPr b="1" i="1" lang="be-BY" sz="1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, гонячы трактар, калгаснік вясёлы. (Я. Купал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3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загадны ла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Ты </a:t>
                      </a:r>
                      <a:r>
                        <a:rPr b="1" i="1" lang="be-BY" sz="1200" spc="-1" strike="noStrike" u="sng">
                          <a:solidFill>
                            <a:srgbClr val="0000e5"/>
                          </a:solidFill>
                          <a:uFillTx/>
                          <a:latin typeface="Times New Roman"/>
                          <a:ea typeface="Times New Roman"/>
                        </a:rPr>
                        <a:t>ляці</a:t>
                      </a:r>
                      <a:r>
                        <a:rPr b="1" i="1" lang="be-BY" sz="1200" spc="-1" strike="noStrike">
                          <a:solidFill>
                            <a:srgbClr val="0000e5"/>
                          </a:solidFill>
                          <a:latin typeface="Times New Roman"/>
                          <a:ea typeface="Times New Roman"/>
                        </a:rPr>
                        <a:t> цяпер на волю, легкакрылы матылё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11:40:03Z</dcterms:created>
  <dc:creator>solahitdinova</dc:creator>
  <dc:description/>
  <dc:language>en-US</dc:language>
  <cp:lastModifiedBy>solahitdinova</cp:lastModifiedBy>
  <dcterms:modified xsi:type="dcterms:W3CDTF">2009-08-11T10:38:51Z</dcterms:modified>
  <cp:revision>141</cp:revision>
  <dc:subject/>
  <dc:title>Слайд 1</dc:title>
</cp:coreProperties>
</file>