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14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2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5EF5-FC66-4284-9510-51EABEE2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4412A-8342-4786-991C-D29B0D28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4391-1BC6-4F4B-9EDE-3C30F091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43C3-3491-4EDD-A93C-B9CED4D0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2D9B-CB37-48D5-B1DE-48936145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DB84-B207-4253-8F7F-5A7F114C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4322-A79C-46F6-87C6-2C58E321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5AA0-0DD0-4B1F-BB62-FD451A7F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ED94-72B9-4A9E-B31E-9A1C5F39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D428-0193-4E4D-A09D-EC03BAF0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7D6E-4757-4C48-B54C-3B5E5D56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CC2A7-2D65-470C-B03F-925FE62D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EFAA-E9DD-47E7-8E84-EDA29393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2201-4B56-4234-B37E-B26EBBC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9EE2-1855-4ADC-B0B2-2F357869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373F-3706-4AE6-9889-DF772BED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F2C7-16A8-47A3-BE30-7D6CEB01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39AB-4BC2-4AD7-AAE6-859831D5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87FE6-8AFB-49BF-B75C-0832E17C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C7DE-C529-4491-81B2-390B4A51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43BC8-9FC3-47B5-A3AC-B06F8E19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5F13-6A8E-4B3C-8569-3B0245EF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359F4-DF3C-4653-A7FA-887D8FED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C2D2-609D-4BF2-8131-8748F6D9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B394-0A09-4BCB-A023-0AE23EDBCA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88EB-0208-4C00-A6A2-0FCA13CA27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3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wmf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3"/>
          <a:stretch/>
        </p:blipFill>
        <p:spPr>
          <a:xfrm>
            <a:off x="1322280" y="3822840"/>
            <a:ext cx="6499440" cy="179208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4"/>
          <a:stretch/>
        </p:blipFill>
        <p:spPr>
          <a:xfrm>
            <a:off x="2036880" y="628560"/>
            <a:ext cx="426060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67" name="Группа 20"/>
          <p:cNvGrpSpPr/>
          <p:nvPr/>
        </p:nvGrpSpPr>
        <p:grpSpPr>
          <a:xfrm>
            <a:off x="500040" y="428760"/>
            <a:ext cx="8358120" cy="6000480"/>
            <a:chOff x="500040" y="428760"/>
            <a:chExt cx="8358120" cy="6000480"/>
          </a:xfrm>
        </p:grpSpPr>
        <p:sp>
          <p:nvSpPr>
            <p:cNvPr id="268" name="Скругленный прямоугольник 5"/>
            <p:cNvSpPr/>
            <p:nvPr/>
          </p:nvSpPr>
          <p:spPr>
            <a:xfrm>
              <a:off x="714240" y="428760"/>
              <a:ext cx="5072040" cy="85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c1fb"/>
                </a:gs>
                <a:gs pos="100000">
                  <a:srgbClr val="ededff"/>
                </a:gs>
              </a:gsLst>
              <a:lin ang="16200000"/>
            </a:gradFill>
            <a:ln w="9360">
              <a:solidFill>
                <a:srgbClr val="9494c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аданыя акалічнасныя частк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ў складаназалежных сказах выконваюць сэнсава-граматычную ролю, падобную той, што і акалічнасці ў простых сказах. Звычайна яны адносяцца да ўсёй галоўнай часткі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Скругленный прямоугольник 6"/>
            <p:cNvSpPr/>
            <p:nvPr/>
          </p:nvSpPr>
          <p:spPr>
            <a:xfrm>
              <a:off x="3357360" y="1357200"/>
              <a:ext cx="5072040" cy="1000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c1fb"/>
                </a:gs>
                <a:gs pos="100000">
                  <a:srgbClr val="ededff"/>
                </a:gs>
              </a:gsLst>
              <a:lin ang="16200000"/>
            </a:gradFill>
            <a:ln w="9360">
              <a:solidFill>
                <a:srgbClr val="9494c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ясняючы галоўную частку, яны ўдакладняюць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месца, час, умову, прычыну, мэту і спосаб дзеяння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, якое названа саставам выказніка, і адказваюць на пытанні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зе?  куды?  калі?  па якой прычыне?  чаму?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і інш.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Скругленный прямоугольник 13"/>
            <p:cNvSpPr/>
            <p:nvPr/>
          </p:nvSpPr>
          <p:spPr>
            <a:xfrm>
              <a:off x="500040" y="2500200"/>
              <a:ext cx="5572080" cy="92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c1fb"/>
                </a:gs>
                <a:gs pos="100000">
                  <a:srgbClr val="ededff"/>
                </a:gs>
              </a:gsLst>
              <a:lin ang="16200000"/>
            </a:gradFill>
            <a:ln w="9360">
              <a:solidFill>
                <a:srgbClr val="9494c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осіны паміж часткамі ў складаназалежных сказах з акалічнаснымі даданымі часткамі афармляюцца з дапамогай падпарадкавальных злучнікаў або злучальных слоў як пры ўдзеле ўказальных займеннікаў і прыслоўяў у галоўнай частцы, так і без іх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Группа 28"/>
            <p:cNvGrpSpPr/>
            <p:nvPr/>
          </p:nvGrpSpPr>
          <p:grpSpPr>
            <a:xfrm>
              <a:off x="2143080" y="3571920"/>
              <a:ext cx="6715080" cy="1643040"/>
              <a:chOff x="2143080" y="3571920"/>
              <a:chExt cx="6715080" cy="1643040"/>
            </a:xfrm>
          </p:grpSpPr>
          <p:sp>
            <p:nvSpPr>
              <p:cNvPr id="272" name="Скругленный прямоугольник 14"/>
              <p:cNvSpPr/>
              <p:nvPr/>
            </p:nvSpPr>
            <p:spPr>
              <a:xfrm>
                <a:off x="2143080" y="3571920"/>
                <a:ext cx="6715080" cy="16430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1c1fb"/>
                  </a:gs>
                  <a:gs pos="100000">
                    <a:srgbClr val="ededff"/>
                  </a:gs>
                </a:gsLst>
                <a:lin ang="16200000"/>
              </a:gradFill>
              <a:ln w="9360">
                <a:solidFill>
                  <a:srgbClr val="9494c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1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Даданыя акалічнасныя часткі аддзяляюцца ад галоўнай коскай, калі стаяць перад галоўнай або пасля яе: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Дружба сапраўдная пачынаецца тады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, (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калі 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людзі як мае быць ведаюць адзін аднаго). (К. Чорны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Мусіць, яна не была б такая прыгожая, італьянская зямля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, ( калі б не абрабілі, не аздобілі яе сваім потвм і рукамі працавітыя людзі). (І. Мележ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На першым  “Салюце” экіпажу трэба было самаму арыентаваць станцыю на Сонца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, ( каб 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c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онечныя батарэі маглі працаваць з максімальнай аддачай). (П. Клімук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Овал 18"/>
              <p:cNvSpPr/>
              <p:nvPr/>
            </p:nvSpPr>
            <p:spPr>
              <a:xfrm>
                <a:off x="7072200" y="4357800"/>
                <a:ext cx="428400" cy="285480"/>
              </a:xfrm>
              <a:prstGeom prst="ellipse">
                <a:avLst/>
              </a:prstGeom>
              <a:noFill/>
              <a:ln w="1260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Овал 19"/>
              <p:cNvSpPr/>
              <p:nvPr/>
            </p:nvSpPr>
            <p:spPr>
              <a:xfrm>
                <a:off x="3000240" y="5000760"/>
                <a:ext cx="285480" cy="214200"/>
              </a:xfrm>
              <a:prstGeom prst="ellipse">
                <a:avLst/>
              </a:prstGeom>
              <a:noFill/>
              <a:ln w="1260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Овал 23"/>
              <p:cNvSpPr/>
              <p:nvPr/>
            </p:nvSpPr>
            <p:spPr>
              <a:xfrm>
                <a:off x="5643360" y="4000320"/>
                <a:ext cx="428400" cy="214200"/>
              </a:xfrm>
              <a:prstGeom prst="ellipse">
                <a:avLst/>
              </a:prstGeom>
              <a:noFill/>
              <a:ln w="1908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Овал 24"/>
              <p:cNvSpPr/>
              <p:nvPr/>
            </p:nvSpPr>
            <p:spPr>
              <a:xfrm>
                <a:off x="5572080" y="4000320"/>
                <a:ext cx="571320" cy="214200"/>
              </a:xfrm>
              <a:prstGeom prst="ellipse">
                <a:avLst/>
              </a:prstGeom>
              <a:noFill/>
              <a:ln w="1908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Группа 29"/>
            <p:cNvGrpSpPr/>
            <p:nvPr/>
          </p:nvGrpSpPr>
          <p:grpSpPr>
            <a:xfrm>
              <a:off x="571320" y="5429160"/>
              <a:ext cx="6715080" cy="1000080"/>
              <a:chOff x="571320" y="5429160"/>
              <a:chExt cx="6715080" cy="1000080"/>
            </a:xfrm>
          </p:grpSpPr>
          <p:sp>
            <p:nvSpPr>
              <p:cNvPr id="278" name="Скругленный прямоугольник 17"/>
              <p:cNvSpPr/>
              <p:nvPr/>
            </p:nvSpPr>
            <p:spPr>
              <a:xfrm>
                <a:off x="571320" y="5429160"/>
                <a:ext cx="6715080" cy="1000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1c1fb"/>
                  </a:gs>
                  <a:gs pos="100000">
                    <a:srgbClr val="ededff"/>
                  </a:gs>
                </a:gsLst>
                <a:lin ang="16200000"/>
              </a:gradFill>
              <a:ln w="9360">
                <a:solidFill>
                  <a:srgbClr val="9494c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1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Калі даданыя акалічнасныя часткі стаяць у сярэдзіне галоўнай часткі, то яны выдзяляюцца коскамі з двух бакоў: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Паблізу, (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дзе 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     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захоўваліся розныя пчалярскія прылады), нас сустрэў гаспадар пасекі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.  (Я. Пархута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Группа 27"/>
              <p:cNvGrpSpPr/>
              <p:nvPr/>
            </p:nvGrpSpPr>
            <p:grpSpPr>
              <a:xfrm>
                <a:off x="1642680" y="5929200"/>
                <a:ext cx="428400" cy="214200"/>
                <a:chOff x="1642680" y="5929200"/>
                <a:chExt cx="428400" cy="214200"/>
              </a:xfrm>
            </p:grpSpPr>
            <p:sp>
              <p:nvSpPr>
                <p:cNvPr id="280" name="Овал 25"/>
                <p:cNvSpPr/>
                <p:nvPr/>
              </p:nvSpPr>
              <p:spPr>
                <a:xfrm>
                  <a:off x="1713960" y="5929200"/>
                  <a:ext cx="285480" cy="214200"/>
                </a:xfrm>
                <a:prstGeom prst="ellipse">
                  <a:avLst/>
                </a:prstGeom>
                <a:noFill/>
                <a:ln w="19080">
                  <a:solidFill>
                    <a:srgbClr val="6f6f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Овал 26"/>
                <p:cNvSpPr/>
                <p:nvPr/>
              </p:nvSpPr>
              <p:spPr>
                <a:xfrm>
                  <a:off x="1642680" y="5929200"/>
                  <a:ext cx="428400" cy="214200"/>
                </a:xfrm>
                <a:prstGeom prst="ellipse">
                  <a:avLst/>
                </a:prstGeom>
                <a:noFill/>
                <a:ln w="25560">
                  <a:solidFill>
                    <a:srgbClr val="6f6fb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285840" y="142920"/>
          <a:ext cx="8715240" cy="6118200"/>
        </p:xfrm>
        <a:graphic>
          <a:graphicData uri="http://schemas.openxmlformats.org/drawingml/2006/table">
            <a:tbl>
              <a:tblPr/>
              <a:tblGrid>
                <a:gridCol w="1888920"/>
                <a:gridCol w="1814760"/>
                <a:gridCol w="1815840"/>
                <a:gridCol w="3195720"/>
              </a:tblGrid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данай частк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дкі сувяз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 галоўнай частк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ытан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ыкла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мес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зе, куды, адку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дзе? куды? адкул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Дзе каза рогам, там жыта стогам. (Прыказ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час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алі, пакуль, пасля таго як і інш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калі? з якога часу? да якога часу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Калі партызаны мінулі Сушкава, дарога пайшла полем. (І. Пташніка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умо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алі, ка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пры якой умов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Калі б сабраць усе платы, праз акіян ляглі б масты. (С. Грахоўскі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прычы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аму што, бо, па прычыне таго ш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чаму? па якой прычын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Весяляцца старыя і дзеткі, што прыбытак ад працы ў іх гэткі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(Я. Купал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мэ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аб, для таго ка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для чаго? з якой мэтай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А каб агонь душы не згас, няхай жыве ў кожным з нас хлапчук вясёлы і ласкавы. (С. Грахоўскі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9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уступальны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оць (хаця), нягледзячы на тое і інш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ягледзячы на што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Хоць заплаціць прыходзіцца дорага, затое ж ехаць будзе выгадна. (Я. Кол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параўнальны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як, нібы, бы, быццам і інш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як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Усё зацвіло, загаманіла, бы жыватворчая тут сіла ад сну прыроду абудзіла. (Я. Кол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спосабу дзея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то, як і інш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як? якім чына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У іншых месцах хмель так абкручваў алешыну, так спавіваў яе, што дрэва не вытрымлівала – памірала. (Я. Парху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меры і ступе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як, што, нібы і інш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як добра? у якой меры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be-BY" sz="1200" spc="-1" strike="noStrike">
                          <a:solidFill>
                            <a:srgbClr val="3333ff"/>
                          </a:solidFill>
                          <a:latin typeface="Times New Roman"/>
                          <a:ea typeface="Times New Roman"/>
                        </a:rPr>
                        <a:t>Алесь апісаў партрэт свайго сябра так дасканала, як гэта робяць сапраўдныя журналіс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5"/>
          <p:cNvSpPr/>
          <p:nvPr/>
        </p:nvSpPr>
        <p:spPr>
          <a:xfrm>
            <a:off x="928800" y="714240"/>
            <a:ext cx="757224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c00000"/>
                </a:solidFill>
                <a:latin typeface="Times New Roman"/>
              </a:rPr>
              <a:t>Даданыя часткі месца, часу, умов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ўказваюць адпаведна на месца, час, або ўмову дзеяння, названага ў  галоўнай частц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саставам выказніка. Іх адносіны з гэтай часткай афармляюцца з дапамогай падпарадкавальных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злучнікаў ці злучальных слоў як з удзелам суадносных указальных займеннікаў ц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прыслоўяў у галоўнай частцы, так і без і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928800" y="2071800"/>
            <a:ext cx="757224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c00000"/>
                </a:solidFill>
                <a:latin typeface="Times New Roman"/>
              </a:rPr>
              <a:t>Заўвага. 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Даданыя часткі месца і часу могуць ужывацца для ўдакладнення акалічнасц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месца і час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928800" y="2857680"/>
            <a:ext cx="757224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c00000"/>
                </a:solidFill>
                <a:latin typeface="Times New Roman"/>
              </a:rPr>
              <a:t>Даданыя часткі месца 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адказваюць на пытанні </a:t>
            </a:r>
            <a:r>
              <a:rPr b="1" i="1" lang="be-BY" sz="1100" spc="-1" strike="noStrike">
                <a:solidFill>
                  <a:srgbClr val="c00000"/>
                </a:solidFill>
                <a:latin typeface="Times New Roman"/>
              </a:rPr>
              <a:t>дзе? куды? адкуль?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7d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Там, (дзе дарогі з берага сыходзіліся ў адну і ўздымаліся на шашу), Макоўчыку давялося спыніцца</a:t>
            </a:r>
            <a:r>
              <a:rPr b="1" i="1" lang="en-US" sz="1100" spc="-1" strike="noStrike">
                <a:solidFill>
                  <a:srgbClr val="00007d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(І. Мележ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7d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Жыта красуе</a:t>
            </a:r>
            <a:r>
              <a:rPr b="1" i="1" lang="en-US" sz="1100" spc="-1" strike="noStrike">
                <a:solidFill>
                  <a:srgbClr val="00007d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, (дзе раней было непраходнае балота). (А. Асіпен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928800" y="3929040"/>
            <a:ext cx="757224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c00000"/>
                </a:solidFill>
                <a:latin typeface="Times New Roman"/>
              </a:rPr>
              <a:t>Даданыя часкі часу 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адказваюць на пытанні </a:t>
            </a:r>
            <a:r>
              <a:rPr b="1" i="1" lang="be-BY" sz="1100" spc="-1" strike="noStrike">
                <a:solidFill>
                  <a:srgbClr val="c00000"/>
                </a:solidFill>
                <a:latin typeface="Times New Roman"/>
              </a:rPr>
              <a:t>калі?  як доўга?  з якога часу?  да якога часу?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(Пакуль твой боль маім не стане болем),</a:t>
            </a:r>
            <a:r>
              <a:rPr b="1" i="1" lang="en-US" sz="1100" spc="-1" strike="noStrike">
                <a:solidFill>
                  <a:srgbClr val="00007d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 датуль не загартуецца радок</a:t>
            </a:r>
            <a:r>
              <a:rPr b="1" i="1" lang="en-US" sz="1100" spc="-1" strike="noStrike">
                <a:solidFill>
                  <a:srgbClr val="00007d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. (С. Грахоўскі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7d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Вярнуліся дамоў позна</a:t>
            </a:r>
            <a:r>
              <a:rPr b="1" i="1" lang="en-US" sz="1100" spc="-1" strike="noStrike">
                <a:solidFill>
                  <a:srgbClr val="00007d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, (калі ўжо сонца паднялося над лесам, высушыла расу). (Т. Хадкевіч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928800" y="5000760"/>
            <a:ext cx="757224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c00000"/>
                </a:solidFill>
                <a:latin typeface="Times New Roman"/>
              </a:rPr>
              <a:t>Даданыя часткі ўмовы 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адказваюць на пытанне </a:t>
            </a:r>
            <a:r>
              <a:rPr b="1" i="1" lang="be-BY" sz="1100" spc="-1" strike="noStrike">
                <a:solidFill>
                  <a:srgbClr val="c00000"/>
                </a:solidFill>
                <a:latin typeface="Times New Roman"/>
              </a:rPr>
              <a:t>пры якой умове?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(Калі б не зналі мы пра спады), </a:t>
            </a:r>
            <a:r>
              <a:rPr b="1" i="1" lang="en-US" sz="1100" spc="-1" strike="noStrike">
                <a:solidFill>
                  <a:srgbClr val="00007d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не быў бы велічны ўзлёт</a:t>
            </a:r>
            <a:r>
              <a:rPr b="1" i="1" lang="en-US" sz="1100" spc="-1" strike="noStrike">
                <a:solidFill>
                  <a:srgbClr val="00007d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. (Я. Непачаловіч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Значэнне ўмовы ў даданых частках складаназалежных сказаў нярэдка пераплятаецца с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значэннем часу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7d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Тужыць, браток, не маем часу</a:t>
            </a:r>
            <a:r>
              <a:rPr b="1" i="1" lang="en-US" sz="1100" spc="-1" strike="noStrike">
                <a:solidFill>
                  <a:srgbClr val="00007d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, (калі з клопатамі ідзе з палёў вільготных да калгаса сяўб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веснавой рупны дзень). (П. Панчан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294" name="Схема 4" descr=""/>
          <p:cNvPicPr/>
          <p:nvPr/>
        </p:nvPicPr>
        <p:blipFill>
          <a:blip r:embed="rId3"/>
          <a:stretch/>
        </p:blipFill>
        <p:spPr>
          <a:xfrm>
            <a:off x="554040" y="907920"/>
            <a:ext cx="6962760" cy="4754520"/>
          </a:xfrm>
          <a:prstGeom prst="rect">
            <a:avLst/>
          </a:prstGeom>
          <a:ln w="0">
            <a:noFill/>
          </a:ln>
        </p:spPr>
      </p:pic>
      <p:sp>
        <p:nvSpPr>
          <p:cNvPr id="295" name="Овал 14"/>
          <p:cNvSpPr/>
          <p:nvPr/>
        </p:nvSpPr>
        <p:spPr>
          <a:xfrm>
            <a:off x="3143160" y="2143080"/>
            <a:ext cx="500040" cy="214200"/>
          </a:xfrm>
          <a:prstGeom prst="ellipse">
            <a:avLst/>
          </a:prstGeom>
          <a:noFill/>
          <a:ln w="1908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15"/>
          <p:cNvSpPr/>
          <p:nvPr/>
        </p:nvSpPr>
        <p:spPr>
          <a:xfrm>
            <a:off x="5572080" y="4857840"/>
            <a:ext cx="500040" cy="214200"/>
          </a:xfrm>
          <a:prstGeom prst="ellipse">
            <a:avLst/>
          </a:prstGeom>
          <a:noFill/>
          <a:ln w="1908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0" descr="jo02fqmg[1]"/>
          <p:cNvPicPr/>
          <p:nvPr/>
        </p:nvPicPr>
        <p:blipFill>
          <a:blip r:embed="rId1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98" name="Группа 19"/>
          <p:cNvGrpSpPr/>
          <p:nvPr/>
        </p:nvGrpSpPr>
        <p:grpSpPr>
          <a:xfrm>
            <a:off x="2143080" y="5357880"/>
            <a:ext cx="7000920" cy="1500120"/>
            <a:chOff x="2143080" y="5357880"/>
            <a:chExt cx="7000920" cy="1500120"/>
          </a:xfrm>
        </p:grpSpPr>
        <p:pic>
          <p:nvPicPr>
            <p:cNvPr id="299" name="Picture 40" descr="logo 21"/>
            <p:cNvPicPr/>
            <p:nvPr/>
          </p:nvPicPr>
          <p:blipFill>
            <a:blip r:embed="rId2"/>
            <a:stretch/>
          </p:blipFill>
          <p:spPr>
            <a:xfrm>
              <a:off x="6073200" y="6089040"/>
              <a:ext cx="2928240" cy="63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0" name="Скругленный прямоугольник 14"/>
            <p:cNvGrpSpPr/>
            <p:nvPr/>
          </p:nvGrpSpPr>
          <p:grpSpPr>
            <a:xfrm>
              <a:off x="2143080" y="5357880"/>
              <a:ext cx="7000920" cy="1500120"/>
              <a:chOff x="2143080" y="5357880"/>
              <a:chExt cx="7000920" cy="1500120"/>
            </a:xfrm>
          </p:grpSpPr>
          <p:pic>
            <p:nvPicPr>
              <p:cNvPr id="301" name="Скругленный прямоугольник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43080" y="5357880"/>
                <a:ext cx="7000920" cy="15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2248920" y="5455440"/>
                <a:ext cx="64774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2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Даданай параўнальнай  </a:t>
                </a:r>
                <a:r>
                  <a:rPr b="1" lang="be-BY" sz="12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называюць частку складаназалежнага сказа, якая, паясняючы галоўную, характарызуе яе шляхам параўнання. Яна адказвае на пытанне як? Сэнсава-граматычныя адносіны паміж галоўнай і даданай часткамі афармляюцца з дапамогай параўнальных злучнікаў як, як бы, быццам, нібы і інш.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Глядзелі з вокнаў аганькі мне ўслед з трывогай  шчырай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, (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нібы 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ў далёкі і цяжкі я падняўся вырай).  (А. Куляшоў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Группа 18"/>
          <p:cNvGrpSpPr/>
          <p:nvPr/>
        </p:nvGrpSpPr>
        <p:grpSpPr>
          <a:xfrm>
            <a:off x="714240" y="428760"/>
            <a:ext cx="7858440" cy="5929200"/>
            <a:chOff x="714240" y="428760"/>
            <a:chExt cx="7858440" cy="5929200"/>
          </a:xfrm>
        </p:grpSpPr>
        <p:grpSp>
          <p:nvGrpSpPr>
            <p:cNvPr id="304" name="Скругленный прямоугольник 6"/>
            <p:cNvGrpSpPr/>
            <p:nvPr/>
          </p:nvGrpSpPr>
          <p:grpSpPr>
            <a:xfrm>
              <a:off x="714240" y="428760"/>
              <a:ext cx="6978240" cy="2043000"/>
              <a:chOff x="714240" y="428760"/>
              <a:chExt cx="6978240" cy="2043000"/>
            </a:xfrm>
          </p:grpSpPr>
          <p:pic>
            <p:nvPicPr>
              <p:cNvPr id="305" name="Скругленный прямоугольник 6" descr=""/>
              <p:cNvPicPr/>
              <p:nvPr/>
            </p:nvPicPr>
            <p:blipFill>
              <a:blip r:embed="rId4"/>
              <a:stretch/>
            </p:blipFill>
            <p:spPr>
              <a:xfrm>
                <a:off x="714240" y="428760"/>
                <a:ext cx="6978240" cy="20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837720" y="558360"/>
                <a:ext cx="6430680" cy="147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2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Даданай уступальнай </a:t>
                </a:r>
                <a:r>
                  <a:rPr b="1" lang="be-BY" sz="12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называюць частку складаназалежнага сказа, якая, паясняючы галоўную, паведамляе пра падзею, якая магла б перашкодзіць адбыцца таму, пра што гаворыцца ў галоўнай частцы. Яна адказвае на пытанне </a:t>
                </a:r>
                <a:r>
                  <a:rPr b="1" i="1" lang="be-BY" sz="12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нягледзячы на што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2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Яе адносіны з галоўнай часткай афармляюцца з дапамогай злучнікаў </a:t>
                </a:r>
                <a:r>
                  <a:rPr b="1" i="1" lang="be-BY" sz="12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хоць, нягледзячы на тое што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Ды толькі сэрца нельга ашукаць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, (    хоць    ты маўчыш, стрымаўшы хваляванне…) (С. Грахоўскі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Скругленный прямоугольник 7"/>
            <p:cNvGrpSpPr/>
            <p:nvPr/>
          </p:nvGrpSpPr>
          <p:grpSpPr>
            <a:xfrm>
              <a:off x="1258560" y="2133000"/>
              <a:ext cx="6908760" cy="2109240"/>
              <a:chOff x="1258560" y="2133000"/>
              <a:chExt cx="6908760" cy="2109240"/>
            </a:xfrm>
          </p:grpSpPr>
          <p:pic>
            <p:nvPicPr>
              <p:cNvPr id="308" name="Скругленный прямоугольник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258560" y="2133000"/>
                <a:ext cx="6908760" cy="210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1383840" y="2261520"/>
                <a:ext cx="6356160" cy="153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2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Даданая ўступальная частка можа стаяць перад галоўнай часткай, пасля яе або ў сярэдзіне галоўнай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   Хоць   і прыходзілася крута), 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адолець мы ўсё змаглі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. (С. Грахоўскі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Усе чакалі дзеянняў ад Варвары Міхайлаўны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, (   хоць   непасрэдна да яе зараз ніхто не звяртаўся).  (В Хомчанка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І ўсё ж, (   хоць   у Славы і не было якой-небудзь прыхільнасці да незнаёмага), гэты вайсковец не здаваўся ўжо такім страшным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.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(І. Мележ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Скругленный прямоугольник 8"/>
            <p:cNvGrpSpPr/>
            <p:nvPr/>
          </p:nvGrpSpPr>
          <p:grpSpPr>
            <a:xfrm>
              <a:off x="1733400" y="3904200"/>
              <a:ext cx="6839280" cy="1752840"/>
              <a:chOff x="1733400" y="3904200"/>
              <a:chExt cx="6839280" cy="1752840"/>
            </a:xfrm>
          </p:grpSpPr>
          <p:pic>
            <p:nvPicPr>
              <p:cNvPr id="311" name="Скругленный прямоугольник 8" descr=""/>
              <p:cNvPicPr/>
              <p:nvPr/>
            </p:nvPicPr>
            <p:blipFill>
              <a:blip r:embed="rId6"/>
              <a:stretch/>
            </p:blipFill>
            <p:spPr>
              <a:xfrm>
                <a:off x="1733400" y="3904200"/>
                <a:ext cx="683928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1842480" y="4015440"/>
                <a:ext cx="6321240" cy="121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2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Заўвага.  </a:t>
                </a:r>
                <a:r>
                  <a:rPr b="1" lang="be-BY" sz="12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Злучнік </a:t>
                </a:r>
                <a:r>
                  <a:rPr b="1" i="1" lang="be-BY" sz="12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нягледзячы на тое што </a:t>
                </a:r>
                <a:r>
                  <a:rPr b="1" lang="be-BY" sz="12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неабходна адрозніваць ад дзеепрыслоўя </a:t>
                </a:r>
                <a:r>
                  <a:rPr b="1" i="1" lang="be-BY" sz="12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не гледзячы</a:t>
                </a:r>
                <a:r>
                  <a:rPr b="1" lang="be-BY" sz="12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, з якім часціца </a:t>
                </a:r>
                <a:r>
                  <a:rPr b="1" i="1" lang="be-BY" sz="12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не</a:t>
                </a:r>
                <a:r>
                  <a:rPr b="1" lang="be-BY" sz="12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 заўсёды пішацца асобна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Чалавек, часам не гледзячы ні на што, становіцца вышэй за свой лёс і, значыцца, вышэй за магутную сілу выпадку. (В. Быкаў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Овал 10"/>
            <p:cNvSpPr/>
            <p:nvPr/>
          </p:nvSpPr>
          <p:spPr>
            <a:xfrm>
              <a:off x="3476160" y="1470600"/>
              <a:ext cx="474840" cy="212400"/>
            </a:xfrm>
            <a:prstGeom prst="ellipse">
              <a:avLst/>
            </a:prstGeom>
            <a:noFill/>
            <a:ln w="1908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Овал 11"/>
            <p:cNvSpPr/>
            <p:nvPr/>
          </p:nvSpPr>
          <p:spPr>
            <a:xfrm>
              <a:off x="2186640" y="2674800"/>
              <a:ext cx="474840" cy="212400"/>
            </a:xfrm>
            <a:prstGeom prst="ellipse">
              <a:avLst/>
            </a:prstGeom>
            <a:noFill/>
            <a:ln w="1908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Овал 12"/>
            <p:cNvSpPr/>
            <p:nvPr/>
          </p:nvSpPr>
          <p:spPr>
            <a:xfrm>
              <a:off x="4901400" y="2816280"/>
              <a:ext cx="474840" cy="212400"/>
            </a:xfrm>
            <a:prstGeom prst="ellipse">
              <a:avLst/>
            </a:prstGeom>
            <a:noFill/>
            <a:ln w="1908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Овал 13"/>
            <p:cNvSpPr/>
            <p:nvPr/>
          </p:nvSpPr>
          <p:spPr>
            <a:xfrm>
              <a:off x="2322360" y="3241440"/>
              <a:ext cx="474840" cy="212400"/>
            </a:xfrm>
            <a:prstGeom prst="ellipse">
              <a:avLst/>
            </a:prstGeom>
            <a:noFill/>
            <a:ln w="1908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Овал 15"/>
            <p:cNvSpPr/>
            <p:nvPr/>
          </p:nvSpPr>
          <p:spPr>
            <a:xfrm>
              <a:off x="6530040" y="6145560"/>
              <a:ext cx="474840" cy="212400"/>
            </a:xfrm>
            <a:prstGeom prst="ellipse">
              <a:avLst/>
            </a:prstGeom>
            <a:noFill/>
            <a:ln w="1908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320" name="TextBox 6"/>
          <p:cNvGrpSpPr/>
          <p:nvPr/>
        </p:nvGrpSpPr>
        <p:grpSpPr>
          <a:xfrm>
            <a:off x="2084400" y="4175280"/>
            <a:ext cx="6900840" cy="1139760"/>
            <a:chOff x="2084400" y="4175280"/>
            <a:chExt cx="6900840" cy="1139760"/>
          </a:xfrm>
        </p:grpSpPr>
        <p:pic>
          <p:nvPicPr>
            <p:cNvPr id="321" name="TextBox 6" descr=""/>
            <p:cNvPicPr/>
            <p:nvPr/>
          </p:nvPicPr>
          <p:blipFill>
            <a:blip r:embed="rId3"/>
            <a:stretch/>
          </p:blipFill>
          <p:spPr>
            <a:xfrm>
              <a:off x="2084400" y="4175280"/>
              <a:ext cx="69008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2228760" y="4300560"/>
              <a:ext cx="661536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галоўнай частцы могуць ужывацца ўказальныя словы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ак, такі, столькі, настолькі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і інш., да якіх даданыя часткі далучаюцца з дапамогай падпарадкавальных злучнікаў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асіль так збялеў</a:t>
              </a:r>
              <a:r>
                <a:rPr b="1" i="1" lang="en-US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( </a:t>
              </a:r>
              <a:r>
                <a:rPr b="1" i="1" lang="en-US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што </a:t>
              </a:r>
              <a:r>
                <a:rPr b="1" i="1" lang="en-US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  </a:t>
              </a: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аша, глянуўшы на яго, спалохалася). </a:t>
              </a:r>
              <a:r>
                <a:rPr b="1" i="1" lang="en-US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І. Шамякі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9"/>
          <p:cNvGrpSpPr/>
          <p:nvPr/>
        </p:nvGrpSpPr>
        <p:grpSpPr>
          <a:xfrm>
            <a:off x="1143000" y="1000080"/>
            <a:ext cx="6786720" cy="3929040"/>
            <a:chOff x="1143000" y="1000080"/>
            <a:chExt cx="6786720" cy="3929040"/>
          </a:xfrm>
        </p:grpSpPr>
        <p:grpSp>
          <p:nvGrpSpPr>
            <p:cNvPr id="324" name="TextBox 4"/>
            <p:cNvGrpSpPr/>
            <p:nvPr/>
          </p:nvGrpSpPr>
          <p:grpSpPr>
            <a:xfrm>
              <a:off x="1143000" y="1000080"/>
              <a:ext cx="6786720" cy="2125800"/>
              <a:chOff x="1143000" y="1000080"/>
              <a:chExt cx="6786720" cy="2125800"/>
            </a:xfrm>
          </p:grpSpPr>
          <p:pic>
            <p:nvPicPr>
              <p:cNvPr id="325" name="TextBox 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1000080"/>
                <a:ext cx="6786720" cy="21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1372680" y="1204920"/>
                <a:ext cx="6334920" cy="16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Д</a:t>
                </a:r>
                <a:r>
                  <a:rPr b="1" lang="be-BY" sz="11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аданыя часткі спосабу дзеяння, меры і ступені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1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ў складаназалежным сказе ўказваюць на спосаб ці характар дзеяння, названага ў галоўнай частцы саставам выказніка, або абазначаюць меру ці ступень яго праяўлення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1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Яны адказваюць на пытанні </a:t>
                </a:r>
                <a:r>
                  <a:rPr b="1" i="1" lang="be-BY" sz="11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як?  якім чынам? як добра?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1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Іх адносіны з галоўнай часткай афармляюцца з дапамогай падпарадкавальных злучнікаў </a:t>
                </a:r>
                <a:r>
                  <a:rPr b="1" i="1" lang="be-BY" sz="11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аж,ажно, быццам, што, каб, як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1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і злучальнага слова </a:t>
                </a:r>
                <a:r>
                  <a:rPr b="1" i="1" lang="be-BY" sz="11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як</a:t>
                </a:r>
                <a:r>
                  <a:rPr b="1" lang="be-BY" sz="11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: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Гулі кастры, масты і зоры</a:t>
                </a:r>
                <a:r>
                  <a:rPr b="1" i="1" lang="en-US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, ( </a:t>
                </a:r>
                <a:r>
                  <a:rPr b="1" i="1" lang="en-US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1" i="1" lang="be-BY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аж </a:t>
                </a:r>
                <a:r>
                  <a:rPr b="1" i="1" lang="en-US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  </a:t>
                </a:r>
                <a:r>
                  <a:rPr b="1" i="1" lang="be-BY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сёння гэта ловіць слых)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(К. Камейша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Группа 9"/>
            <p:cNvGrpSpPr/>
            <p:nvPr/>
          </p:nvGrpSpPr>
          <p:grpSpPr>
            <a:xfrm>
              <a:off x="4505040" y="2451960"/>
              <a:ext cx="491040" cy="2477160"/>
              <a:chOff x="4505040" y="2451960"/>
              <a:chExt cx="491040" cy="2477160"/>
            </a:xfrm>
          </p:grpSpPr>
          <p:sp>
            <p:nvSpPr>
              <p:cNvPr id="328" name="Овал 7"/>
              <p:cNvSpPr/>
              <p:nvPr/>
            </p:nvSpPr>
            <p:spPr>
              <a:xfrm>
                <a:off x="4505040" y="2451960"/>
                <a:ext cx="420840" cy="212040"/>
              </a:xfrm>
              <a:prstGeom prst="ellipse">
                <a:avLst/>
              </a:prstGeom>
              <a:noFill/>
              <a:ln w="1908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Овал 8"/>
              <p:cNvSpPr/>
              <p:nvPr/>
            </p:nvSpPr>
            <p:spPr>
              <a:xfrm>
                <a:off x="4505040" y="4717080"/>
                <a:ext cx="491040" cy="212040"/>
              </a:xfrm>
              <a:prstGeom prst="ellipse">
                <a:avLst/>
              </a:prstGeom>
              <a:noFill/>
              <a:ln w="1908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332" name="Прямоугольник 4"/>
          <p:cNvGrpSpPr/>
          <p:nvPr/>
        </p:nvGrpSpPr>
        <p:grpSpPr>
          <a:xfrm>
            <a:off x="1938240" y="530280"/>
            <a:ext cx="4975200" cy="639720"/>
            <a:chOff x="1938240" y="530280"/>
            <a:chExt cx="4975200" cy="639720"/>
          </a:xfrm>
        </p:grpSpPr>
        <p:pic>
          <p:nvPicPr>
            <p:cNvPr id="333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938240" y="530280"/>
              <a:ext cx="49752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2000160" y="571680"/>
              <a:ext cx="4857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радак  сінтаксічнага  разбо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алежных  сказа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TextBox 5"/>
          <p:cNvGrpSpPr/>
          <p:nvPr/>
        </p:nvGrpSpPr>
        <p:grpSpPr>
          <a:xfrm>
            <a:off x="1298520" y="1463760"/>
            <a:ext cx="6040440" cy="4041720"/>
            <a:chOff x="1298520" y="1463760"/>
            <a:chExt cx="6040440" cy="4041720"/>
          </a:xfrm>
        </p:grpSpPr>
        <p:pic>
          <p:nvPicPr>
            <p:cNvPr id="336" name="TextBox 5" descr=""/>
            <p:cNvPicPr/>
            <p:nvPr/>
          </p:nvPicPr>
          <p:blipFill>
            <a:blip r:embed="rId4"/>
            <a:stretch/>
          </p:blipFill>
          <p:spPr>
            <a:xfrm>
              <a:off x="1298520" y="1463760"/>
              <a:ext cx="6040440" cy="40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1684440" y="1827360"/>
              <a:ext cx="5275080" cy="32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значыць тэкст сказа па мэце выказвання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аказаць, што сказ складаназалежн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значыць галоўную і даданыя часткі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Графічна абазначыць сродак сувязі сказаў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значыць, што паясняе даданая частка ў галоўнай і да чаго далучаецца (да слова, словазлучэння, усёй галоўнай часткі)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ставіць пытанне да даданай часткі і назваць яе від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Разабраць па членах сказа кожную частку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будаваць схему сказ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340" name="Прямоугольник 4"/>
          <p:cNvGrpSpPr/>
          <p:nvPr/>
        </p:nvGrpSpPr>
        <p:grpSpPr>
          <a:xfrm>
            <a:off x="1865160" y="103320"/>
            <a:ext cx="4973760" cy="635040"/>
            <a:chOff x="1865160" y="103320"/>
            <a:chExt cx="4973760" cy="635040"/>
          </a:xfrm>
        </p:grpSpPr>
        <p:pic>
          <p:nvPicPr>
            <p:cNvPr id="341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865160" y="103320"/>
              <a:ext cx="49737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928880" y="142920"/>
              <a:ext cx="4857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зор  сінтаксічнага  разбо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алежных  сказа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Прямоугольник 5" descr=""/>
          <p:cNvPicPr/>
          <p:nvPr/>
        </p:nvPicPr>
        <p:blipFill>
          <a:blip r:embed="rId4"/>
          <a:stretch/>
        </p:blipFill>
        <p:spPr>
          <a:xfrm>
            <a:off x="652320" y="1225440"/>
            <a:ext cx="1901880" cy="474840"/>
          </a:xfrm>
          <a:prstGeom prst="rect">
            <a:avLst/>
          </a:prstGeom>
          <a:ln w="0">
            <a:noFill/>
          </a:ln>
        </p:spPr>
      </p:pic>
      <p:grpSp>
        <p:nvGrpSpPr>
          <p:cNvPr id="344" name="TextBox 6"/>
          <p:cNvGrpSpPr/>
          <p:nvPr/>
        </p:nvGrpSpPr>
        <p:grpSpPr>
          <a:xfrm>
            <a:off x="2798640" y="1249200"/>
            <a:ext cx="5973840" cy="635040"/>
            <a:chOff x="2798640" y="1249200"/>
            <a:chExt cx="5973840" cy="635040"/>
          </a:xfrm>
        </p:grpSpPr>
        <p:pic>
          <p:nvPicPr>
            <p:cNvPr id="345" name="TextBox 6" descr=""/>
            <p:cNvPicPr/>
            <p:nvPr/>
          </p:nvPicPr>
          <p:blipFill>
            <a:blip r:embed="rId5"/>
            <a:stretch/>
          </p:blipFill>
          <p:spPr>
            <a:xfrm>
              <a:off x="2798640" y="1249200"/>
              <a:ext cx="597384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57680" y="1285920"/>
              <a:ext cx="585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en-US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400" spc="-1" strike="noStrike" u="sng">
                  <a:solidFill>
                    <a:srgbClr val="00007d"/>
                  </a:solidFill>
                  <a:uFillTx/>
                  <a:latin typeface="Times New Roman"/>
                  <a:ea typeface="Times New Roman"/>
                </a:rPr>
                <a:t>Максім</a:t>
              </a:r>
              <a:r>
                <a:rPr b="1" i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400" spc="-1" strike="noStrike" u="sng">
                  <a:solidFill>
                    <a:srgbClr val="00007d"/>
                  </a:solidFill>
                  <a:uFillTx/>
                  <a:latin typeface="Times New Roman"/>
                  <a:ea typeface="Times New Roman"/>
                </a:rPr>
                <a:t>зноў мімаволі падумаў</a:t>
              </a:r>
              <a:r>
                <a:rPr b="1" i="1" lang="en-US" sz="1400" spc="-1" strike="noStrike" u="sng">
                  <a:solidFill>
                    <a:srgbClr val="00007d"/>
                  </a:solidFill>
                  <a:uFillTx/>
                  <a:latin typeface="Times New Roman"/>
                  <a:ea typeface="Times New Roman"/>
                </a:rPr>
                <a:t>]</a:t>
              </a:r>
              <a:r>
                <a:rPr b="1" i="1" lang="en-US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,</a:t>
              </a:r>
              <a:r>
                <a:rPr b="1" i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 </a:t>
              </a:r>
              <a:r>
                <a:rPr b="1" i="1" lang="en-US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     </a:t>
              </a:r>
              <a:r>
                <a:rPr b="1" i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што   нават </a:t>
              </a:r>
              <a:r>
                <a:rPr b="1" i="1" lang="be-BY" sz="1400" spc="-1" strike="noStrike" u="sng">
                  <a:solidFill>
                    <a:srgbClr val="00007d"/>
                  </a:solidFill>
                  <a:uFillTx/>
                  <a:latin typeface="Times New Roman"/>
                  <a:ea typeface="Times New Roman"/>
                </a:rPr>
                <a:t> птушка  разумее</a:t>
              </a:r>
              <a:r>
                <a:rPr b="1" i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400" spc="-1" strike="noStrike" u="sng">
                  <a:solidFill>
                    <a:srgbClr val="00007d"/>
                  </a:solidFill>
                  <a:uFillTx/>
                  <a:latin typeface="Times New Roman"/>
                  <a:ea typeface="Times New Roman"/>
                </a:rPr>
                <a:t>дабрату</a:t>
              </a:r>
              <a:r>
                <a:rPr b="1" i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і </a:t>
              </a:r>
              <a:r>
                <a:rPr b="1" i="1" lang="be-BY" sz="1400" spc="-1" strike="noStrike" u="sng">
                  <a:solidFill>
                    <a:srgbClr val="00007d"/>
                  </a:solidFill>
                  <a:uFillTx/>
                  <a:latin typeface="Times New Roman"/>
                  <a:ea typeface="Times New Roman"/>
                </a:rPr>
                <a:t>ласку</a:t>
              </a:r>
              <a:r>
                <a:rPr b="1" i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). (І. Шамякі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Овал 7"/>
          <p:cNvSpPr/>
          <p:nvPr/>
        </p:nvSpPr>
        <p:spPr>
          <a:xfrm>
            <a:off x="6072120" y="1357200"/>
            <a:ext cx="500040" cy="214560"/>
          </a:xfrm>
          <a:prstGeom prst="ellipse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9"/>
          <p:cNvSpPr/>
          <p:nvPr/>
        </p:nvSpPr>
        <p:spPr>
          <a:xfrm>
            <a:off x="3071880" y="128592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0"/>
          <p:cNvSpPr/>
          <p:nvPr/>
        </p:nvSpPr>
        <p:spPr>
          <a:xfrm>
            <a:off x="5797440" y="12859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Прямоугольник 11" descr=""/>
          <p:cNvPicPr/>
          <p:nvPr/>
        </p:nvPicPr>
        <p:blipFill>
          <a:blip r:embed="rId6"/>
          <a:stretch/>
        </p:blipFill>
        <p:spPr>
          <a:xfrm>
            <a:off x="579600" y="2077920"/>
            <a:ext cx="1901520" cy="4762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13"/>
          <p:cNvSpPr/>
          <p:nvPr/>
        </p:nvSpPr>
        <p:spPr>
          <a:xfrm>
            <a:off x="4296960" y="24289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be-BY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14"/>
          <p:cNvSpPr/>
          <p:nvPr/>
        </p:nvSpPr>
        <p:spPr>
          <a:xfrm>
            <a:off x="5929200" y="2500200"/>
            <a:ext cx="500040" cy="285840"/>
          </a:xfrm>
          <a:prstGeom prst="ellipse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5"/>
          <p:cNvSpPr/>
          <p:nvPr/>
        </p:nvSpPr>
        <p:spPr>
          <a:xfrm>
            <a:off x="5590080" y="24289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16"/>
          <p:cNvSpPr/>
          <p:nvPr/>
        </p:nvSpPr>
        <p:spPr>
          <a:xfrm>
            <a:off x="4150800" y="2428920"/>
            <a:ext cx="29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[</a:t>
            </a:r>
            <a:r>
              <a:rPr b="1" lang="be-BY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дзеясл. </a:t>
            </a:r>
            <a:r>
              <a:rPr b="1" lang="en-US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],</a:t>
            </a:r>
            <a:r>
              <a:rPr b="1" lang="be-BY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</a:t>
            </a:r>
            <a:r>
              <a:rPr b="1" lang="be-BY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што  …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9"/>
          <p:cNvSpPr/>
          <p:nvPr/>
        </p:nvSpPr>
        <p:spPr>
          <a:xfrm flipV="1">
            <a:off x="4857840" y="207144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21"/>
          <p:cNvSpPr/>
          <p:nvPr/>
        </p:nvSpPr>
        <p:spPr>
          <a:xfrm>
            <a:off x="4857840" y="2071800"/>
            <a:ext cx="12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Прямая со стрелкой 23"/>
          <p:cNvCxnSpPr/>
          <p:nvPr/>
        </p:nvCxnSpPr>
        <p:spPr>
          <a:xfrm flipH="1">
            <a:off x="6143400" y="207180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Умножение 24"/>
          <p:cNvSpPr/>
          <p:nvPr/>
        </p:nvSpPr>
        <p:spPr>
          <a:xfrm>
            <a:off x="4714920" y="2286000"/>
            <a:ext cx="285840" cy="200160"/>
          </a:xfrm>
          <a:prstGeom prst="pie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Прямоугольник 25" descr=""/>
          <p:cNvPicPr/>
          <p:nvPr/>
        </p:nvPicPr>
        <p:blipFill>
          <a:blip r:embed="rId7"/>
          <a:stretch/>
        </p:blipFill>
        <p:spPr>
          <a:xfrm>
            <a:off x="652320" y="2938320"/>
            <a:ext cx="1901880" cy="474840"/>
          </a:xfrm>
          <a:prstGeom prst="rect">
            <a:avLst/>
          </a:prstGeom>
          <a:ln w="0">
            <a:noFill/>
          </a:ln>
        </p:spPr>
      </p:pic>
      <p:grpSp>
        <p:nvGrpSpPr>
          <p:cNvPr id="360" name="TextBox 26"/>
          <p:cNvGrpSpPr/>
          <p:nvPr/>
        </p:nvGrpSpPr>
        <p:grpSpPr>
          <a:xfrm>
            <a:off x="938160" y="3395520"/>
            <a:ext cx="7900920" cy="2908440"/>
            <a:chOff x="938160" y="3395520"/>
            <a:chExt cx="7900920" cy="2908440"/>
          </a:xfrm>
        </p:grpSpPr>
        <p:pic>
          <p:nvPicPr>
            <p:cNvPr id="361" name="TextBox 26" descr=""/>
            <p:cNvPicPr/>
            <p:nvPr/>
          </p:nvPicPr>
          <p:blipFill>
            <a:blip r:embed="rId8"/>
            <a:stretch/>
          </p:blipFill>
          <p:spPr>
            <a:xfrm>
              <a:off x="938160" y="3395520"/>
              <a:ext cx="79009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000080" y="3429000"/>
              <a:ext cx="7786800" cy="27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аз апавядальны, няклічны, складаны, злучнікавы, складаназалежны, складаецца з дзвюх сэнсава-граматычных частак, якія звязаны паміж сабой падпарадкавальнай сувяззю.  Галоўная частка –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аксім зноў мімаволі падумаў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, даданая дапаўняльная частка –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што нават птушка разумее дабрату і ласку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паясняе дзеяслоў-выказнік у галоўнай частцы, адказвае на пытанне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аб чым?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Яна стаіць пасля галоўнай часткі, спалучаецца з ёю пры дапамозе падпарадкавальнага злучніка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што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. На мяжы частак перад злучнікам ставіцца коск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галоўнай частцы члены сказа: (хто?)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аксім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дзейнік, выражаны ўласным назоўнікам у форме Н. скл., адз. л.;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аксім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(што зрабіў?)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падумаў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просты дзеяслоўны выказнік, выражаны дзеясловам абв. ладу, пр. ч., 3-й ас., адз. л.;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падумаў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калі?)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зноў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акалічнасць часу, выражана прыслоўем;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падумаў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(як?)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імаволі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акалічнасць спосабу дзеяння, выражана прыслоўем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даданай частцы члены сказа: (хто?)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птушка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дзейнік, выражаны агульным назоўнікам у форме Н. скл., адз. л.;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птушк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(што робіць?)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разумее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просты дзеяслоўны выказнік, выражаны дзеясловам абв. л., цяп. ч., 3-й ас., адз. л.;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разумее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што?)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дабрату і ласку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прамыя аднародныя дапаўненні, выражаныя агульнымі назоўнікамі ў форме В. скл., адз. л.;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ават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узмацняльная часціца, членам сказа не з’яўляецца;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і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злучнік, злучальны, спалучальны, звязвае аднародныя члены сказа (дапаўненні), членам сказа не з’яўляецц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365" name="Прямоугольник 4"/>
          <p:cNvGrpSpPr/>
          <p:nvPr/>
        </p:nvGrpSpPr>
        <p:grpSpPr>
          <a:xfrm>
            <a:off x="2011320" y="738360"/>
            <a:ext cx="4975200" cy="457200"/>
            <a:chOff x="2011320" y="738360"/>
            <a:chExt cx="4975200" cy="457200"/>
          </a:xfrm>
        </p:grpSpPr>
        <p:pic>
          <p:nvPicPr>
            <p:cNvPr id="366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011320" y="738360"/>
              <a:ext cx="4975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071800" y="785880"/>
              <a:ext cx="485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алежныя  сказ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Прямоугольник 5"/>
          <p:cNvGrpSpPr/>
          <p:nvPr/>
        </p:nvGrpSpPr>
        <p:grpSpPr>
          <a:xfrm>
            <a:off x="5010120" y="2036880"/>
            <a:ext cx="3762360" cy="633240"/>
            <a:chOff x="5010120" y="2036880"/>
            <a:chExt cx="3762360" cy="633240"/>
          </a:xfrm>
        </p:grpSpPr>
        <p:pic>
          <p:nvPicPr>
            <p:cNvPr id="369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010120" y="2036880"/>
              <a:ext cx="37623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5072040" y="2071800"/>
              <a:ext cx="36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ладаназалежныя  ска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  некалькімі  даданымі  часткам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Прямоугольник 6"/>
          <p:cNvGrpSpPr/>
          <p:nvPr/>
        </p:nvGrpSpPr>
        <p:grpSpPr>
          <a:xfrm>
            <a:off x="652320" y="2036880"/>
            <a:ext cx="3834000" cy="633240"/>
            <a:chOff x="652320" y="2036880"/>
            <a:chExt cx="3834000" cy="633240"/>
          </a:xfrm>
        </p:grpSpPr>
        <p:pic>
          <p:nvPicPr>
            <p:cNvPr id="372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652320" y="2036880"/>
              <a:ext cx="38340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714240" y="2071800"/>
              <a:ext cx="3714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ладаназалежныя  ска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  адной  даданай  частка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TextBox 7"/>
          <p:cNvGrpSpPr/>
          <p:nvPr/>
        </p:nvGrpSpPr>
        <p:grpSpPr>
          <a:xfrm>
            <a:off x="652320" y="3395520"/>
            <a:ext cx="3834000" cy="1305000"/>
            <a:chOff x="652320" y="3395520"/>
            <a:chExt cx="3834000" cy="1305000"/>
          </a:xfrm>
        </p:grpSpPr>
        <p:pic>
          <p:nvPicPr>
            <p:cNvPr id="375" name="TextBox 7" descr=""/>
            <p:cNvPicPr/>
            <p:nvPr/>
          </p:nvPicPr>
          <p:blipFill>
            <a:blip r:embed="rId6"/>
            <a:stretch/>
          </p:blipFill>
          <p:spPr>
            <a:xfrm>
              <a:off x="652320" y="3395520"/>
              <a:ext cx="383400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14240" y="3429000"/>
              <a:ext cx="3714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цішыні было чутно, як кроплі адна за адной цокалі ў левым, ля стала, куце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А. Рыбак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Я хацеў бы блукаць Белавежай на золаку росным, дзе з зубрамі сябруюць духмяныя гонкія сосны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П. Панчан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TextBox 8"/>
          <p:cNvGrpSpPr/>
          <p:nvPr/>
        </p:nvGrpSpPr>
        <p:grpSpPr>
          <a:xfrm>
            <a:off x="5010120" y="3395520"/>
            <a:ext cx="3762360" cy="1305000"/>
            <a:chOff x="5010120" y="3395520"/>
            <a:chExt cx="3762360" cy="1305000"/>
          </a:xfrm>
        </p:grpSpPr>
        <p:pic>
          <p:nvPicPr>
            <p:cNvPr id="378" name="TextBox 8" descr=""/>
            <p:cNvPicPr/>
            <p:nvPr/>
          </p:nvPicPr>
          <p:blipFill>
            <a:blip r:embed="rId7"/>
            <a:stretch/>
          </p:blipFill>
          <p:spPr>
            <a:xfrm>
              <a:off x="5010120" y="3395520"/>
              <a:ext cx="37623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5072040" y="3429000"/>
              <a:ext cx="36432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тэпка не суцяшала сяброўку, бо ведала, што словы ёй не дапамогуць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А. Рыбак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Маці дайшла да таго ўзгорка, да якога праводзіла нас, калі мы ішлі на аўтобусны прыпынак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Я. Сіпакоў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0" name="Прямая со стрелкой 10"/>
          <p:cNvCxnSpPr/>
          <p:nvPr/>
        </p:nvCxnSpPr>
        <p:spPr>
          <a:xfrm flipH="1">
            <a:off x="2642760" y="1123920"/>
            <a:ext cx="1858320" cy="8769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381" name="Прямая со стрелкой 12"/>
          <p:cNvCxnSpPr/>
          <p:nvPr/>
        </p:nvCxnSpPr>
        <p:spPr>
          <a:xfrm>
            <a:off x="4500720" y="1142640"/>
            <a:ext cx="2358000" cy="85788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382" name="Прямая со стрелкой 14"/>
          <p:cNvCxnSpPr/>
          <p:nvPr/>
        </p:nvCxnSpPr>
        <p:spPr>
          <a:xfrm flipH="1">
            <a:off x="2641320" y="2714760"/>
            <a:ext cx="2160" cy="6433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383" name="Прямая со стрелкой 16"/>
          <p:cNvCxnSpPr/>
          <p:nvPr/>
        </p:nvCxnSpPr>
        <p:spPr>
          <a:xfrm flipH="1">
            <a:off x="6857640" y="2714760"/>
            <a:ext cx="2160" cy="6433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90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386" name="Прямоугольник 4"/>
          <p:cNvGrpSpPr/>
          <p:nvPr/>
        </p:nvGrpSpPr>
        <p:grpSpPr>
          <a:xfrm>
            <a:off x="1511280" y="463680"/>
            <a:ext cx="6546960" cy="633240"/>
            <a:chOff x="1511280" y="463680"/>
            <a:chExt cx="6546960" cy="633240"/>
          </a:xfrm>
        </p:grpSpPr>
        <p:pic>
          <p:nvPicPr>
            <p:cNvPr id="387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511280" y="463680"/>
              <a:ext cx="6546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571760" y="500040"/>
              <a:ext cx="642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алежныя  ска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  паслядоўным  і  сузалежным  падпарадкаваннем  часта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Прямоугольник 5"/>
          <p:cNvGrpSpPr/>
          <p:nvPr/>
        </p:nvGrpSpPr>
        <p:grpSpPr>
          <a:xfrm>
            <a:off x="2798640" y="1463760"/>
            <a:ext cx="3754440" cy="633240"/>
            <a:chOff x="2798640" y="1463760"/>
            <a:chExt cx="3754440" cy="633240"/>
          </a:xfrm>
        </p:grpSpPr>
        <p:pic>
          <p:nvPicPr>
            <p:cNvPr id="390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798640" y="1463760"/>
              <a:ext cx="37544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2857680" y="1500120"/>
              <a:ext cx="36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ладаназалежныя  ска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  некалькімі  даданымі  часткам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Прямоугольник 6"/>
          <p:cNvGrpSpPr/>
          <p:nvPr/>
        </p:nvGrpSpPr>
        <p:grpSpPr>
          <a:xfrm>
            <a:off x="298440" y="2676600"/>
            <a:ext cx="3755880" cy="633240"/>
            <a:chOff x="298440" y="2676600"/>
            <a:chExt cx="3755880" cy="633240"/>
          </a:xfrm>
        </p:grpSpPr>
        <p:pic>
          <p:nvPicPr>
            <p:cNvPr id="393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298440" y="2676600"/>
              <a:ext cx="37558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357120" y="2714760"/>
              <a:ext cx="364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 паслядоўны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дпарадкаваннем часта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Прямоугольник 7"/>
          <p:cNvGrpSpPr/>
          <p:nvPr/>
        </p:nvGrpSpPr>
        <p:grpSpPr>
          <a:xfrm>
            <a:off x="4797360" y="2676600"/>
            <a:ext cx="3760920" cy="633240"/>
            <a:chOff x="4797360" y="2676600"/>
            <a:chExt cx="3760920" cy="633240"/>
          </a:xfrm>
        </p:grpSpPr>
        <p:pic>
          <p:nvPicPr>
            <p:cNvPr id="396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4797360" y="2676600"/>
              <a:ext cx="37609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57840" y="2714760"/>
              <a:ext cx="36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 сузалежны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дпарадкаваннем часта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Прямоугольник 8"/>
          <p:cNvGrpSpPr/>
          <p:nvPr/>
        </p:nvGrpSpPr>
        <p:grpSpPr>
          <a:xfrm>
            <a:off x="4511520" y="3822840"/>
            <a:ext cx="2187720" cy="633240"/>
            <a:chOff x="4511520" y="3822840"/>
            <a:chExt cx="2187720" cy="633240"/>
          </a:xfrm>
        </p:grpSpPr>
        <p:pic>
          <p:nvPicPr>
            <p:cNvPr id="399" name="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4511520" y="3822840"/>
              <a:ext cx="21877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4572000" y="3857760"/>
              <a:ext cx="2071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ародна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дпарадкаванн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Прямоугольник 9"/>
          <p:cNvGrpSpPr/>
          <p:nvPr/>
        </p:nvGrpSpPr>
        <p:grpSpPr>
          <a:xfrm>
            <a:off x="6724800" y="3822840"/>
            <a:ext cx="2260440" cy="633240"/>
            <a:chOff x="6724800" y="3822840"/>
            <a:chExt cx="2260440" cy="633240"/>
          </a:xfrm>
        </p:grpSpPr>
        <p:pic>
          <p:nvPicPr>
            <p:cNvPr id="402" name="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6724800" y="3822840"/>
              <a:ext cx="22604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786720" y="3857760"/>
              <a:ext cx="214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еаднародна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дпарадкаванн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04" name="Прямая со стрелкой 12"/>
          <p:cNvCxnSpPr/>
          <p:nvPr/>
        </p:nvCxnSpPr>
        <p:spPr>
          <a:xfrm flipH="1">
            <a:off x="3785400" y="2142720"/>
            <a:ext cx="500760" cy="25009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405" name="Прямая со стрелкой 14"/>
          <p:cNvCxnSpPr/>
          <p:nvPr/>
        </p:nvCxnSpPr>
        <p:spPr>
          <a:xfrm flipH="1">
            <a:off x="2499480" y="2142000"/>
            <a:ext cx="1786680" cy="5007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406" name="Прямая со стрелкой 16"/>
          <p:cNvCxnSpPr/>
          <p:nvPr/>
        </p:nvCxnSpPr>
        <p:spPr>
          <a:xfrm>
            <a:off x="4285800" y="2142720"/>
            <a:ext cx="2358360" cy="5007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407" name="Прямая со стрелкой 18"/>
          <p:cNvCxnSpPr/>
          <p:nvPr/>
        </p:nvCxnSpPr>
        <p:spPr>
          <a:xfrm flipH="1">
            <a:off x="5785560" y="3238200"/>
            <a:ext cx="894600" cy="54828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408" name="Прямая со стрелкой 20"/>
          <p:cNvCxnSpPr/>
          <p:nvPr/>
        </p:nvCxnSpPr>
        <p:spPr>
          <a:xfrm>
            <a:off x="6680160" y="3238200"/>
            <a:ext cx="1178640" cy="54828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grpSp>
        <p:nvGrpSpPr>
          <p:cNvPr id="409" name="Прямоугольник 15"/>
          <p:cNvGrpSpPr/>
          <p:nvPr/>
        </p:nvGrpSpPr>
        <p:grpSpPr>
          <a:xfrm>
            <a:off x="798480" y="4675320"/>
            <a:ext cx="5688000" cy="853920"/>
            <a:chOff x="798480" y="4675320"/>
            <a:chExt cx="5688000" cy="853920"/>
          </a:xfrm>
        </p:grpSpPr>
        <p:pic>
          <p:nvPicPr>
            <p:cNvPr id="410" name="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798480" y="4675320"/>
              <a:ext cx="568800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857160" y="4714920"/>
              <a:ext cx="5572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слядоўна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узалежнае неаднароднае і аднародна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дпарадкаванн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3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0" descr="logo 21"/>
          <p:cNvPicPr/>
          <p:nvPr/>
        </p:nvPicPr>
        <p:blipFill>
          <a:blip r:embed="rId1"/>
          <a:stretch/>
        </p:blipFill>
        <p:spPr>
          <a:xfrm>
            <a:off x="6138720" y="6211800"/>
            <a:ext cx="3011760" cy="65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12" name="Прямоугольник 4"/>
          <p:cNvGrpSpPr/>
          <p:nvPr/>
        </p:nvGrpSpPr>
        <p:grpSpPr>
          <a:xfrm>
            <a:off x="1938240" y="378000"/>
            <a:ext cx="4975200" cy="463320"/>
            <a:chOff x="1938240" y="378000"/>
            <a:chExt cx="4975200" cy="463320"/>
          </a:xfrm>
        </p:grpSpPr>
        <p:pic>
          <p:nvPicPr>
            <p:cNvPr id="113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938240" y="378000"/>
              <a:ext cx="497520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000160" y="428760"/>
              <a:ext cx="485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посабы перадачы чужой мов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Скругленный прямоугольник 5"/>
          <p:cNvGrpSpPr/>
          <p:nvPr/>
        </p:nvGrpSpPr>
        <p:grpSpPr>
          <a:xfrm>
            <a:off x="1023840" y="1090440"/>
            <a:ext cx="6986520" cy="1775160"/>
            <a:chOff x="1023840" y="1090440"/>
            <a:chExt cx="6986520" cy="1775160"/>
          </a:xfrm>
        </p:grpSpPr>
        <p:pic>
          <p:nvPicPr>
            <p:cNvPr id="116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023840" y="1090440"/>
              <a:ext cx="6986520" cy="17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138320" y="1209600"/>
              <a:ext cx="64389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алежнымі   </a:t>
              </a:r>
              <a:r>
                <a:rPr b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зываюцца такія складаныя сказы, у якіх сэнсава-граматычныя адносіны паміж часікамі афармляюцца з дапамогай падпарадкавальных злучнікаў і злучальных слоў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Людзі кажуць, (што птушкам, зблудзіўшым уночы, Млечны Шлях служыць сцежкай-пуцінай у вырай). (Я. Купал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Скругленный прямоугольник 8"/>
          <p:cNvGrpSpPr/>
          <p:nvPr/>
        </p:nvGrpSpPr>
        <p:grpSpPr>
          <a:xfrm>
            <a:off x="3949560" y="2664000"/>
            <a:ext cx="4773600" cy="1133280"/>
            <a:chOff x="3949560" y="2664000"/>
            <a:chExt cx="4773600" cy="1133280"/>
          </a:xfrm>
        </p:grpSpPr>
        <p:pic>
          <p:nvPicPr>
            <p:cNvPr id="119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3949560" y="2664000"/>
              <a:ext cx="4773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035600" y="2749680"/>
              <a:ext cx="428760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 складаназалежным сказе можа быць дзве або некалькі частак, з якіх адна – галоўная, а астатнія даданы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Скругленный прямоугольник 9"/>
          <p:cNvGrpSpPr/>
          <p:nvPr/>
        </p:nvGrpSpPr>
        <p:grpSpPr>
          <a:xfrm>
            <a:off x="1311120" y="3809880"/>
            <a:ext cx="3767400" cy="1127160"/>
            <a:chOff x="1311120" y="3809880"/>
            <a:chExt cx="3767400" cy="1127160"/>
          </a:xfrm>
        </p:grpSpPr>
        <p:pic>
          <p:nvPicPr>
            <p:cNvPr id="122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1311120" y="3809880"/>
              <a:ext cx="37674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392120" y="3892680"/>
              <a:ext cx="32878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алоўнай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называюць тую частку, якая непасрэдна ці апасродкавана падпарадкоўвае сабе даданы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Скругленный прямоугольник 10"/>
          <p:cNvGrpSpPr/>
          <p:nvPr/>
        </p:nvGrpSpPr>
        <p:grpSpPr>
          <a:xfrm>
            <a:off x="5595840" y="3809880"/>
            <a:ext cx="3700440" cy="1127160"/>
            <a:chOff x="5595840" y="3809880"/>
            <a:chExt cx="3700440" cy="1127160"/>
          </a:xfrm>
        </p:grpSpPr>
        <p:pic>
          <p:nvPicPr>
            <p:cNvPr id="125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5595840" y="3809880"/>
              <a:ext cx="3700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678640" y="3892680"/>
              <a:ext cx="32162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аданымі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зываюцца тыя часткі, якія паясняюць галоўную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" name="Прямая со стрелкой 12"/>
          <p:cNvCxnSpPr/>
          <p:nvPr/>
        </p:nvCxnSpPr>
        <p:spPr>
          <a:xfrm flipH="1">
            <a:off x="4071600" y="3429000"/>
            <a:ext cx="192960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28" name="Прямая со стрелкой 14"/>
          <p:cNvCxnSpPr/>
          <p:nvPr/>
        </p:nvCxnSpPr>
        <p:spPr>
          <a:xfrm>
            <a:off x="6000480" y="3429000"/>
            <a:ext cx="214380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grpSp>
        <p:nvGrpSpPr>
          <p:cNvPr id="129" name="Скругленный прямоугольник 15"/>
          <p:cNvGrpSpPr/>
          <p:nvPr/>
        </p:nvGrpSpPr>
        <p:grpSpPr>
          <a:xfrm>
            <a:off x="1163520" y="4809960"/>
            <a:ext cx="4273560" cy="1341720"/>
            <a:chOff x="1163520" y="4809960"/>
            <a:chExt cx="4273560" cy="1341720"/>
          </a:xfrm>
        </p:grpSpPr>
        <p:pic>
          <p:nvPicPr>
            <p:cNvPr id="130" name="Скругленный прямоугольник 15" descr=""/>
            <p:cNvPicPr/>
            <p:nvPr/>
          </p:nvPicPr>
          <p:blipFill>
            <a:blip r:embed="rId8"/>
            <a:stretch/>
          </p:blipFill>
          <p:spPr>
            <a:xfrm>
              <a:off x="1163520" y="4809960"/>
              <a:ext cx="427356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260360" y="4903920"/>
              <a:ext cx="37656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аданыя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часткі  могуць паясняць увесь галоўны сказ, якое-небудзь слова ці словазлучэнне ў ім або ў папярэдняй даданай частц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Скругленный прямоугольник 16"/>
          <p:cNvGrpSpPr/>
          <p:nvPr/>
        </p:nvGrpSpPr>
        <p:grpSpPr>
          <a:xfrm>
            <a:off x="5522760" y="4809960"/>
            <a:ext cx="3700440" cy="1341720"/>
            <a:chOff x="5522760" y="4809960"/>
            <a:chExt cx="3700440" cy="1341720"/>
          </a:xfrm>
        </p:grpSpPr>
        <p:pic>
          <p:nvPicPr>
            <p:cNvPr id="133" name="Скругленный прямоугольник 16" descr=""/>
            <p:cNvPicPr/>
            <p:nvPr/>
          </p:nvPicPr>
          <p:blipFill>
            <a:blip r:embed="rId9"/>
            <a:stretch/>
          </p:blipFill>
          <p:spPr>
            <a:xfrm>
              <a:off x="5522760" y="4809960"/>
              <a:ext cx="370044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618160" y="4903920"/>
              <a:ext cx="31939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аданыя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часткі адрозніваюццаад галоўнай не толькі сваёй роляй, але і будовай. У іх састаў уваходзяць падпарадкавальныя злучнікі і злучальныя слов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Прямая со стрелкой 17"/>
          <p:cNvCxnSpPr/>
          <p:nvPr/>
        </p:nvCxnSpPr>
        <p:spPr>
          <a:xfrm flipH="1">
            <a:off x="4142520" y="4570920"/>
            <a:ext cx="1786680" cy="2149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36" name="Прямая со стрелкой 19"/>
          <p:cNvCxnSpPr/>
          <p:nvPr/>
        </p:nvCxnSpPr>
        <p:spPr>
          <a:xfrm>
            <a:off x="5857560" y="4571640"/>
            <a:ext cx="2143800" cy="2149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414" name="TextBox 4"/>
          <p:cNvGrpSpPr/>
          <p:nvPr/>
        </p:nvGrpSpPr>
        <p:grpSpPr>
          <a:xfrm>
            <a:off x="512640" y="676440"/>
            <a:ext cx="8259840" cy="944280"/>
            <a:chOff x="512640" y="676440"/>
            <a:chExt cx="8259840" cy="944280"/>
          </a:xfrm>
        </p:grpSpPr>
        <p:pic>
          <p:nvPicPr>
            <p:cNvPr id="415" name="TextBox 4" descr=""/>
            <p:cNvPicPr/>
            <p:nvPr/>
          </p:nvPicPr>
          <p:blipFill>
            <a:blip r:embed="rId3"/>
            <a:stretch/>
          </p:blipFill>
          <p:spPr>
            <a:xfrm>
              <a:off x="512640" y="676440"/>
              <a:ext cx="825984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680" y="714240"/>
              <a:ext cx="814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осіны паміж часткамі ў складаназалежных сказах з паслядоўным падпарадкаваннем складваюцца так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ершая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даданая частка залежыць ад галоўнай і паясняе я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ругая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частка паясняе першую даданую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рэцяя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другую даданую і г.д.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Группа 46"/>
          <p:cNvGrpSpPr/>
          <p:nvPr/>
        </p:nvGrpSpPr>
        <p:grpSpPr>
          <a:xfrm>
            <a:off x="1214280" y="1857240"/>
            <a:ext cx="7143840" cy="768600"/>
            <a:chOff x="1214280" y="1857240"/>
            <a:chExt cx="7143840" cy="768600"/>
          </a:xfrm>
        </p:grpSpPr>
        <p:grpSp>
          <p:nvGrpSpPr>
            <p:cNvPr id="418" name="TextBox 5"/>
            <p:cNvGrpSpPr/>
            <p:nvPr/>
          </p:nvGrpSpPr>
          <p:grpSpPr>
            <a:xfrm>
              <a:off x="1214280" y="1857240"/>
              <a:ext cx="7143840" cy="768600"/>
              <a:chOff x="1214280" y="1857240"/>
              <a:chExt cx="7143840" cy="768600"/>
            </a:xfrm>
          </p:grpSpPr>
          <p:pic>
            <p:nvPicPr>
              <p:cNvPr id="419" name="Text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214280" y="1857240"/>
                <a:ext cx="714384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1281240" y="1892520"/>
                <a:ext cx="69998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Лабановіч канчаткова дагаварыўся з гаспадыняю</a:t>
                </a:r>
                <a:r>
                  <a:rPr b="1" i="1" lang="en-US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, (   што   будзе праз дзень прыходзіць сюды і займацца з Лідаю), (   каб    дзяўчына магла паступіць у якую-небудзь вучэбную ўстанову), (</a:t>
                </a:r>
                <a:r>
                  <a:rPr b="1" i="1" lang="en-US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i="1" lang="be-BY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 дзе   рыхтуюць  настаўніц). (Я. Колас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Группа 44"/>
            <p:cNvGrpSpPr/>
            <p:nvPr/>
          </p:nvGrpSpPr>
          <p:grpSpPr>
            <a:xfrm>
              <a:off x="3101040" y="1954080"/>
              <a:ext cx="2869920" cy="555840"/>
              <a:chOff x="3101040" y="1954080"/>
              <a:chExt cx="2869920" cy="555840"/>
            </a:xfrm>
          </p:grpSpPr>
          <p:sp>
            <p:nvSpPr>
              <p:cNvPr id="422" name="Овал 6"/>
              <p:cNvSpPr/>
              <p:nvPr/>
            </p:nvSpPr>
            <p:spPr>
              <a:xfrm>
                <a:off x="5481000" y="1954080"/>
                <a:ext cx="489960" cy="185040"/>
              </a:xfrm>
              <a:prstGeom prst="ellipse">
                <a:avLst/>
              </a:prstGeom>
              <a:noFill/>
              <a:ln w="1908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Овал 7"/>
              <p:cNvSpPr/>
              <p:nvPr/>
            </p:nvSpPr>
            <p:spPr>
              <a:xfrm>
                <a:off x="4430880" y="2139120"/>
                <a:ext cx="419760" cy="185400"/>
              </a:xfrm>
              <a:prstGeom prst="ellipse">
                <a:avLst/>
              </a:prstGeom>
              <a:noFill/>
              <a:ln w="1908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Овал 8"/>
              <p:cNvSpPr/>
              <p:nvPr/>
            </p:nvSpPr>
            <p:spPr>
              <a:xfrm>
                <a:off x="3170880" y="2324880"/>
                <a:ext cx="419760" cy="123480"/>
              </a:xfrm>
              <a:prstGeom prst="ellipse">
                <a:avLst/>
              </a:prstGeom>
              <a:noFill/>
              <a:ln w="1908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Овал 9"/>
              <p:cNvSpPr/>
              <p:nvPr/>
            </p:nvSpPr>
            <p:spPr>
              <a:xfrm>
                <a:off x="3101040" y="2262960"/>
                <a:ext cx="559800" cy="246960"/>
              </a:xfrm>
              <a:prstGeom prst="ellipse">
                <a:avLst/>
              </a:prstGeom>
              <a:noFill/>
              <a:ln w="1908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6" name="Группа 45"/>
          <p:cNvGrpSpPr/>
          <p:nvPr/>
        </p:nvGrpSpPr>
        <p:grpSpPr>
          <a:xfrm>
            <a:off x="2286000" y="2857320"/>
            <a:ext cx="5072040" cy="714600"/>
            <a:chOff x="2286000" y="2857320"/>
            <a:chExt cx="5072040" cy="714600"/>
          </a:xfrm>
        </p:grpSpPr>
        <p:sp>
          <p:nvSpPr>
            <p:cNvPr id="427" name="TextBox 10"/>
            <p:cNvSpPr/>
            <p:nvPr/>
          </p:nvSpPr>
          <p:spPr>
            <a:xfrm>
              <a:off x="2286000" y="3214800"/>
              <a:ext cx="507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[</a:t>
              </a: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дзеясл. </a:t>
              </a:r>
              <a:r>
                <a:rPr b="1" lang="en-US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]</a:t>
              </a: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, (    што   – х – ),  (   каб   наз.),  (   дзе   …). </a:t>
              </a:r>
              <a:r>
                <a:rPr b="1" lang="en-US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11"/>
            <p:cNvSpPr/>
            <p:nvPr/>
          </p:nvSpPr>
          <p:spPr>
            <a:xfrm>
              <a:off x="2643120" y="2928960"/>
              <a:ext cx="40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х                                                      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Прямая соединительная линия 15"/>
            <p:cNvSpPr/>
            <p:nvPr/>
          </p:nvSpPr>
          <p:spPr>
            <a:xfrm flipV="1">
              <a:off x="2857320" y="2857320"/>
              <a:ext cx="144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Прямая соединительная линия 17"/>
            <p:cNvSpPr/>
            <p:nvPr/>
          </p:nvSpPr>
          <p:spPr>
            <a:xfrm>
              <a:off x="2857320" y="2857680"/>
              <a:ext cx="928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1" name="Прямая со стрелкой 20"/>
            <p:cNvCxnSpPr/>
            <p:nvPr/>
          </p:nvCxnSpPr>
          <p:spPr>
            <a:xfrm flipH="1">
              <a:off x="3784320" y="2858760"/>
              <a:ext cx="36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2" name="Прямая соединительная линия 22"/>
            <p:cNvSpPr/>
            <p:nvPr/>
          </p:nvSpPr>
          <p:spPr>
            <a:xfrm flipV="1">
              <a:off x="4357800" y="2858760"/>
              <a:ext cx="144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27"/>
            <p:cNvSpPr/>
            <p:nvPr/>
          </p:nvSpPr>
          <p:spPr>
            <a:xfrm>
              <a:off x="4357800" y="2857680"/>
              <a:ext cx="785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4" name="Прямая со стрелкой 29"/>
            <p:cNvCxnSpPr/>
            <p:nvPr/>
          </p:nvCxnSpPr>
          <p:spPr>
            <a:xfrm flipH="1">
              <a:off x="5141520" y="2858760"/>
              <a:ext cx="36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5" name="Прямая соединительная линия 31"/>
            <p:cNvSpPr/>
            <p:nvPr/>
          </p:nvSpPr>
          <p:spPr>
            <a:xfrm flipV="1">
              <a:off x="5713560" y="285732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34"/>
            <p:cNvSpPr/>
            <p:nvPr/>
          </p:nvSpPr>
          <p:spPr>
            <a:xfrm>
              <a:off x="5715000" y="2857680"/>
              <a:ext cx="785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7" name="Прямая со стрелкой 36"/>
            <p:cNvCxnSpPr/>
            <p:nvPr/>
          </p:nvCxnSpPr>
          <p:spPr>
            <a:xfrm flipH="1">
              <a:off x="6499080" y="2858760"/>
              <a:ext cx="36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8" name="Овал 37"/>
            <p:cNvSpPr/>
            <p:nvPr/>
          </p:nvSpPr>
          <p:spPr>
            <a:xfrm>
              <a:off x="3643200" y="3286080"/>
              <a:ext cx="428400" cy="28548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Овал 39"/>
            <p:cNvSpPr/>
            <p:nvPr/>
          </p:nvSpPr>
          <p:spPr>
            <a:xfrm>
              <a:off x="5072040" y="3286080"/>
              <a:ext cx="428400" cy="28548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Овал 40"/>
            <p:cNvSpPr/>
            <p:nvPr/>
          </p:nvSpPr>
          <p:spPr>
            <a:xfrm>
              <a:off x="6286680" y="3286080"/>
              <a:ext cx="35712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Овал 41"/>
            <p:cNvSpPr/>
            <p:nvPr/>
          </p:nvSpPr>
          <p:spPr>
            <a:xfrm>
              <a:off x="6215040" y="3214800"/>
              <a:ext cx="500040" cy="35712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Группа 58"/>
          <p:cNvGrpSpPr/>
          <p:nvPr/>
        </p:nvGrpSpPr>
        <p:grpSpPr>
          <a:xfrm>
            <a:off x="3214800" y="3714840"/>
            <a:ext cx="3429000" cy="2837160"/>
            <a:chOff x="3214800" y="3714840"/>
            <a:chExt cx="3429000" cy="2837160"/>
          </a:xfrm>
        </p:grpSpPr>
        <p:sp>
          <p:nvSpPr>
            <p:cNvPr id="443" name="TextBox 48"/>
            <p:cNvSpPr/>
            <p:nvPr/>
          </p:nvSpPr>
          <p:spPr>
            <a:xfrm>
              <a:off x="4929120" y="5214600"/>
              <a:ext cx="13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Группа 57"/>
            <p:cNvGrpSpPr/>
            <p:nvPr/>
          </p:nvGrpSpPr>
          <p:grpSpPr>
            <a:xfrm>
              <a:off x="3214800" y="3714840"/>
              <a:ext cx="3429000" cy="2837160"/>
              <a:chOff x="3214800" y="3714840"/>
              <a:chExt cx="3429000" cy="2837160"/>
            </a:xfrm>
          </p:grpSpPr>
          <p:grpSp>
            <p:nvGrpSpPr>
              <p:cNvPr id="445" name="Группа 32"/>
              <p:cNvGrpSpPr/>
              <p:nvPr/>
            </p:nvGrpSpPr>
            <p:grpSpPr>
              <a:xfrm>
                <a:off x="3214800" y="3714840"/>
                <a:ext cx="1143000" cy="1310760"/>
                <a:chOff x="3214800" y="3714840"/>
                <a:chExt cx="1143000" cy="1310760"/>
              </a:xfrm>
            </p:grpSpPr>
            <p:sp>
              <p:nvSpPr>
                <p:cNvPr id="446" name="TextBox 28"/>
                <p:cNvSpPr/>
                <p:nvPr/>
              </p:nvSpPr>
              <p:spPr>
                <a:xfrm>
                  <a:off x="3214800" y="4143240"/>
                  <a:ext cx="1143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7d"/>
                      </a:solidFill>
                      <a:latin typeface="Times New Roman"/>
                      <a:ea typeface="Times New Roman"/>
                    </a:rPr>
                    <a:t>[ </a:t>
                  </a:r>
                  <a:r>
                    <a:rPr b="1" lang="ru-RU" sz="1600" spc="-1" strike="noStrike">
                      <a:solidFill>
                        <a:srgbClr val="00007d"/>
                      </a:solidFill>
                      <a:latin typeface="Times New Roman"/>
                      <a:ea typeface="Times New Roman"/>
                    </a:rPr>
                    <a:t>дзеясл.</a:t>
                  </a:r>
                  <a:r>
                    <a:rPr b="1" lang="en-US" sz="1600" spc="-1" strike="noStrike">
                      <a:solidFill>
                        <a:srgbClr val="00007d"/>
                      </a:solidFill>
                      <a:latin typeface="Times New Roman"/>
                      <a:ea typeface="Times New Roman"/>
                    </a:rPr>
                    <a:t>]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TextBox 30"/>
                <p:cNvSpPr/>
                <p:nvPr/>
              </p:nvSpPr>
              <p:spPr>
                <a:xfrm>
                  <a:off x="3643200" y="3714840"/>
                  <a:ext cx="164880" cy="13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7d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be-BY" sz="1600" spc="-1" strike="noStrike">
                      <a:solidFill>
                        <a:srgbClr val="00007d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448" name="Прямая со стрелкой 35"/>
              <p:cNvCxnSpPr/>
              <p:nvPr/>
            </p:nvCxnSpPr>
            <p:spPr>
              <a:xfrm flipH="1">
                <a:off x="3927240" y="4428720"/>
                <a:ext cx="3600" cy="286200"/>
              </a:xfrm>
              <a:prstGeom prst="straightConnector1">
                <a:avLst/>
              </a:prstGeom>
              <a:ln w="25560">
                <a:solidFill>
                  <a:srgbClr val="00007d"/>
                </a:solidFill>
                <a:miter/>
                <a:tailEnd len="med" type="arrow" w="med"/>
              </a:ln>
            </p:spPr>
          </p:cxnSp>
          <p:sp>
            <p:nvSpPr>
              <p:cNvPr id="449" name="TextBox 38"/>
              <p:cNvSpPr/>
              <p:nvPr/>
            </p:nvSpPr>
            <p:spPr>
              <a:xfrm>
                <a:off x="3500280" y="4714560"/>
                <a:ext cx="171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(   што   – х – ),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0" name="Прямая со стрелкой 43"/>
              <p:cNvCxnSpPr/>
              <p:nvPr/>
            </p:nvCxnSpPr>
            <p:spPr>
              <a:xfrm flipH="1">
                <a:off x="4713120" y="5000760"/>
                <a:ext cx="3600" cy="357840"/>
              </a:xfrm>
              <a:prstGeom prst="straightConnector1">
                <a:avLst/>
              </a:prstGeom>
              <a:ln w="25560">
                <a:solidFill>
                  <a:srgbClr val="00007d"/>
                </a:solidFill>
                <a:miter/>
                <a:tailEnd len="med" type="arrow" w="med"/>
              </a:ln>
            </p:spPr>
          </p:cxnSp>
          <p:sp>
            <p:nvSpPr>
              <p:cNvPr id="451" name="TextBox 47"/>
              <p:cNvSpPr/>
              <p:nvPr/>
            </p:nvSpPr>
            <p:spPr>
              <a:xfrm>
                <a:off x="4143240" y="5429160"/>
                <a:ext cx="157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(   каб   наз. ),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2" name="Прямая со стрелкой 50"/>
              <p:cNvCxnSpPr/>
              <p:nvPr/>
            </p:nvCxnSpPr>
            <p:spPr>
              <a:xfrm flipH="1">
                <a:off x="5284440" y="5785920"/>
                <a:ext cx="3600" cy="286200"/>
              </a:xfrm>
              <a:prstGeom prst="straightConnector1">
                <a:avLst/>
              </a:prstGeom>
              <a:ln w="25560">
                <a:solidFill>
                  <a:srgbClr val="00007d"/>
                </a:solidFill>
                <a:miter/>
                <a:tailEnd len="med" type="arrow" w="med"/>
              </a:ln>
            </p:spPr>
          </p:cxnSp>
          <p:sp>
            <p:nvSpPr>
              <p:cNvPr id="453" name="TextBox 51"/>
              <p:cNvSpPr/>
              <p:nvPr/>
            </p:nvSpPr>
            <p:spPr>
              <a:xfrm>
                <a:off x="4572000" y="6214680"/>
                <a:ext cx="2071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(   дзе    …)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Овал 52"/>
              <p:cNvSpPr/>
              <p:nvPr/>
            </p:nvSpPr>
            <p:spPr>
              <a:xfrm>
                <a:off x="3714840" y="4786200"/>
                <a:ext cx="571320" cy="214200"/>
              </a:xfrm>
              <a:prstGeom prst="ellipse">
                <a:avLst/>
              </a:prstGeom>
              <a:noFill/>
              <a:ln w="2556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Овал 53"/>
              <p:cNvSpPr/>
              <p:nvPr/>
            </p:nvSpPr>
            <p:spPr>
              <a:xfrm>
                <a:off x="4357800" y="5500800"/>
                <a:ext cx="500040" cy="214200"/>
              </a:xfrm>
              <a:prstGeom prst="ellipse">
                <a:avLst/>
              </a:prstGeom>
              <a:noFill/>
              <a:ln w="2556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Овал 54"/>
              <p:cNvSpPr/>
              <p:nvPr/>
            </p:nvSpPr>
            <p:spPr>
              <a:xfrm>
                <a:off x="4786560" y="6286680"/>
                <a:ext cx="428400" cy="214200"/>
              </a:xfrm>
              <a:prstGeom prst="ellipse">
                <a:avLst/>
              </a:prstGeom>
              <a:noFill/>
              <a:ln w="2556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Овал 55"/>
              <p:cNvSpPr/>
              <p:nvPr/>
            </p:nvSpPr>
            <p:spPr>
              <a:xfrm>
                <a:off x="4714920" y="6286680"/>
                <a:ext cx="571320" cy="214200"/>
              </a:xfrm>
              <a:prstGeom prst="ellipse">
                <a:avLst/>
              </a:prstGeom>
              <a:noFill/>
              <a:ln w="2556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4" descr=""/>
          <p:cNvPicPr/>
          <p:nvPr/>
        </p:nvPicPr>
        <p:blipFill>
          <a:blip r:embed="rId3"/>
          <a:stretch/>
        </p:blipFill>
        <p:spPr>
          <a:xfrm>
            <a:off x="1798560" y="1225440"/>
            <a:ext cx="5187960" cy="474840"/>
          </a:xfrm>
          <a:prstGeom prst="rect">
            <a:avLst/>
          </a:prstGeom>
          <a:ln w="0">
            <a:noFill/>
          </a:ln>
        </p:spPr>
      </p:pic>
      <p:grpSp>
        <p:nvGrpSpPr>
          <p:cNvPr id="461" name="Группа 10"/>
          <p:cNvGrpSpPr/>
          <p:nvPr/>
        </p:nvGrpSpPr>
        <p:grpSpPr>
          <a:xfrm>
            <a:off x="1143000" y="2143080"/>
            <a:ext cx="6786720" cy="1909800"/>
            <a:chOff x="1143000" y="2143080"/>
            <a:chExt cx="6786720" cy="1909800"/>
          </a:xfrm>
        </p:grpSpPr>
        <p:grpSp>
          <p:nvGrpSpPr>
            <p:cNvPr id="462" name="TextBox 5"/>
            <p:cNvGrpSpPr/>
            <p:nvPr/>
          </p:nvGrpSpPr>
          <p:grpSpPr>
            <a:xfrm>
              <a:off x="1143000" y="2143080"/>
              <a:ext cx="6786720" cy="1909800"/>
              <a:chOff x="1143000" y="2143080"/>
              <a:chExt cx="6786720" cy="1909800"/>
            </a:xfrm>
          </p:grpSpPr>
          <p:pic>
            <p:nvPicPr>
              <p:cNvPr id="463" name="Text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2143080"/>
                <a:ext cx="6786720" cy="19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1356480" y="2325600"/>
                <a:ext cx="6361560" cy="15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4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Пры аднародным падпарадкаванні дзве ці больш даданыя часткі аднаго віду паясняюць адно і тое слова ў галоўнай частцы складаназалежнага сказа ці ўсю галоўную частку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Вучыў мяне лес пазнаваць прыгажоства, суладнасць і чары прыроды</a:t>
                </a:r>
                <a:r>
                  <a:rPr b="1" i="1" lang="en-US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, ( </a:t>
                </a:r>
                <a:r>
                  <a:rPr b="1" i="1" lang="en-US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1" i="1" lang="be-BY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дзе   птаства спраўляе штогод карагоды), (   дзе   тояць крыніцы празрыстыя воды). (Я. Колас) </a:t>
                </a:r>
                <a:r>
                  <a:rPr b="1" i="1" lang="en-US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Овал 6"/>
            <p:cNvSpPr/>
            <p:nvPr/>
          </p:nvSpPr>
          <p:spPr>
            <a:xfrm>
              <a:off x="7242120" y="2986560"/>
              <a:ext cx="351000" cy="20268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Овал 7"/>
            <p:cNvSpPr/>
            <p:nvPr/>
          </p:nvSpPr>
          <p:spPr>
            <a:xfrm>
              <a:off x="7171920" y="2986560"/>
              <a:ext cx="491760" cy="20268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Овал 8"/>
            <p:cNvSpPr/>
            <p:nvPr/>
          </p:nvSpPr>
          <p:spPr>
            <a:xfrm>
              <a:off x="4782960" y="3189240"/>
              <a:ext cx="351000" cy="20268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Овал 9"/>
            <p:cNvSpPr/>
            <p:nvPr/>
          </p:nvSpPr>
          <p:spPr>
            <a:xfrm>
              <a:off x="4712760" y="3189240"/>
              <a:ext cx="491760" cy="20268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Группа 30"/>
          <p:cNvGrpSpPr/>
          <p:nvPr/>
        </p:nvGrpSpPr>
        <p:grpSpPr>
          <a:xfrm>
            <a:off x="2786040" y="4500720"/>
            <a:ext cx="6215040" cy="765720"/>
            <a:chOff x="2786040" y="4500720"/>
            <a:chExt cx="6215040" cy="765720"/>
          </a:xfrm>
        </p:grpSpPr>
        <p:sp>
          <p:nvSpPr>
            <p:cNvPr id="470" name="TextBox 11"/>
            <p:cNvSpPr/>
            <p:nvPr/>
          </p:nvSpPr>
          <p:spPr>
            <a:xfrm>
              <a:off x="2786040" y="4929120"/>
              <a:ext cx="621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[ </a:t>
              </a: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з.</a:t>
              </a:r>
              <a:r>
                <a:rPr b="1" lang="en-US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]</a:t>
              </a: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, (    дзе   …),  (   дзе   …)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Овал 12"/>
            <p:cNvSpPr/>
            <p:nvPr/>
          </p:nvSpPr>
          <p:spPr>
            <a:xfrm>
              <a:off x="4857840" y="5000760"/>
              <a:ext cx="35712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Овал 13"/>
            <p:cNvSpPr/>
            <p:nvPr/>
          </p:nvSpPr>
          <p:spPr>
            <a:xfrm>
              <a:off x="4786200" y="5000760"/>
              <a:ext cx="50004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Овал 14"/>
            <p:cNvSpPr/>
            <p:nvPr/>
          </p:nvSpPr>
          <p:spPr>
            <a:xfrm>
              <a:off x="3714480" y="5000760"/>
              <a:ext cx="42840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Овал 16"/>
            <p:cNvSpPr/>
            <p:nvPr/>
          </p:nvSpPr>
          <p:spPr>
            <a:xfrm>
              <a:off x="3643200" y="5000760"/>
              <a:ext cx="57132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Box 17"/>
            <p:cNvSpPr/>
            <p:nvPr/>
          </p:nvSpPr>
          <p:spPr>
            <a:xfrm>
              <a:off x="2786040" y="471492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19"/>
            <p:cNvSpPr/>
            <p:nvPr/>
          </p:nvSpPr>
          <p:spPr>
            <a:xfrm flipV="1">
              <a:off x="3141360" y="4571640"/>
              <a:ext cx="2880" cy="28548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21"/>
            <p:cNvSpPr/>
            <p:nvPr/>
          </p:nvSpPr>
          <p:spPr>
            <a:xfrm>
              <a:off x="3143160" y="4572000"/>
              <a:ext cx="714240" cy="144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8" name="Прямая со стрелкой 23"/>
            <p:cNvCxnSpPr/>
            <p:nvPr/>
          </p:nvCxnSpPr>
          <p:spPr>
            <a:xfrm flipH="1">
              <a:off x="3855600" y="4572000"/>
              <a:ext cx="3600" cy="357840"/>
            </a:xfrm>
            <a:prstGeom prst="straightConnector1">
              <a:avLst/>
            </a:prstGeom>
            <a:ln w="25560">
              <a:solidFill>
                <a:srgbClr val="9999cc"/>
              </a:solidFill>
              <a:miter/>
              <a:tailEnd len="med" type="arrow" w="med"/>
            </a:ln>
          </p:spPr>
        </p:cxnSp>
        <p:sp>
          <p:nvSpPr>
            <p:cNvPr id="479" name="Прямая соединительная линия 25"/>
            <p:cNvSpPr/>
            <p:nvPr/>
          </p:nvSpPr>
          <p:spPr>
            <a:xfrm flipV="1">
              <a:off x="3070080" y="4500720"/>
              <a:ext cx="2880" cy="35712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27"/>
            <p:cNvSpPr/>
            <p:nvPr/>
          </p:nvSpPr>
          <p:spPr>
            <a:xfrm>
              <a:off x="3071520" y="4500720"/>
              <a:ext cx="1928880" cy="1440"/>
            </a:xfrm>
            <a:prstGeom prst="line">
              <a:avLst/>
            </a:prstGeom>
            <a:ln w="255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1" name="Прямая со стрелкой 29"/>
            <p:cNvCxnSpPr/>
            <p:nvPr/>
          </p:nvCxnSpPr>
          <p:spPr>
            <a:xfrm flipH="1">
              <a:off x="4998600" y="4500720"/>
              <a:ext cx="3600" cy="429120"/>
            </a:xfrm>
            <a:prstGeom prst="straightConnector1">
              <a:avLst/>
            </a:prstGeom>
            <a:ln w="25560">
              <a:solidFill>
                <a:srgbClr val="9999cc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484" name="Прямоугольник 4" descr=""/>
          <p:cNvPicPr/>
          <p:nvPr/>
        </p:nvPicPr>
        <p:blipFill>
          <a:blip r:embed="rId3"/>
          <a:stretch/>
        </p:blipFill>
        <p:spPr>
          <a:xfrm>
            <a:off x="1584360" y="938160"/>
            <a:ext cx="5187960" cy="476280"/>
          </a:xfrm>
          <a:prstGeom prst="rect">
            <a:avLst/>
          </a:prstGeom>
          <a:ln w="0">
            <a:noFill/>
          </a:ln>
        </p:spPr>
      </p:pic>
      <p:grpSp>
        <p:nvGrpSpPr>
          <p:cNvPr id="485" name="Группа 24"/>
          <p:cNvGrpSpPr/>
          <p:nvPr/>
        </p:nvGrpSpPr>
        <p:grpSpPr>
          <a:xfrm>
            <a:off x="1000080" y="1928880"/>
            <a:ext cx="6786720" cy="1395360"/>
            <a:chOff x="1000080" y="1928880"/>
            <a:chExt cx="6786720" cy="1395360"/>
          </a:xfrm>
        </p:grpSpPr>
        <p:grpSp>
          <p:nvGrpSpPr>
            <p:cNvPr id="486" name="TextBox 5"/>
            <p:cNvGrpSpPr/>
            <p:nvPr/>
          </p:nvGrpSpPr>
          <p:grpSpPr>
            <a:xfrm>
              <a:off x="1000080" y="1928880"/>
              <a:ext cx="6786720" cy="1395360"/>
              <a:chOff x="1000080" y="1928880"/>
              <a:chExt cx="6786720" cy="1395360"/>
            </a:xfrm>
          </p:grpSpPr>
          <p:pic>
            <p:nvPicPr>
              <p:cNvPr id="487" name="Text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0080" y="1928880"/>
                <a:ext cx="67867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>
                <a:off x="1174680" y="2072520"/>
                <a:ext cx="64458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4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Пры неаднародным падпарадкаванні даданыя часткі рознага віду (розныя па значэнні) адносяцца да адной галоўнай чпсткі складаназалежнага сказа, але паясняюць у ёй розныя словы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(   Каб    павялічыць выпуск прадукцыі), брыгада прымяніла новыя тэхналогіі,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4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(   якія    далі добрыя вынікі).  (З газеты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Овал 7"/>
            <p:cNvSpPr/>
            <p:nvPr/>
          </p:nvSpPr>
          <p:spPr>
            <a:xfrm>
              <a:off x="2957400" y="2891880"/>
              <a:ext cx="491760" cy="264600"/>
            </a:xfrm>
            <a:prstGeom prst="ellipse">
              <a:avLst/>
            </a:prstGeom>
            <a:noFill/>
            <a:ln w="25560">
              <a:solidFill>
                <a:srgbClr val="0000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Овал 8"/>
            <p:cNvSpPr/>
            <p:nvPr/>
          </p:nvSpPr>
          <p:spPr>
            <a:xfrm>
              <a:off x="3027600" y="2958120"/>
              <a:ext cx="351000" cy="132120"/>
            </a:xfrm>
            <a:prstGeom prst="ellipse">
              <a:avLst/>
            </a:prstGeom>
            <a:noFill/>
            <a:ln w="25560">
              <a:solidFill>
                <a:srgbClr val="0000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Овал 9"/>
            <p:cNvSpPr/>
            <p:nvPr/>
          </p:nvSpPr>
          <p:spPr>
            <a:xfrm>
              <a:off x="1481760" y="2693160"/>
              <a:ext cx="491760" cy="198360"/>
            </a:xfrm>
            <a:prstGeom prst="ellipse">
              <a:avLst/>
            </a:prstGeom>
            <a:noFill/>
            <a:ln w="25560">
              <a:solidFill>
                <a:srgbClr val="0000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Овал 30"/>
          <p:cNvSpPr/>
          <p:nvPr/>
        </p:nvSpPr>
        <p:spPr>
          <a:xfrm>
            <a:off x="4286160" y="4572000"/>
            <a:ext cx="500040" cy="214200"/>
          </a:xfrm>
          <a:prstGeom prst="ellipse">
            <a:avLst/>
          </a:prstGeom>
          <a:noFill/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42"/>
          <p:cNvSpPr/>
          <p:nvPr/>
        </p:nvSpPr>
        <p:spPr>
          <a:xfrm>
            <a:off x="3643200" y="4143240"/>
            <a:ext cx="857520" cy="18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6"/>
          <p:cNvSpPr/>
          <p:nvPr/>
        </p:nvSpPr>
        <p:spPr>
          <a:xfrm>
            <a:off x="1643040" y="4500720"/>
            <a:ext cx="42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   каб    …),  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[ – 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х – наз. 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]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,  (    якія    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8"/>
          <p:cNvSpPr/>
          <p:nvPr/>
        </p:nvSpPr>
        <p:spPr>
          <a:xfrm>
            <a:off x="1857240" y="4572000"/>
            <a:ext cx="500040" cy="214200"/>
          </a:xfrm>
          <a:prstGeom prst="ellipse">
            <a:avLst/>
          </a:prstGeom>
          <a:noFill/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31"/>
          <p:cNvSpPr/>
          <p:nvPr/>
        </p:nvSpPr>
        <p:spPr>
          <a:xfrm>
            <a:off x="4214880" y="4572000"/>
            <a:ext cx="642960" cy="214200"/>
          </a:xfrm>
          <a:prstGeom prst="ellipse">
            <a:avLst/>
          </a:prstGeom>
          <a:noFill/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3"/>
          <p:cNvSpPr/>
          <p:nvPr/>
        </p:nvSpPr>
        <p:spPr>
          <a:xfrm flipV="1">
            <a:off x="3212280" y="4145040"/>
            <a:ext cx="1800" cy="4284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5"/>
          <p:cNvSpPr/>
          <p:nvPr/>
        </p:nvSpPr>
        <p:spPr>
          <a:xfrm flipH="1" flipV="1">
            <a:off x="2000160" y="4142880"/>
            <a:ext cx="1214640" cy="18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Прямая со стрелкой 37"/>
          <p:cNvCxnSpPr/>
          <p:nvPr/>
        </p:nvCxnSpPr>
        <p:spPr>
          <a:xfrm flipH="1">
            <a:off x="1998360" y="4145040"/>
            <a:ext cx="2160" cy="357840"/>
          </a:xfrm>
          <a:prstGeom prst="straightConnector1">
            <a:avLst/>
          </a:prstGeom>
          <a:ln w="25560">
            <a:solidFill>
              <a:srgbClr val="00007d"/>
            </a:solidFill>
            <a:miter/>
            <a:tailEnd len="med" type="arrow" w="med"/>
          </a:ln>
        </p:spPr>
      </p:cxnSp>
      <p:sp>
        <p:nvSpPr>
          <p:cNvPr id="500" name="TextBox 38"/>
          <p:cNvSpPr/>
          <p:nvPr/>
        </p:nvSpPr>
        <p:spPr>
          <a:xfrm>
            <a:off x="3429000" y="428616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40"/>
          <p:cNvSpPr/>
          <p:nvPr/>
        </p:nvSpPr>
        <p:spPr>
          <a:xfrm flipV="1">
            <a:off x="3641760" y="4144680"/>
            <a:ext cx="1440" cy="214200"/>
          </a:xfrm>
          <a:prstGeom prst="line">
            <a:avLst/>
          </a:prstGeom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Прямая со стрелкой 44"/>
          <p:cNvCxnSpPr/>
          <p:nvPr/>
        </p:nvCxnSpPr>
        <p:spPr>
          <a:xfrm flipH="1">
            <a:off x="4498200" y="4145040"/>
            <a:ext cx="2520" cy="357840"/>
          </a:xfrm>
          <a:prstGeom prst="straightConnector1">
            <a:avLst/>
          </a:prstGeom>
          <a:ln w="25560">
            <a:solidFill>
              <a:srgbClr val="00007d"/>
            </a:solidFill>
            <a:miter/>
            <a:tailEnd len="med" type="arrow" w="med"/>
          </a:ln>
        </p:spPr>
      </p:cxn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505" name="Прямоугольник с двумя вырезанными соседними углами 5"/>
          <p:cNvSpPr/>
          <p:nvPr/>
        </p:nvSpPr>
        <p:spPr>
          <a:xfrm>
            <a:off x="1428840" y="1000080"/>
            <a:ext cx="6072120" cy="1714680"/>
          </a:xfrm>
          <a:prstGeom prst="pi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8100000"/>
          </a:gra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 адным складаназалежным сказе можа спалучацца паслядоўнае, сузалежнае неаднароднае і аднароднае падпарадкаванн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[</a:t>
            </a:r>
            <a:r>
              <a:rPr b="1" i="1" lang="be-BY" sz="1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ялічка напружваў усю сваю памяць</a:t>
            </a:r>
            <a:r>
              <a:rPr b="1" i="1" lang="en-US" sz="1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]</a:t>
            </a:r>
            <a:r>
              <a:rPr b="1" i="1" lang="be-BY" sz="1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, (   каб   успомніць), (    з якой    часткі горада яны ішлі) і (    дзе    праходзіць тая шырокая дарог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4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    з якой    можна было арыентавацца). (К. Чорн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Группа 16"/>
          <p:cNvGrpSpPr/>
          <p:nvPr/>
        </p:nvGrpSpPr>
        <p:grpSpPr>
          <a:xfrm>
            <a:off x="2500200" y="1857240"/>
            <a:ext cx="4786560" cy="642960"/>
            <a:chOff x="2500200" y="1857240"/>
            <a:chExt cx="4786560" cy="642960"/>
          </a:xfrm>
        </p:grpSpPr>
        <p:sp>
          <p:nvSpPr>
            <p:cNvPr id="507" name="Овал 6"/>
            <p:cNvSpPr/>
            <p:nvPr/>
          </p:nvSpPr>
          <p:spPr>
            <a:xfrm>
              <a:off x="5000760" y="1857240"/>
              <a:ext cx="42840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Овал 7"/>
            <p:cNvSpPr/>
            <p:nvPr/>
          </p:nvSpPr>
          <p:spPr>
            <a:xfrm>
              <a:off x="6572520" y="1857240"/>
              <a:ext cx="64296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Овал 8"/>
            <p:cNvSpPr/>
            <p:nvPr/>
          </p:nvSpPr>
          <p:spPr>
            <a:xfrm>
              <a:off x="6500880" y="1857240"/>
              <a:ext cx="78588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Овал 11"/>
            <p:cNvSpPr/>
            <p:nvPr/>
          </p:nvSpPr>
          <p:spPr>
            <a:xfrm>
              <a:off x="2571480" y="2286000"/>
              <a:ext cx="64296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Овал 12"/>
            <p:cNvSpPr/>
            <p:nvPr/>
          </p:nvSpPr>
          <p:spPr>
            <a:xfrm>
              <a:off x="2500200" y="2286000"/>
              <a:ext cx="78588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Овал 13"/>
            <p:cNvSpPr/>
            <p:nvPr/>
          </p:nvSpPr>
          <p:spPr>
            <a:xfrm>
              <a:off x="4000320" y="2071440"/>
              <a:ext cx="35712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Овал 14"/>
            <p:cNvSpPr/>
            <p:nvPr/>
          </p:nvSpPr>
          <p:spPr>
            <a:xfrm>
              <a:off x="3929040" y="2071440"/>
              <a:ext cx="50004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TextBox 17"/>
          <p:cNvSpPr/>
          <p:nvPr/>
        </p:nvSpPr>
        <p:spPr>
          <a:xfrm>
            <a:off x="1214280" y="4500720"/>
            <a:ext cx="70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[  – 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х –  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]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,  (   каб   дзеясл. ),  (    з якой     …)  і  (    дзе    наз. ), (    з якой     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18"/>
          <p:cNvSpPr/>
          <p:nvPr/>
        </p:nvSpPr>
        <p:spPr>
          <a:xfrm>
            <a:off x="4000680" y="4572000"/>
            <a:ext cx="642600" cy="214200"/>
          </a:xfrm>
          <a:prstGeom prst="ellipse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Овал 19"/>
          <p:cNvSpPr/>
          <p:nvPr/>
        </p:nvSpPr>
        <p:spPr>
          <a:xfrm>
            <a:off x="3929040" y="4572000"/>
            <a:ext cx="785880" cy="214200"/>
          </a:xfrm>
          <a:prstGeom prst="ellipse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20"/>
          <p:cNvSpPr/>
          <p:nvPr/>
        </p:nvSpPr>
        <p:spPr>
          <a:xfrm>
            <a:off x="7000920" y="4572000"/>
            <a:ext cx="642960" cy="214200"/>
          </a:xfrm>
          <a:prstGeom prst="ellipse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Овал 21"/>
          <p:cNvSpPr/>
          <p:nvPr/>
        </p:nvSpPr>
        <p:spPr>
          <a:xfrm>
            <a:off x="6929280" y="4572000"/>
            <a:ext cx="785880" cy="214200"/>
          </a:xfrm>
          <a:prstGeom prst="ellipse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вал 22"/>
          <p:cNvSpPr/>
          <p:nvPr/>
        </p:nvSpPr>
        <p:spPr>
          <a:xfrm>
            <a:off x="2357280" y="4572000"/>
            <a:ext cx="428760" cy="214200"/>
          </a:xfrm>
          <a:prstGeom prst="ellipse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23"/>
          <p:cNvSpPr/>
          <p:nvPr/>
        </p:nvSpPr>
        <p:spPr>
          <a:xfrm>
            <a:off x="5643720" y="4572000"/>
            <a:ext cx="357120" cy="214200"/>
          </a:xfrm>
          <a:prstGeom prst="ellipse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24"/>
          <p:cNvSpPr/>
          <p:nvPr/>
        </p:nvSpPr>
        <p:spPr>
          <a:xfrm>
            <a:off x="5572080" y="4572000"/>
            <a:ext cx="500040" cy="214200"/>
          </a:xfrm>
          <a:prstGeom prst="ellipse">
            <a:avLst/>
          </a:prstGeom>
          <a:noFill/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5"/>
          <p:cNvSpPr/>
          <p:nvPr/>
        </p:nvSpPr>
        <p:spPr>
          <a:xfrm>
            <a:off x="2928960" y="42861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х                                                          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27"/>
          <p:cNvSpPr/>
          <p:nvPr/>
        </p:nvSpPr>
        <p:spPr>
          <a:xfrm flipV="1">
            <a:off x="1641600" y="4216320"/>
            <a:ext cx="1440" cy="35712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29"/>
          <p:cNvSpPr/>
          <p:nvPr/>
        </p:nvSpPr>
        <p:spPr>
          <a:xfrm>
            <a:off x="1643040" y="4214880"/>
            <a:ext cx="928800" cy="14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Прямая со стрелкой 31"/>
          <p:cNvCxnSpPr/>
          <p:nvPr/>
        </p:nvCxnSpPr>
        <p:spPr>
          <a:xfrm flipH="1">
            <a:off x="2569320" y="4216320"/>
            <a:ext cx="2520" cy="28656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sp>
        <p:nvSpPr>
          <p:cNvPr id="526" name="Прямая соединительная линия 34"/>
          <p:cNvSpPr/>
          <p:nvPr/>
        </p:nvSpPr>
        <p:spPr>
          <a:xfrm flipV="1">
            <a:off x="3212280" y="4216320"/>
            <a:ext cx="1800" cy="21456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36"/>
          <p:cNvSpPr/>
          <p:nvPr/>
        </p:nvSpPr>
        <p:spPr>
          <a:xfrm>
            <a:off x="3214800" y="4214880"/>
            <a:ext cx="1071360" cy="14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Прямая со стрелкой 38"/>
          <p:cNvCxnSpPr/>
          <p:nvPr/>
        </p:nvCxnSpPr>
        <p:spPr>
          <a:xfrm flipH="1">
            <a:off x="4284360" y="4216320"/>
            <a:ext cx="2160" cy="28656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sp>
        <p:nvSpPr>
          <p:cNvPr id="529" name="Прямая соединительная линия 40"/>
          <p:cNvSpPr/>
          <p:nvPr/>
        </p:nvSpPr>
        <p:spPr>
          <a:xfrm flipV="1">
            <a:off x="3141720" y="4145040"/>
            <a:ext cx="1440" cy="28584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42"/>
          <p:cNvSpPr/>
          <p:nvPr/>
        </p:nvSpPr>
        <p:spPr>
          <a:xfrm>
            <a:off x="3143160" y="4143240"/>
            <a:ext cx="2643120" cy="18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Прямая со стрелкой 44"/>
          <p:cNvCxnSpPr/>
          <p:nvPr/>
        </p:nvCxnSpPr>
        <p:spPr>
          <a:xfrm flipH="1">
            <a:off x="5785560" y="4145040"/>
            <a:ext cx="2520" cy="35784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  <p:sp>
        <p:nvSpPr>
          <p:cNvPr id="532" name="Прямая соединительная линия 46"/>
          <p:cNvSpPr/>
          <p:nvPr/>
        </p:nvSpPr>
        <p:spPr>
          <a:xfrm flipV="1">
            <a:off x="6215040" y="4143240"/>
            <a:ext cx="1440" cy="21456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ая соединительная линия 48"/>
          <p:cNvSpPr/>
          <p:nvPr/>
        </p:nvSpPr>
        <p:spPr>
          <a:xfrm>
            <a:off x="6215040" y="4143240"/>
            <a:ext cx="1143000" cy="180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Прямая со стрелкой 50"/>
          <p:cNvCxnSpPr/>
          <p:nvPr/>
        </p:nvCxnSpPr>
        <p:spPr>
          <a:xfrm flipH="1">
            <a:off x="7357680" y="4145040"/>
            <a:ext cx="2160" cy="357840"/>
          </a:xfrm>
          <a:prstGeom prst="straightConnector1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537" name="TextBox 4" descr=""/>
          <p:cNvPicPr/>
          <p:nvPr/>
        </p:nvPicPr>
        <p:blipFill>
          <a:blip r:embed="rId3"/>
          <a:stretch/>
        </p:blipFill>
        <p:spPr>
          <a:xfrm>
            <a:off x="1584360" y="463680"/>
            <a:ext cx="6541920" cy="633240"/>
          </a:xfrm>
          <a:prstGeom prst="rect">
            <a:avLst/>
          </a:prstGeom>
          <a:ln w="0">
            <a:noFill/>
          </a:ln>
        </p:spPr>
      </p:pic>
      <p:grpSp>
        <p:nvGrpSpPr>
          <p:cNvPr id="538" name="TextBox 5"/>
          <p:cNvGrpSpPr/>
          <p:nvPr/>
        </p:nvGrpSpPr>
        <p:grpSpPr>
          <a:xfrm>
            <a:off x="1554120" y="1103400"/>
            <a:ext cx="7431120" cy="963360"/>
            <a:chOff x="1554120" y="1103400"/>
            <a:chExt cx="7431120" cy="963360"/>
          </a:xfrm>
        </p:grpSpPr>
        <p:pic>
          <p:nvPicPr>
            <p:cNvPr id="539" name="TextBox 5" descr=""/>
            <p:cNvPicPr/>
            <p:nvPr/>
          </p:nvPicPr>
          <p:blipFill>
            <a:blip r:embed="rId4"/>
            <a:stretch/>
          </p:blipFill>
          <p:spPr>
            <a:xfrm>
              <a:off x="1554120" y="1103400"/>
              <a:ext cx="743112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654200" y="1184400"/>
              <a:ext cx="72342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складаназалежным сказе з некалькімі даданымі часткамі адна частка ад другой найчасцей аддзяляецца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оскай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Ласі з’явіліся на Палессі, каб напомніць нам, што іх далёкія продкі адчувалі сябе тут гаспадарамі. (А. Вольскі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TextBox 6"/>
          <p:cNvGrpSpPr/>
          <p:nvPr/>
        </p:nvGrpSpPr>
        <p:grpSpPr>
          <a:xfrm>
            <a:off x="1511280" y="2249640"/>
            <a:ext cx="7431120" cy="1185480"/>
            <a:chOff x="1511280" y="2249640"/>
            <a:chExt cx="7431120" cy="1185480"/>
          </a:xfrm>
        </p:grpSpPr>
        <p:pic>
          <p:nvPicPr>
            <p:cNvPr id="542" name="TextBox 6" descr=""/>
            <p:cNvPicPr/>
            <p:nvPr/>
          </p:nvPicPr>
          <p:blipFill>
            <a:blip r:embed="rId5"/>
            <a:stretch/>
          </p:blipFill>
          <p:spPr>
            <a:xfrm>
              <a:off x="1511280" y="2249640"/>
              <a:ext cx="743112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1622520" y="2336760"/>
              <a:ext cx="721512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даданыя часткі аднародныя і маюць пры падпарадкавальным злучніку (злучальным слове) узмацняльную часціцу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, то яны аддзяляюцца адна ад другой, як аднародныя члены ў простым сказе,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оскамі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Дзе гоні сінеюць, і дзе шэпчуць бары, і дзе сцежкі ў восеньскім пыле, трыццатыя суткі звіняць тапары. (П. Броў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TextBox 7"/>
          <p:cNvGrpSpPr/>
          <p:nvPr/>
        </p:nvGrpSpPr>
        <p:grpSpPr>
          <a:xfrm>
            <a:off x="1511280" y="3608280"/>
            <a:ext cx="7431120" cy="1146240"/>
            <a:chOff x="1511280" y="3608280"/>
            <a:chExt cx="7431120" cy="1146240"/>
          </a:xfrm>
        </p:grpSpPr>
        <p:pic>
          <p:nvPicPr>
            <p:cNvPr id="545" name="TextBox 7" descr=""/>
            <p:cNvPicPr/>
            <p:nvPr/>
          </p:nvPicPr>
          <p:blipFill>
            <a:blip r:embed="rId6"/>
            <a:stretch/>
          </p:blipFill>
          <p:spPr>
            <a:xfrm>
              <a:off x="1511280" y="3608280"/>
              <a:ext cx="743112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622520" y="3693960"/>
              <a:ext cx="7215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злучнік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далучае апошнюю аднародную частку, то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оскай яна не аддзяляецц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. У такім выпадку аднародны злучнік апускаецца, а яго ролю выконвае злучальны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Саша вельмі хацела, каб Пятро зноў вярнуўся да яе і каб у вачах яго свяцілася радасць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І. Шамякі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AutoShape 9"/>
          <p:cNvSpPr/>
          <p:nvPr/>
        </p:nvSpPr>
        <p:spPr>
          <a:xfrm rot="317400">
            <a:off x="69840" y="490680"/>
            <a:ext cx="1405080" cy="1590480"/>
          </a:xfrm>
          <a:custGeom>
            <a:avLst/>
            <a:gdLst>
              <a:gd name="textAreaLeft" fmla="*/ 188280 w 1405080"/>
              <a:gd name="textAreaRight" fmla="*/ 1216800 w 1405080"/>
              <a:gd name="textAreaTop" fmla="*/ 279720 h 1590480"/>
              <a:gd name="textAreaBottom" fmla="*/ 1168560 h 15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98" stAng="-5400000" swAng="-5400000"/>
                <a:lnTo>
                  <a:pt x="0" y="12071"/>
                </a:lnTo>
                <a:arcTo wR="21600" hR="7598" stAng="10800000" swAng="-2691142"/>
                <a:lnTo>
                  <a:pt x="14400" y="21165"/>
                </a:lnTo>
                <a:lnTo>
                  <a:pt x="21600" y="17432"/>
                </a:lnTo>
                <a:lnTo>
                  <a:pt x="14400" y="12828"/>
                </a:lnTo>
                <a:lnTo>
                  <a:pt x="14400" y="14760"/>
                </a:lnTo>
                <a:arcTo wR="21600" hR="7598" stAng="8108858" swAng="2320136"/>
                <a:lnTo>
                  <a:pt x="957" y="9834"/>
                </a:lnTo>
                <a:arcTo wR="21600" hR="7598" stAng="-10428994" swAng="5028994"/>
                <a:close/>
              </a:path>
              <a:path fill="darkenLess" w="21600" h="21600">
                <a:moveTo>
                  <a:pt x="21600" y="0"/>
                </a:moveTo>
                <a:arcTo wR="21600" hR="7598" stAng="-5400000" swAng="-5400000"/>
                <a:lnTo>
                  <a:pt x="0" y="7598"/>
                </a:lnTo>
                <a:arcTo wR="21600" hR="7598" stAng="10800000" swAng="-371006"/>
                <a:lnTo>
                  <a:pt x="957" y="9834"/>
                </a:lnTo>
                <a:arcTo wR="21600" hR="7598" stAng="-10428994" swAng="502899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9"/>
          <p:cNvSpPr/>
          <p:nvPr/>
        </p:nvSpPr>
        <p:spPr>
          <a:xfrm rot="317400">
            <a:off x="120240" y="556920"/>
            <a:ext cx="1359000" cy="2600280"/>
          </a:xfrm>
          <a:custGeom>
            <a:avLst/>
            <a:gdLst>
              <a:gd name="textAreaLeft" fmla="*/ 181800 w 1359000"/>
              <a:gd name="textAreaRight" fmla="*/ 1177200 w 1359000"/>
              <a:gd name="textAreaTop" fmla="*/ 542880 h 2600280"/>
              <a:gd name="textAreaBottom" fmla="*/ 1911960 h 26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21" stAng="-5400000" swAng="-5400000"/>
                <a:lnTo>
                  <a:pt x="0" y="11372"/>
                </a:lnTo>
                <a:arcTo wR="21600" hR="9021" stAng="10800000" swAng="-2889706"/>
                <a:lnTo>
                  <a:pt x="14035" y="21029"/>
                </a:lnTo>
                <a:lnTo>
                  <a:pt x="21600" y="19218"/>
                </a:lnTo>
                <a:lnTo>
                  <a:pt x="14035" y="16264"/>
                </a:lnTo>
                <a:lnTo>
                  <a:pt x="14035" y="17471"/>
                </a:lnTo>
                <a:arcTo wR="21600" hR="9021" stAng="7910294" swAng="2701200"/>
                <a:lnTo>
                  <a:pt x="184" y="10196"/>
                </a:lnTo>
                <a:arcTo wR="21600" hR="9021" stAng="-10611494" swAng="5211494"/>
                <a:close/>
              </a:path>
              <a:path fill="darkenLess" w="21600" h="21600">
                <a:moveTo>
                  <a:pt x="21600" y="0"/>
                </a:moveTo>
                <a:arcTo wR="21600" hR="9021" stAng="-5400000" swAng="-5400000"/>
                <a:lnTo>
                  <a:pt x="0" y="9021"/>
                </a:lnTo>
                <a:arcTo wR="21600" hR="9021" stAng="10800000" swAng="-188506"/>
                <a:lnTo>
                  <a:pt x="184" y="10196"/>
                </a:lnTo>
                <a:arcTo wR="21600" hR="9021" stAng="-10611494" swAng="521149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469800" y="500040"/>
            <a:ext cx="1071720" cy="414324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915120 h 4143240"/>
              <a:gd name="textAreaBottom" fmla="*/ 3123720 h 414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44" stAng="-5400000" swAng="-5400000"/>
                <a:lnTo>
                  <a:pt x="0" y="11514"/>
                </a:lnTo>
                <a:arcTo wR="21600" hR="9544" stAng="10800000" swAng="-3019681"/>
                <a:lnTo>
                  <a:pt x="14168" y="21017"/>
                </a:lnTo>
                <a:lnTo>
                  <a:pt x="21600" y="20072"/>
                </a:lnTo>
                <a:lnTo>
                  <a:pt x="14168" y="17961"/>
                </a:lnTo>
                <a:lnTo>
                  <a:pt x="14168" y="18504"/>
                </a:lnTo>
                <a:arcTo wR="21600" hR="9544" stAng="7780319" swAng="2862182"/>
                <a:lnTo>
                  <a:pt x="115" y="10529"/>
                </a:lnTo>
                <a:arcTo wR="21600" hR="9544" stAng="-10642501" swAng="5242501"/>
                <a:close/>
              </a:path>
              <a:path fill="darkenLess" w="21600" h="21600">
                <a:moveTo>
                  <a:pt x="21600" y="0"/>
                </a:moveTo>
                <a:arcTo wR="21600" hR="9544" stAng="-5400000" swAng="-5400000"/>
                <a:lnTo>
                  <a:pt x="0" y="9544"/>
                </a:lnTo>
                <a:arcTo wR="21600" hR="9544" stAng="10800000" swAng="-157499"/>
                <a:lnTo>
                  <a:pt x="115" y="10529"/>
                </a:lnTo>
                <a:arcTo wR="21600" hR="9544" stAng="-10642501" swAng="5242501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TextBox 11"/>
          <p:cNvGrpSpPr/>
          <p:nvPr/>
        </p:nvGrpSpPr>
        <p:grpSpPr>
          <a:xfrm>
            <a:off x="1511280" y="4748040"/>
            <a:ext cx="7400880" cy="1152720"/>
            <a:chOff x="1511280" y="4748040"/>
            <a:chExt cx="7400880" cy="1152720"/>
          </a:xfrm>
        </p:grpSpPr>
        <p:pic>
          <p:nvPicPr>
            <p:cNvPr id="551" name="TextBox 11" descr=""/>
            <p:cNvPicPr/>
            <p:nvPr/>
          </p:nvPicPr>
          <p:blipFill>
            <a:blip r:embed="rId7"/>
            <a:stretch/>
          </p:blipFill>
          <p:spPr>
            <a:xfrm>
              <a:off x="1511280" y="4748040"/>
              <a:ext cx="740088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1622520" y="4836960"/>
              <a:ext cx="71848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аднародныя даданыя часткі развітыя і маюць свае знакі прыпынку, то яны могуць аддзяляцца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ропкай з </a:t>
              </a: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оска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У цішыні ночы чуваць было, як распраўляе малады ліст зялёная папараць, атрасаючы з сябе засохлую ігліцу; як шамаціць вожык пад кустом, збіраючыся ў начныя паходы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М. Лынькоў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AutoShape 9"/>
          <p:cNvSpPr/>
          <p:nvPr/>
        </p:nvSpPr>
        <p:spPr>
          <a:xfrm>
            <a:off x="469800" y="642960"/>
            <a:ext cx="1071720" cy="500076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1129680 h 5000760"/>
              <a:gd name="textAreaBottom" fmla="*/ 3767040 h 500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59" stAng="-5400000" swAng="-5400000"/>
                <a:lnTo>
                  <a:pt x="0" y="11391"/>
                </a:lnTo>
                <a:arcTo wR="21600" hR="9759" stAng="10800000" swAng="-3057320"/>
                <a:lnTo>
                  <a:pt x="14168" y="21004"/>
                </a:lnTo>
                <a:lnTo>
                  <a:pt x="21600" y="20334"/>
                </a:lnTo>
                <a:lnTo>
                  <a:pt x="14168" y="18472"/>
                </a:lnTo>
                <a:lnTo>
                  <a:pt x="14168" y="18922"/>
                </a:lnTo>
                <a:arcTo wR="21600" hR="9759" stAng="7742680" swAng="2927055"/>
                <a:lnTo>
                  <a:pt x="76" y="10575"/>
                </a:lnTo>
                <a:arcTo wR="21600" hR="9759" stAng="-10669736" swAng="5269736"/>
                <a:close/>
              </a:path>
              <a:path fill="darkenLess" w="21600" h="21600">
                <a:moveTo>
                  <a:pt x="21600" y="0"/>
                </a:moveTo>
                <a:arcTo wR="21600" hR="9759" stAng="-5400000" swAng="-5400000"/>
                <a:lnTo>
                  <a:pt x="0" y="9759"/>
                </a:lnTo>
                <a:arcTo wR="21600" hR="9759" stAng="10800000" swAng="-130264"/>
                <a:lnTo>
                  <a:pt x="76" y="10575"/>
                </a:lnTo>
                <a:arcTo wR="21600" hR="9759" stAng="-10669736" swAng="5269736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0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9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556" name="TextBox 4" descr=""/>
          <p:cNvPicPr/>
          <p:nvPr/>
        </p:nvPicPr>
        <p:blipFill>
          <a:blip r:embed="rId3"/>
          <a:stretch/>
        </p:blipFill>
        <p:spPr>
          <a:xfrm>
            <a:off x="1620720" y="1316160"/>
            <a:ext cx="6548400" cy="635040"/>
          </a:xfrm>
          <a:prstGeom prst="rect">
            <a:avLst/>
          </a:prstGeom>
          <a:ln w="0">
            <a:noFill/>
          </a:ln>
        </p:spPr>
      </p:pic>
      <p:grpSp>
        <p:nvGrpSpPr>
          <p:cNvPr id="557" name="TextBox 5"/>
          <p:cNvGrpSpPr/>
          <p:nvPr/>
        </p:nvGrpSpPr>
        <p:grpSpPr>
          <a:xfrm>
            <a:off x="1584360" y="2109960"/>
            <a:ext cx="6675480" cy="1359360"/>
            <a:chOff x="1584360" y="2109960"/>
            <a:chExt cx="6675480" cy="1359360"/>
          </a:xfrm>
        </p:grpSpPr>
        <p:pic>
          <p:nvPicPr>
            <p:cNvPr id="558" name="TextBox 5" descr=""/>
            <p:cNvPicPr/>
            <p:nvPr/>
          </p:nvPicPr>
          <p:blipFill>
            <a:blip r:embed="rId4"/>
            <a:stretch/>
          </p:blipFill>
          <p:spPr>
            <a:xfrm>
              <a:off x="1584360" y="2109960"/>
              <a:ext cx="667548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703520" y="2203560"/>
              <a:ext cx="644040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ры паслядоўным падпарадкаванні даданых частак можа быць збег падпарадкавальных злучнікаў. Калі ўключаная даданая частка далучаецца да наступнай даданай часткі пры дапамозе адзіночнага падпарадкавальнага злучніка, то яна выдзяляецца з абодвух бакоў коскамі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Ліна разумела, што, калі яна прыляжа хоць на хвілінку, болей можа і не прачнуцца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У. Мяжэвіч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TextBox 6"/>
          <p:cNvGrpSpPr/>
          <p:nvPr/>
        </p:nvGrpSpPr>
        <p:grpSpPr>
          <a:xfrm>
            <a:off x="1620720" y="3676680"/>
            <a:ext cx="6718320" cy="1150920"/>
            <a:chOff x="1620720" y="3676680"/>
            <a:chExt cx="6718320" cy="1150920"/>
          </a:xfrm>
        </p:grpSpPr>
        <p:pic>
          <p:nvPicPr>
            <p:cNvPr id="561" name="TextBox 6" descr=""/>
            <p:cNvPicPr/>
            <p:nvPr/>
          </p:nvPicPr>
          <p:blipFill>
            <a:blip r:embed="rId5"/>
            <a:stretch/>
          </p:blipFill>
          <p:spPr>
            <a:xfrm>
              <a:off x="1620720" y="3676680"/>
              <a:ext cx="67183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1735200" y="3765600"/>
              <a:ext cx="65008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ўключаная даданая частка далучаецца да наступнай даданай часткі пры дапамозе падвойнага падпарадкавальнага злучніка (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аб … то, калі … то, хоць … але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), коска паміж злучнікамі перад пачаткам уключанай даданай часткі не ставіцца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Я глядзеў на сваю маленькую хату і думаў, што каб вось цяпер сабраліся ў вёску ўсе даваенныя жыцькаўцы і захацелі забраць кожны сваё бервяно, то наша хата зусім бы знікла. (Я. Сіпакоў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AutoShape 9"/>
          <p:cNvSpPr/>
          <p:nvPr/>
        </p:nvSpPr>
        <p:spPr>
          <a:xfrm rot="317400">
            <a:off x="112680" y="1347840"/>
            <a:ext cx="1405080" cy="1590480"/>
          </a:xfrm>
          <a:custGeom>
            <a:avLst/>
            <a:gdLst>
              <a:gd name="textAreaLeft" fmla="*/ 188280 w 1405080"/>
              <a:gd name="textAreaRight" fmla="*/ 1216800 w 1405080"/>
              <a:gd name="textAreaTop" fmla="*/ 279720 h 1590480"/>
              <a:gd name="textAreaBottom" fmla="*/ 1168560 h 15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98" stAng="-5400000" swAng="-5400000"/>
                <a:lnTo>
                  <a:pt x="0" y="12071"/>
                </a:lnTo>
                <a:arcTo wR="21600" hR="7598" stAng="10800000" swAng="-2691142"/>
                <a:lnTo>
                  <a:pt x="14400" y="21165"/>
                </a:lnTo>
                <a:lnTo>
                  <a:pt x="21600" y="17432"/>
                </a:lnTo>
                <a:lnTo>
                  <a:pt x="14400" y="12828"/>
                </a:lnTo>
                <a:lnTo>
                  <a:pt x="14400" y="14760"/>
                </a:lnTo>
                <a:arcTo wR="21600" hR="7598" stAng="8108858" swAng="2320136"/>
                <a:lnTo>
                  <a:pt x="957" y="9834"/>
                </a:lnTo>
                <a:arcTo wR="21600" hR="7598" stAng="-10428994" swAng="5028994"/>
                <a:close/>
              </a:path>
              <a:path fill="darkenLess" w="21600" h="21600">
                <a:moveTo>
                  <a:pt x="21600" y="0"/>
                </a:moveTo>
                <a:arcTo wR="21600" hR="7598" stAng="-5400000" swAng="-5400000"/>
                <a:lnTo>
                  <a:pt x="0" y="7598"/>
                </a:lnTo>
                <a:arcTo wR="21600" hR="7598" stAng="10800000" swAng="-371006"/>
                <a:lnTo>
                  <a:pt x="957" y="9834"/>
                </a:lnTo>
                <a:arcTo wR="21600" hR="7598" stAng="-10428994" swAng="502899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9"/>
          <p:cNvSpPr/>
          <p:nvPr/>
        </p:nvSpPr>
        <p:spPr>
          <a:xfrm rot="317400">
            <a:off x="139320" y="1412640"/>
            <a:ext cx="1359000" cy="3093840"/>
          </a:xfrm>
          <a:custGeom>
            <a:avLst/>
            <a:gdLst>
              <a:gd name="textAreaLeft" fmla="*/ 181800 w 1359000"/>
              <a:gd name="textAreaRight" fmla="*/ 1177200 w 1359000"/>
              <a:gd name="textAreaTop" fmla="*/ 666360 h 3093840"/>
              <a:gd name="textAreaBottom" fmla="*/ 2282400 h 30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04" stAng="-5400000" swAng="-5400000"/>
                <a:lnTo>
                  <a:pt x="0" y="11282"/>
                </a:lnTo>
                <a:arcTo wR="21600" hR="9304" stAng="10800000" swAng="-2942380"/>
                <a:lnTo>
                  <a:pt x="14035" y="21011"/>
                </a:lnTo>
                <a:lnTo>
                  <a:pt x="21600" y="19597"/>
                </a:lnTo>
                <a:lnTo>
                  <a:pt x="14035" y="17005"/>
                </a:lnTo>
                <a:lnTo>
                  <a:pt x="14035" y="18019"/>
                </a:lnTo>
                <a:arcTo wR="21600" hR="9304" stAng="7857620" swAng="2784190"/>
                <a:lnTo>
                  <a:pt x="122" y="10293"/>
                </a:lnTo>
                <a:arcTo wR="21600" hR="9304" stAng="-10641811" swAng="5241811"/>
                <a:close/>
              </a:path>
              <a:path fill="darkenLess" w="21600" h="21600">
                <a:moveTo>
                  <a:pt x="21600" y="0"/>
                </a:moveTo>
                <a:arcTo wR="21600" hR="9304" stAng="-5400000" swAng="-5400000"/>
                <a:lnTo>
                  <a:pt x="0" y="9304"/>
                </a:lnTo>
                <a:arcTo wR="21600" hR="9304" stAng="10800000" swAng="-158189"/>
                <a:lnTo>
                  <a:pt x="122" y="10293"/>
                </a:lnTo>
                <a:arcTo wR="21600" hR="9304" stAng="-10641811" swAng="5241811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3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3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3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3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567" name="TextBox 4" descr=""/>
          <p:cNvPicPr/>
          <p:nvPr/>
        </p:nvPicPr>
        <p:blipFill>
          <a:blip r:embed="rId3"/>
          <a:stretch/>
        </p:blipFill>
        <p:spPr>
          <a:xfrm>
            <a:off x="1438200" y="676440"/>
            <a:ext cx="6546960" cy="6346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6"/>
          <p:cNvSpPr/>
          <p:nvPr/>
        </p:nvSpPr>
        <p:spPr>
          <a:xfrm>
            <a:off x="2000160" y="2000160"/>
            <a:ext cx="5500800" cy="3077640"/>
          </a:xfrm>
          <a:prstGeom prst="rect">
            <a:avLst/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ызначыць тып сказа па мэце выказва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азваць галоўную і даданыя часткі, вызначыўшы ў іх граматычныя асно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базначыць лічбамі сэнсава-граматычныя часткі, графічна – сродкі іх сувяз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ызначыць від падпарадкавання (паслядоўнае, сузалежнае, змешанае) і від даданых часта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Разабраць кожную частку па членах ска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абудаваць схему ска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571" name="TextBox 4" descr=""/>
          <p:cNvPicPr/>
          <p:nvPr/>
        </p:nvPicPr>
        <p:blipFill>
          <a:blip r:embed="rId3"/>
          <a:stretch/>
        </p:blipFill>
        <p:spPr>
          <a:xfrm>
            <a:off x="1438200" y="817560"/>
            <a:ext cx="6546960" cy="633240"/>
          </a:xfrm>
          <a:prstGeom prst="rect">
            <a:avLst/>
          </a:prstGeom>
          <a:ln w="0">
            <a:noFill/>
          </a:ln>
        </p:spPr>
      </p:pic>
      <p:pic>
        <p:nvPicPr>
          <p:cNvPr id="572" name="TextBox 5" descr=""/>
          <p:cNvPicPr/>
          <p:nvPr/>
        </p:nvPicPr>
        <p:blipFill>
          <a:blip r:embed="rId4"/>
          <a:stretch/>
        </p:blipFill>
        <p:spPr>
          <a:xfrm>
            <a:off x="225360" y="1676520"/>
            <a:ext cx="2041560" cy="420480"/>
          </a:xfrm>
          <a:prstGeom prst="rect">
            <a:avLst/>
          </a:prstGeom>
          <a:ln w="0">
            <a:noFill/>
          </a:ln>
        </p:spPr>
      </p:pic>
      <p:grpSp>
        <p:nvGrpSpPr>
          <p:cNvPr id="573" name="Группа 40"/>
          <p:cNvGrpSpPr/>
          <p:nvPr/>
        </p:nvGrpSpPr>
        <p:grpSpPr>
          <a:xfrm>
            <a:off x="2571840" y="2286000"/>
            <a:ext cx="6000840" cy="733320"/>
            <a:chOff x="2571840" y="2286000"/>
            <a:chExt cx="6000840" cy="733320"/>
          </a:xfrm>
        </p:grpSpPr>
        <p:sp>
          <p:nvSpPr>
            <p:cNvPr id="574" name="TextBox 6"/>
            <p:cNvSpPr/>
            <p:nvPr/>
          </p:nvSpPr>
          <p:spPr>
            <a:xfrm>
              <a:off x="2571840" y="2286000"/>
              <a:ext cx="6000840" cy="733320"/>
            </a:xfrm>
            <a:prstGeom prst="rect">
              <a:avLst/>
            </a:prstGeom>
            <a:gradFill rotWithShape="0">
              <a:gsLst>
                <a:gs pos="0">
                  <a:srgbClr val="ceceff"/>
                </a:gs>
                <a:gs pos="100000">
                  <a:srgbClr val="efefff"/>
                </a:gs>
              </a:gsLst>
              <a:lin ang="16200000"/>
            </a:gradFill>
            <a:ln w="9360">
              <a:solidFill>
                <a:srgbClr val="c4c4f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 </a:t>
              </a:r>
              <a:r>
                <a:rPr b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мала</a:t>
              </a: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</a:t>
              </a:r>
              <a:r>
                <a:rPr b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цякала</a:t>
              </a: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 ў  бляшаны</a:t>
              </a: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</a:t>
              </a:r>
              <a:r>
                <a:rPr b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казырок</a:t>
              </a: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</a:t>
              </a:r>
              <a:r>
                <a:rPr b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драбнюткімі</a:t>
              </a: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</a:t>
              </a:r>
              <a:r>
                <a:rPr b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кропелькамі</a:t>
              </a:r>
              <a:r>
                <a:rPr b="1" lang="en-US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      што    </a:t>
              </a:r>
              <a:r>
                <a:rPr b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выступалі</a:t>
              </a: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на  дрэве  там</a:t>
              </a: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), (      дзе    </a:t>
              </a:r>
              <a:r>
                <a:rPr b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ыла</a:t>
              </a: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  </a:t>
              </a:r>
              <a:r>
                <a:rPr b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зроблена</a:t>
              </a: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</a:t>
              </a:r>
              <a:r>
                <a:rPr b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вежая</a:t>
              </a: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</a:t>
              </a:r>
              <a:r>
                <a:rPr b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нарэзка</a:t>
              </a:r>
              <a:r>
                <a:rPr b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).  (У. Мяжэвіч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Овал 7"/>
            <p:cNvSpPr/>
            <p:nvPr/>
          </p:nvSpPr>
          <p:spPr>
            <a:xfrm>
              <a:off x="2928960" y="2571840"/>
              <a:ext cx="42840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Овал 8"/>
            <p:cNvSpPr/>
            <p:nvPr/>
          </p:nvSpPr>
          <p:spPr>
            <a:xfrm>
              <a:off x="2857320" y="2571840"/>
              <a:ext cx="57132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Овал 9"/>
            <p:cNvSpPr/>
            <p:nvPr/>
          </p:nvSpPr>
          <p:spPr>
            <a:xfrm>
              <a:off x="5857920" y="2571840"/>
              <a:ext cx="42840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Овал 10"/>
            <p:cNvSpPr/>
            <p:nvPr/>
          </p:nvSpPr>
          <p:spPr>
            <a:xfrm>
              <a:off x="5786640" y="2571840"/>
              <a:ext cx="571320" cy="214200"/>
            </a:xfrm>
            <a:prstGeom prst="ellipse">
              <a:avLst/>
            </a:prstGeom>
            <a:noFill/>
            <a:ln w="2556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Прямоугольник 11"/>
            <p:cNvSpPr/>
            <p:nvPr/>
          </p:nvSpPr>
          <p:spPr>
            <a:xfrm>
              <a:off x="2653920" y="228600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e5"/>
                  </a:solidFill>
                  <a:latin typeface="Arial"/>
                </a:rPr>
                <a:t>1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Прямоугольник 12"/>
            <p:cNvSpPr/>
            <p:nvPr/>
          </p:nvSpPr>
          <p:spPr>
            <a:xfrm>
              <a:off x="2653920" y="250020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e5"/>
                  </a:solidFill>
                  <a:latin typeface="Arial"/>
                </a:rPr>
                <a:t>2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Прямоугольник 13"/>
            <p:cNvSpPr/>
            <p:nvPr/>
          </p:nvSpPr>
          <p:spPr>
            <a:xfrm>
              <a:off x="5580000" y="2500200"/>
              <a:ext cx="25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e5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2" name="TextBox 14" descr=""/>
          <p:cNvPicPr/>
          <p:nvPr/>
        </p:nvPicPr>
        <p:blipFill>
          <a:blip r:embed="rId5"/>
          <a:stretch/>
        </p:blipFill>
        <p:spPr>
          <a:xfrm>
            <a:off x="438120" y="3316320"/>
            <a:ext cx="2043000" cy="420480"/>
          </a:xfrm>
          <a:prstGeom prst="rect">
            <a:avLst/>
          </a:prstGeom>
          <a:ln w="0">
            <a:noFill/>
          </a:ln>
        </p:spPr>
      </p:pic>
      <p:grpSp>
        <p:nvGrpSpPr>
          <p:cNvPr id="583" name="Группа 39"/>
          <p:cNvGrpSpPr/>
          <p:nvPr/>
        </p:nvGrpSpPr>
        <p:grpSpPr>
          <a:xfrm>
            <a:off x="2688480" y="3785760"/>
            <a:ext cx="5279760" cy="654480"/>
            <a:chOff x="2688480" y="3785760"/>
            <a:chExt cx="5279760" cy="654480"/>
          </a:xfrm>
        </p:grpSpPr>
        <p:sp>
          <p:nvSpPr>
            <p:cNvPr id="584" name="Прямоугольник 16"/>
            <p:cNvSpPr/>
            <p:nvPr/>
          </p:nvSpPr>
          <p:spPr>
            <a:xfrm>
              <a:off x="2688480" y="4071960"/>
              <a:ext cx="52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8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  наз. </a:t>
              </a:r>
              <a:r>
                <a:rPr b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 (      што    …  дзеясл.  + ук. сл.), (      дзе    …).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Группа 38"/>
            <p:cNvGrpSpPr/>
            <p:nvPr/>
          </p:nvGrpSpPr>
          <p:grpSpPr>
            <a:xfrm>
              <a:off x="2793600" y="3785760"/>
              <a:ext cx="4849560" cy="654480"/>
              <a:chOff x="2793600" y="3785760"/>
              <a:chExt cx="4849560" cy="654480"/>
            </a:xfrm>
          </p:grpSpPr>
          <p:sp>
            <p:nvSpPr>
              <p:cNvPr id="586" name="Прямоугольник 17"/>
              <p:cNvSpPr/>
              <p:nvPr/>
            </p:nvSpPr>
            <p:spPr>
              <a:xfrm>
                <a:off x="2793600" y="407196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 baseline="30000">
                    <a:solidFill>
                      <a:srgbClr val="0000e5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Прямоугольник 18"/>
              <p:cNvSpPr/>
              <p:nvPr/>
            </p:nvSpPr>
            <p:spPr>
              <a:xfrm>
                <a:off x="3653640" y="407196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 baseline="30000">
                    <a:solidFill>
                      <a:srgbClr val="0000e5"/>
                    </a:solidFill>
                    <a:latin typeface="Arial"/>
                  </a:rPr>
                  <a:t>2</a:t>
                </a:r>
                <a:r>
                  <a:rPr b="1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Прямоугольник 19"/>
              <p:cNvSpPr/>
              <p:nvPr/>
            </p:nvSpPr>
            <p:spPr>
              <a:xfrm>
                <a:off x="6579720" y="4071960"/>
                <a:ext cx="25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 baseline="30000">
                    <a:solidFill>
                      <a:srgbClr val="0000e5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Овал 20"/>
              <p:cNvSpPr/>
              <p:nvPr/>
            </p:nvSpPr>
            <p:spPr>
              <a:xfrm>
                <a:off x="3999960" y="4143240"/>
                <a:ext cx="428400" cy="214200"/>
              </a:xfrm>
              <a:prstGeom prst="ellipse">
                <a:avLst/>
              </a:prstGeom>
              <a:noFill/>
              <a:ln w="2556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Овал 21"/>
              <p:cNvSpPr/>
              <p:nvPr/>
            </p:nvSpPr>
            <p:spPr>
              <a:xfrm>
                <a:off x="3928680" y="4143240"/>
                <a:ext cx="571320" cy="214200"/>
              </a:xfrm>
              <a:prstGeom prst="ellipse">
                <a:avLst/>
              </a:prstGeom>
              <a:noFill/>
              <a:ln w="2556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Овал 22"/>
              <p:cNvSpPr/>
              <p:nvPr/>
            </p:nvSpPr>
            <p:spPr>
              <a:xfrm>
                <a:off x="6857640" y="4143240"/>
                <a:ext cx="428400" cy="214200"/>
              </a:xfrm>
              <a:prstGeom prst="ellipse">
                <a:avLst/>
              </a:prstGeom>
              <a:noFill/>
              <a:ln w="2556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Овал 23"/>
              <p:cNvSpPr/>
              <p:nvPr/>
            </p:nvSpPr>
            <p:spPr>
              <a:xfrm>
                <a:off x="6786000" y="4143240"/>
                <a:ext cx="571320" cy="214200"/>
              </a:xfrm>
              <a:prstGeom prst="ellipse">
                <a:avLst/>
              </a:prstGeom>
              <a:noFill/>
              <a:ln w="2556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Box 24"/>
              <p:cNvSpPr/>
              <p:nvPr/>
            </p:nvSpPr>
            <p:spPr>
              <a:xfrm>
                <a:off x="2928240" y="3857400"/>
                <a:ext cx="471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1" lang="be-BY" sz="16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be-BY" sz="16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х                                                       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Прямая соединительная линия 26"/>
              <p:cNvSpPr/>
              <p:nvPr/>
            </p:nvSpPr>
            <p:spPr>
              <a:xfrm flipV="1">
                <a:off x="3212640" y="3787200"/>
                <a:ext cx="2880" cy="142920"/>
              </a:xfrm>
              <a:prstGeom prst="line">
                <a:avLst/>
              </a:prstGeom>
              <a:ln w="19080">
                <a:solidFill>
                  <a:srgbClr val="000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Прямая соединительная линия 28"/>
              <p:cNvSpPr/>
              <p:nvPr/>
            </p:nvSpPr>
            <p:spPr>
              <a:xfrm>
                <a:off x="3214080" y="3786120"/>
                <a:ext cx="1000080" cy="1440"/>
              </a:xfrm>
              <a:prstGeom prst="line">
                <a:avLst/>
              </a:prstGeom>
              <a:ln w="19080">
                <a:solidFill>
                  <a:srgbClr val="000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6" name="Прямая со стрелкой 30"/>
              <p:cNvCxnSpPr/>
              <p:nvPr/>
            </p:nvCxnSpPr>
            <p:spPr>
              <a:xfrm flipH="1">
                <a:off x="4212360" y="3787560"/>
                <a:ext cx="3600" cy="286560"/>
              </a:xfrm>
              <a:prstGeom prst="straightConnector1">
                <a:avLst/>
              </a:prstGeom>
              <a:ln w="19080">
                <a:solidFill>
                  <a:srgbClr val="0000e5"/>
                </a:solidFill>
                <a:miter/>
                <a:tailEnd len="med" type="triangle" w="med"/>
              </a:ln>
            </p:spPr>
          </p:cxnSp>
          <p:sp>
            <p:nvSpPr>
              <p:cNvPr id="597" name="Прямая соединительная линия 32"/>
              <p:cNvSpPr/>
              <p:nvPr/>
            </p:nvSpPr>
            <p:spPr>
              <a:xfrm flipV="1">
                <a:off x="6071760" y="3785760"/>
                <a:ext cx="1440" cy="142920"/>
              </a:xfrm>
              <a:prstGeom prst="line">
                <a:avLst/>
              </a:prstGeom>
              <a:ln w="19080">
                <a:solidFill>
                  <a:srgbClr val="000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Прямая соединительная линия 34"/>
              <p:cNvSpPr/>
              <p:nvPr/>
            </p:nvSpPr>
            <p:spPr>
              <a:xfrm>
                <a:off x="6071760" y="3786120"/>
                <a:ext cx="1000080" cy="1440"/>
              </a:xfrm>
              <a:prstGeom prst="line">
                <a:avLst/>
              </a:prstGeom>
              <a:ln w="19080">
                <a:solidFill>
                  <a:srgbClr val="000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9" name="Прямая со стрелкой 36"/>
              <p:cNvCxnSpPr/>
              <p:nvPr/>
            </p:nvCxnSpPr>
            <p:spPr>
              <a:xfrm flipH="1">
                <a:off x="7070040" y="3787560"/>
                <a:ext cx="3600" cy="286560"/>
              </a:xfrm>
              <a:prstGeom prst="straightConnector1">
                <a:avLst/>
              </a:prstGeom>
              <a:ln w="19080">
                <a:solidFill>
                  <a:srgbClr val="0000e5"/>
                </a:solidFill>
                <a:miter/>
                <a:tailEnd len="med" type="triangle" w="med"/>
              </a:ln>
            </p:spPr>
          </p:cxnSp>
        </p:grp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602" name="TextBox 4" descr=""/>
          <p:cNvPicPr/>
          <p:nvPr/>
        </p:nvPicPr>
        <p:blipFill>
          <a:blip r:embed="rId3"/>
          <a:stretch/>
        </p:blipFill>
        <p:spPr>
          <a:xfrm>
            <a:off x="298440" y="817560"/>
            <a:ext cx="2043000" cy="420840"/>
          </a:xfrm>
          <a:prstGeom prst="rect">
            <a:avLst/>
          </a:prstGeom>
          <a:ln w="0">
            <a:noFill/>
          </a:ln>
        </p:spPr>
      </p:pic>
      <p:pic>
        <p:nvPicPr>
          <p:cNvPr id="603" name="TextBox 5" descr=""/>
          <p:cNvPicPr/>
          <p:nvPr/>
        </p:nvPicPr>
        <p:blipFill>
          <a:blip r:embed="rId4"/>
          <a:stretch/>
        </p:blipFill>
        <p:spPr>
          <a:xfrm>
            <a:off x="1438200" y="103320"/>
            <a:ext cx="6546960" cy="635040"/>
          </a:xfrm>
          <a:prstGeom prst="rect">
            <a:avLst/>
          </a:prstGeom>
          <a:ln w="0">
            <a:noFill/>
          </a:ln>
        </p:spPr>
      </p:pic>
      <p:sp>
        <p:nvSpPr>
          <p:cNvPr id="604" name="TextBox 7"/>
          <p:cNvSpPr/>
          <p:nvPr/>
        </p:nvSpPr>
        <p:spPr>
          <a:xfrm>
            <a:off x="785880" y="1285920"/>
            <a:ext cx="77868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каз апавядальны, няклічны, складаны, злучнікавы, складаназалежны з дзвюмя даданымі часткамі, якія звязаны паміж сабой і з галоўнай часткай паслядоўным падпарадкаваннем. Галоўная частка –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мала сцякала ў бляшаны казырок драбнюткімі кропелькамі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; паршая даданая азначальная частка –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што выступалі на дрэве там 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– паясняе ў галоўнай частцы назоўнік, стаіць пасля галоўнай, спалучаецца з ёю пры дапамозе злучальнага слова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што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, адказвае на пытанне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якімі?; 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другая даданая частка –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дзе была зроблена свежая нарэзка 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– паясняе ў першай даданай частцы указальнае слова (прыслоўе), стаіць пасля першай даданай часткі, спалучаецца з ёю пры дапамозе злучальнага слова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дзе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, выражае акалічнасныя (месца) адносіны, адказвае на пытанне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дзе? 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а мяжы частак ставяцца коскі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 галоўнай частцы члены сказа: (што?)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мала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– дзейнік, выражаны агульным назоўнікам у форме Н. скл., адз. л.;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мала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(што рабіла?)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цякала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– просты дзеяслоўны выказнік, выражаны дзеясловам абв. л., пр. ч., 3-й ас., адз. л.;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цякала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(куды?)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у казырок 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– акалічнасць месца, выражана спалучэннем назоўніка ў форме В. скл., адз. л. з прыназоўнікам;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цякала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(як?)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ропелькамі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– акалічнасць спосабу дзеяння, выражана назоўнікам у форме Т. скл., мн. л.;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казырок 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які?)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бляшаны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– дапасаванае азначэнне, выражана прыметнікам;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ропелькамі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(якімі?)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драбнюткімі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– дапасаванае азначэнне, выражана прыметніка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"/>
          <p:cNvSpPr/>
          <p:nvPr/>
        </p:nvSpPr>
        <p:spPr>
          <a:xfrm>
            <a:off x="428760" y="3643200"/>
            <a:ext cx="7786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 першай даданай частцы  члены сказа: ролю дзейніка выконвае злучальнае слова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што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, выражана адносным займеннікам; выказнік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ыступалі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– просты дзеяслоўны выказнік, выражаны дзеясловам абв. л., пр. ч., 3-й ас., мн. л.;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ыступалі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(дзе?)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а дрэве 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– акалічнасць месца, выражана назоўнікам у форме М. скл., адз. л. у спалучэнні з прыназоўнікам;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ыступалі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(дзе?)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там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– акалічнасць месца, выражана прыслоўе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 другой даданай частцы члены сказа: (што?)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арэзка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– дзейнік, выражаны агульным назоўнікам у форме Н. скл., адз. л.; (што рабіла?)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была зроблена 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– састаўны іменны выказнік, звязка была выражана дзеясловам абв. л., пр. ч., 3-й ас., адз. л., іменная частка выражана дзеепрыметнікам;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арэзка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(якая?)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вежая</a:t>
            </a:r>
            <a:r>
              <a:rPr b="1" lang="be-BY" sz="11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– дапасаванае азначэнне, выражана прыметніка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39" name="Скругленный прямоугольник 6"/>
          <p:cNvGrpSpPr/>
          <p:nvPr/>
        </p:nvGrpSpPr>
        <p:grpSpPr>
          <a:xfrm>
            <a:off x="1023840" y="590400"/>
            <a:ext cx="4273560" cy="1347840"/>
            <a:chOff x="1023840" y="590400"/>
            <a:chExt cx="4273560" cy="1347840"/>
          </a:xfrm>
        </p:grpSpPr>
        <p:pic>
          <p:nvPicPr>
            <p:cNvPr id="140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23840" y="590400"/>
              <a:ext cx="42735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117440" y="689040"/>
              <a:ext cx="37656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Ролю падпарадкавальных злучнікаў могуць выконваць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дносныя займеннікі і прыслоўі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Іх называюц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лучальнымі словам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Скругленный прямоугольник 7"/>
          <p:cNvGrpSpPr/>
          <p:nvPr/>
        </p:nvGrpSpPr>
        <p:grpSpPr>
          <a:xfrm>
            <a:off x="1878120" y="1878120"/>
            <a:ext cx="4273560" cy="1346040"/>
            <a:chOff x="1878120" y="1878120"/>
            <a:chExt cx="4273560" cy="1346040"/>
          </a:xfrm>
        </p:grpSpPr>
        <p:pic>
          <p:nvPicPr>
            <p:cNvPr id="143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878120" y="1878120"/>
              <a:ext cx="427356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974960" y="1974960"/>
              <a:ext cx="37656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 захадзе, на ўзлессі Белавежскай пушчы, на палявым узвышшы бялее вежа, што ў далёкім-далёкім мінулым дала назву гэтым дрымучым зубрыным лясам. (Я. Брыль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Скругленный прямоугольник 8"/>
          <p:cNvGrpSpPr/>
          <p:nvPr/>
        </p:nvGrpSpPr>
        <p:grpSpPr>
          <a:xfrm>
            <a:off x="3524400" y="3236760"/>
            <a:ext cx="4271760" cy="1341720"/>
            <a:chOff x="3524400" y="3236760"/>
            <a:chExt cx="4271760" cy="1341720"/>
          </a:xfrm>
        </p:grpSpPr>
        <p:pic>
          <p:nvPicPr>
            <p:cNvPr id="146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3524400" y="3236760"/>
              <a:ext cx="427176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618000" y="3332160"/>
              <a:ext cx="37656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лучальныя словы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не толькі забяспечваюць узаемадзеянне паміж часткамі ў складаназалежных сказах, але і самі з’яўляюцца членамі сказаў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Скругленный прямоугольник 9"/>
          <p:cNvGrpSpPr/>
          <p:nvPr/>
        </p:nvGrpSpPr>
        <p:grpSpPr>
          <a:xfrm>
            <a:off x="4737240" y="4522680"/>
            <a:ext cx="4273560" cy="1341720"/>
            <a:chOff x="4737240" y="4522680"/>
            <a:chExt cx="4273560" cy="1341720"/>
          </a:xfrm>
        </p:grpSpPr>
        <p:pic>
          <p:nvPicPr>
            <p:cNvPr id="149" name="Скругленный 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4737240" y="4522680"/>
              <a:ext cx="427356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832280" y="4618080"/>
              <a:ext cx="37656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алежныя сказы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ў большай ступені, чым складаназлучаныя, маюць магчымасць перадачы разнастайных адносін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53" name="Прямоугольник 4"/>
          <p:cNvGrpSpPr/>
          <p:nvPr/>
        </p:nvGrpSpPr>
        <p:grpSpPr>
          <a:xfrm>
            <a:off x="1938240" y="517680"/>
            <a:ext cx="4975200" cy="463320"/>
            <a:chOff x="1938240" y="517680"/>
            <a:chExt cx="4975200" cy="463320"/>
          </a:xfrm>
        </p:grpSpPr>
        <p:pic>
          <p:nvPicPr>
            <p:cNvPr id="15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938240" y="517680"/>
              <a:ext cx="497520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000160" y="571680"/>
              <a:ext cx="485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алежныя  сказы  падзяляюцца  н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оугольник 5"/>
          <p:cNvGrpSpPr/>
          <p:nvPr/>
        </p:nvGrpSpPr>
        <p:grpSpPr>
          <a:xfrm>
            <a:off x="438120" y="1603440"/>
            <a:ext cx="3116160" cy="633240"/>
            <a:chOff x="438120" y="1603440"/>
            <a:chExt cx="3116160" cy="633240"/>
          </a:xfrm>
        </p:grpSpPr>
        <p:pic>
          <p:nvPicPr>
            <p:cNvPr id="157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38120" y="1603440"/>
              <a:ext cx="31161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00040" y="1643040"/>
              <a:ext cx="300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ладаназалежныя  сказы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 адной даданай частка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оугольник 6"/>
          <p:cNvGrpSpPr/>
          <p:nvPr/>
        </p:nvGrpSpPr>
        <p:grpSpPr>
          <a:xfrm>
            <a:off x="4651200" y="1603440"/>
            <a:ext cx="3975120" cy="633240"/>
            <a:chOff x="4651200" y="1603440"/>
            <a:chExt cx="3975120" cy="633240"/>
          </a:xfrm>
        </p:grpSpPr>
        <p:pic>
          <p:nvPicPr>
            <p:cNvPr id="160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4651200" y="1603440"/>
              <a:ext cx="39751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714920" y="1643040"/>
              <a:ext cx="385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ладаназалежныя  сказы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 некалькімі  даданымі  часткам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Прямая соединительная линия 8"/>
          <p:cNvSpPr/>
          <p:nvPr/>
        </p:nvSpPr>
        <p:spPr>
          <a:xfrm>
            <a:off x="2500200" y="1285920"/>
            <a:ext cx="3429000" cy="144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Прямая со стрелкой 10"/>
          <p:cNvCxnSpPr/>
          <p:nvPr/>
        </p:nvCxnSpPr>
        <p:spPr>
          <a:xfrm flipH="1">
            <a:off x="2498400" y="1285920"/>
            <a:ext cx="2160" cy="2865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64" name="Прямая со стрелкой 12"/>
          <p:cNvCxnSpPr/>
          <p:nvPr/>
        </p:nvCxnSpPr>
        <p:spPr>
          <a:xfrm flipH="1">
            <a:off x="5928480" y="1285920"/>
            <a:ext cx="2520" cy="2865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165" name="Прямая соединительная линия 14"/>
          <p:cNvSpPr/>
          <p:nvPr/>
        </p:nvSpPr>
        <p:spPr>
          <a:xfrm flipV="1">
            <a:off x="4212360" y="928800"/>
            <a:ext cx="1800" cy="35712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TextBox 15" descr=""/>
          <p:cNvPicPr/>
          <p:nvPr/>
        </p:nvPicPr>
        <p:blipFill>
          <a:blip r:embed="rId6"/>
          <a:stretch/>
        </p:blipFill>
        <p:spPr>
          <a:xfrm>
            <a:off x="438120" y="2962440"/>
            <a:ext cx="671400" cy="356688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 16" descr=""/>
          <p:cNvPicPr/>
          <p:nvPr/>
        </p:nvPicPr>
        <p:blipFill>
          <a:blip r:embed="rId7"/>
          <a:stretch/>
        </p:blipFill>
        <p:spPr>
          <a:xfrm>
            <a:off x="1652760" y="2962440"/>
            <a:ext cx="669600" cy="3566880"/>
          </a:xfrm>
          <a:prstGeom prst="rect">
            <a:avLst/>
          </a:prstGeom>
          <a:ln w="0">
            <a:noFill/>
          </a:ln>
        </p:spPr>
      </p:pic>
      <p:pic>
        <p:nvPicPr>
          <p:cNvPr id="168" name="TextBox 17" descr=""/>
          <p:cNvPicPr/>
          <p:nvPr/>
        </p:nvPicPr>
        <p:blipFill>
          <a:blip r:embed="rId8"/>
          <a:stretch/>
        </p:blipFill>
        <p:spPr>
          <a:xfrm>
            <a:off x="2865600" y="2962440"/>
            <a:ext cx="669600" cy="356688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 18" descr=""/>
          <p:cNvPicPr/>
          <p:nvPr/>
        </p:nvPicPr>
        <p:blipFill>
          <a:blip r:embed="rId9"/>
          <a:stretch/>
        </p:blipFill>
        <p:spPr>
          <a:xfrm>
            <a:off x="4651200" y="2962440"/>
            <a:ext cx="669960" cy="356688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19" descr=""/>
          <p:cNvPicPr/>
          <p:nvPr/>
        </p:nvPicPr>
        <p:blipFill>
          <a:blip r:embed="rId10"/>
          <a:stretch/>
        </p:blipFill>
        <p:spPr>
          <a:xfrm>
            <a:off x="6156360" y="2962440"/>
            <a:ext cx="665280" cy="3566880"/>
          </a:xfrm>
          <a:prstGeom prst="rect">
            <a:avLst/>
          </a:prstGeom>
          <a:ln w="0">
            <a:noFill/>
          </a:ln>
        </p:spPr>
      </p:pic>
      <p:pic>
        <p:nvPicPr>
          <p:cNvPr id="171" name="TextBox 20" descr=""/>
          <p:cNvPicPr/>
          <p:nvPr/>
        </p:nvPicPr>
        <p:blipFill>
          <a:blip r:embed="rId11"/>
          <a:stretch/>
        </p:blipFill>
        <p:spPr>
          <a:xfrm>
            <a:off x="7583400" y="2895480"/>
            <a:ext cx="854280" cy="3670560"/>
          </a:xfrm>
          <a:prstGeom prst="rect">
            <a:avLst/>
          </a:prstGeom>
          <a:ln w="0">
            <a:noFill/>
          </a:ln>
        </p:spPr>
      </p:pic>
      <p:cxnSp>
        <p:nvCxnSpPr>
          <p:cNvPr id="172" name="Прямая со стрелкой 22"/>
          <p:cNvCxnSpPr/>
          <p:nvPr/>
        </p:nvCxnSpPr>
        <p:spPr>
          <a:xfrm flipH="1">
            <a:off x="1998360" y="2214720"/>
            <a:ext cx="2160" cy="6433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173" name="Прямая соединительная линия 24"/>
          <p:cNvSpPr/>
          <p:nvPr/>
        </p:nvSpPr>
        <p:spPr>
          <a:xfrm>
            <a:off x="785880" y="2571840"/>
            <a:ext cx="2428920" cy="144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Прямая со стрелкой 26"/>
          <p:cNvCxnSpPr/>
          <p:nvPr/>
        </p:nvCxnSpPr>
        <p:spPr>
          <a:xfrm flipH="1">
            <a:off x="783360" y="2571840"/>
            <a:ext cx="2520" cy="2865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75" name="Прямая со стрелкой 28"/>
          <p:cNvCxnSpPr/>
          <p:nvPr/>
        </p:nvCxnSpPr>
        <p:spPr>
          <a:xfrm flipH="1">
            <a:off x="3212280" y="2571840"/>
            <a:ext cx="2520" cy="2865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76" name="Прямая со стрелкой 30"/>
          <p:cNvCxnSpPr/>
          <p:nvPr/>
        </p:nvCxnSpPr>
        <p:spPr>
          <a:xfrm flipH="1">
            <a:off x="6500520" y="2214720"/>
            <a:ext cx="2160" cy="7149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177" name="Прямая соединительная линия 32"/>
          <p:cNvSpPr/>
          <p:nvPr/>
        </p:nvSpPr>
        <p:spPr>
          <a:xfrm>
            <a:off x="5000760" y="2571840"/>
            <a:ext cx="3071520" cy="144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Прямая со стрелкой 34"/>
          <p:cNvCxnSpPr/>
          <p:nvPr/>
        </p:nvCxnSpPr>
        <p:spPr>
          <a:xfrm flipH="1">
            <a:off x="5000400" y="2571840"/>
            <a:ext cx="216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79" name="Прямая со стрелкой 36"/>
          <p:cNvCxnSpPr/>
          <p:nvPr/>
        </p:nvCxnSpPr>
        <p:spPr>
          <a:xfrm flipH="1">
            <a:off x="8071560" y="2571840"/>
            <a:ext cx="252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82" name="Группа 12"/>
          <p:cNvGrpSpPr/>
          <p:nvPr/>
        </p:nvGrpSpPr>
        <p:grpSpPr>
          <a:xfrm>
            <a:off x="500040" y="1000080"/>
            <a:ext cx="6929640" cy="4714920"/>
            <a:chOff x="500040" y="1000080"/>
            <a:chExt cx="6929640" cy="4714920"/>
          </a:xfrm>
        </p:grpSpPr>
        <p:pic>
          <p:nvPicPr>
            <p:cNvPr id="183" name="Схема 4" descr=""/>
            <p:cNvPicPr/>
            <p:nvPr/>
          </p:nvPicPr>
          <p:blipFill>
            <a:blip r:embed="rId3"/>
            <a:stretch/>
          </p:blipFill>
          <p:spPr>
            <a:xfrm>
              <a:off x="500040" y="1000080"/>
              <a:ext cx="692964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Овал 5"/>
            <p:cNvSpPr/>
            <p:nvPr/>
          </p:nvSpPr>
          <p:spPr>
            <a:xfrm>
              <a:off x="2359800" y="2082600"/>
              <a:ext cx="784080" cy="283680"/>
            </a:xfrm>
            <a:prstGeom prst="ellipse">
              <a:avLst/>
            </a:prstGeom>
            <a:noFill/>
            <a:ln w="1908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Овал 6"/>
            <p:cNvSpPr/>
            <p:nvPr/>
          </p:nvSpPr>
          <p:spPr>
            <a:xfrm>
              <a:off x="3571920" y="2579040"/>
              <a:ext cx="356400" cy="141840"/>
            </a:xfrm>
            <a:prstGeom prst="ellipse">
              <a:avLst/>
            </a:prstGeom>
            <a:noFill/>
            <a:ln w="1260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Овал 7"/>
            <p:cNvSpPr/>
            <p:nvPr/>
          </p:nvSpPr>
          <p:spPr>
            <a:xfrm>
              <a:off x="3571920" y="2508120"/>
              <a:ext cx="356400" cy="283680"/>
            </a:xfrm>
            <a:prstGeom prst="ellipse">
              <a:avLst/>
            </a:prstGeom>
            <a:noFill/>
            <a:ln w="1260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Овал 8"/>
            <p:cNvSpPr/>
            <p:nvPr/>
          </p:nvSpPr>
          <p:spPr>
            <a:xfrm>
              <a:off x="4498920" y="1727640"/>
              <a:ext cx="356400" cy="141840"/>
            </a:xfrm>
            <a:prstGeom prst="ellipse">
              <a:avLst/>
            </a:prstGeom>
            <a:noFill/>
            <a:ln w="1260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Овал 9"/>
            <p:cNvSpPr/>
            <p:nvPr/>
          </p:nvSpPr>
          <p:spPr>
            <a:xfrm>
              <a:off x="4498920" y="1656720"/>
              <a:ext cx="356400" cy="283680"/>
            </a:xfrm>
            <a:prstGeom prst="ellipse">
              <a:avLst/>
            </a:prstGeom>
            <a:noFill/>
            <a:ln w="1260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Овал 10"/>
            <p:cNvSpPr/>
            <p:nvPr/>
          </p:nvSpPr>
          <p:spPr>
            <a:xfrm>
              <a:off x="4498920" y="4636080"/>
              <a:ext cx="356400" cy="212760"/>
            </a:xfrm>
            <a:prstGeom prst="ellipse">
              <a:avLst/>
            </a:prstGeom>
            <a:noFill/>
            <a:ln w="1260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Овал 11"/>
            <p:cNvSpPr/>
            <p:nvPr/>
          </p:nvSpPr>
          <p:spPr>
            <a:xfrm>
              <a:off x="2859120" y="4848840"/>
              <a:ext cx="356400" cy="212760"/>
            </a:xfrm>
            <a:prstGeom prst="ellipse">
              <a:avLst/>
            </a:prstGeom>
            <a:noFill/>
            <a:ln w="1260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93" name="Группа 18"/>
          <p:cNvGrpSpPr/>
          <p:nvPr/>
        </p:nvGrpSpPr>
        <p:grpSpPr>
          <a:xfrm>
            <a:off x="428760" y="142920"/>
            <a:ext cx="8143920" cy="5786280"/>
            <a:chOff x="428760" y="142920"/>
            <a:chExt cx="8143920" cy="5786280"/>
          </a:xfrm>
        </p:grpSpPr>
        <p:grpSp>
          <p:nvGrpSpPr>
            <p:cNvPr id="194" name="Прямоугольник 4"/>
            <p:cNvGrpSpPr/>
            <p:nvPr/>
          </p:nvGrpSpPr>
          <p:grpSpPr>
            <a:xfrm>
              <a:off x="3511440" y="142920"/>
              <a:ext cx="4974480" cy="629640"/>
              <a:chOff x="3511440" y="142920"/>
              <a:chExt cx="4974480" cy="629640"/>
            </a:xfrm>
          </p:grpSpPr>
          <p:pic>
            <p:nvPicPr>
              <p:cNvPr id="195" name="Прямоугольник 4" descr=""/>
              <p:cNvPicPr/>
              <p:nvPr/>
            </p:nvPicPr>
            <p:blipFill>
              <a:blip r:embed="rId3"/>
              <a:stretch/>
            </p:blipFill>
            <p:spPr>
              <a:xfrm>
                <a:off x="3511440" y="142920"/>
                <a:ext cx="4974480" cy="62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3571920" y="181800"/>
                <a:ext cx="4858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Складаназалежныя  сказ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з даданымі азначальнымі часткамі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Скругленный прямоугольник 5"/>
            <p:cNvSpPr/>
            <p:nvPr/>
          </p:nvSpPr>
          <p:spPr>
            <a:xfrm>
              <a:off x="428760" y="891360"/>
              <a:ext cx="5072040" cy="709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c1fb"/>
                </a:gs>
                <a:gs pos="100000">
                  <a:srgbClr val="ededff"/>
                </a:gs>
              </a:gsLst>
              <a:lin ang="16200000"/>
            </a:gradFill>
            <a:ln w="9360">
              <a:solidFill>
                <a:srgbClr val="9494c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аданымі азначальным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зываюцца такія часткі складаназалежных сказаў, якія выконваюць ролю, блізкую да разгорнутых азначэнняў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Группа 9"/>
            <p:cNvGrpSpPr/>
            <p:nvPr/>
          </p:nvGrpSpPr>
          <p:grpSpPr>
            <a:xfrm>
              <a:off x="3214800" y="1742760"/>
              <a:ext cx="5072040" cy="1419120"/>
              <a:chOff x="3214800" y="1742760"/>
              <a:chExt cx="5072040" cy="1419120"/>
            </a:xfrm>
          </p:grpSpPr>
          <p:sp>
            <p:nvSpPr>
              <p:cNvPr id="199" name="Скругленный прямоугольник 6"/>
              <p:cNvSpPr/>
              <p:nvPr/>
            </p:nvSpPr>
            <p:spPr>
              <a:xfrm>
                <a:off x="3214800" y="1742760"/>
                <a:ext cx="5072040" cy="14191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1c1fb"/>
                  </a:gs>
                  <a:gs pos="100000">
                    <a:srgbClr val="ededff"/>
                  </a:gs>
                </a:gsLst>
                <a:lin ang="16200000"/>
              </a:gradFill>
              <a:ln w="9360">
                <a:solidFill>
                  <a:srgbClr val="9494c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1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Даданыя азначальныя часткі звычайна паясняюць члены сказа, выражаныя назоўнікамі або спалучэннем назоўніка з указальным займеннікам, і стаяць пасля іх: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З-пад гаці спакойна цякла рэчка, несучы далей тую порцыю вады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, (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якую 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прызначылі ёй будаўнікі). (Я. Колас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І нада мной шумяць лісты прысадаў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,  (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што  калісь дагледзеў ты). (С. Грахоўскі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Овал 7"/>
              <p:cNvSpPr/>
              <p:nvPr/>
            </p:nvSpPr>
            <p:spPr>
              <a:xfrm>
                <a:off x="4500720" y="2523240"/>
                <a:ext cx="428400" cy="212760"/>
              </a:xfrm>
              <a:prstGeom prst="ellipse">
                <a:avLst/>
              </a:prstGeom>
              <a:noFill/>
              <a:ln w="1908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Овал 8"/>
            <p:cNvSpPr/>
            <p:nvPr/>
          </p:nvSpPr>
          <p:spPr>
            <a:xfrm>
              <a:off x="6429600" y="2736360"/>
              <a:ext cx="428400" cy="212760"/>
            </a:xfrm>
            <a:prstGeom prst="ellipse">
              <a:avLst/>
            </a:prstGeom>
            <a:noFill/>
            <a:ln w="1908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Скругленный прямоугольник 13"/>
            <p:cNvSpPr/>
            <p:nvPr/>
          </p:nvSpPr>
          <p:spPr>
            <a:xfrm>
              <a:off x="428760" y="3304080"/>
              <a:ext cx="5072040" cy="120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1c1fb"/>
                </a:gs>
                <a:gs pos="100000">
                  <a:srgbClr val="ededff"/>
                </a:gs>
              </a:gsLst>
              <a:lin ang="16200000"/>
            </a:gradFill>
            <a:ln w="9360">
              <a:solidFill>
                <a:srgbClr val="9494c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значальныя адносіны паміж часткамі ўстанаўліваюцца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 дапамогай злучнікаў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то, каб, як, нібы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і інш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і злучальных слоў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які, дзе, куды, адкуль, калі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і інш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і вызначаюцца пытаннямі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які? чый? якая? якое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Группа 17"/>
            <p:cNvGrpSpPr/>
            <p:nvPr/>
          </p:nvGrpSpPr>
          <p:grpSpPr>
            <a:xfrm>
              <a:off x="3500640" y="4723200"/>
              <a:ext cx="5072040" cy="1206000"/>
              <a:chOff x="3500640" y="4723200"/>
              <a:chExt cx="5072040" cy="1206000"/>
            </a:xfrm>
          </p:grpSpPr>
          <p:sp>
            <p:nvSpPr>
              <p:cNvPr id="204" name="Скругленный прямоугольник 14"/>
              <p:cNvSpPr/>
              <p:nvPr/>
            </p:nvSpPr>
            <p:spPr>
              <a:xfrm>
                <a:off x="3500640" y="4723200"/>
                <a:ext cx="5072040" cy="1206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1c1fb"/>
                  </a:gs>
                  <a:gs pos="100000">
                    <a:srgbClr val="ededff"/>
                  </a:gs>
                </a:gsLst>
                <a:lin ang="16200000"/>
              </a:gradFill>
              <a:ln w="9360">
                <a:solidFill>
                  <a:srgbClr val="9494c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1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У галоўнай частцы, да якой адносіцца даданая азначальная, могуць ужывацца ўказальныя словы </a:t>
                </a:r>
                <a:r>
                  <a:rPr b="1" i="1" lang="be-BY" sz="11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той, такі, гэтакі </a:t>
                </a:r>
                <a:r>
                  <a:rPr b="1" lang="be-BY" sz="11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і інш.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Мала выпадала такіх начэй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, (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калі б 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можна было паспаць па-людску). (І. Мележ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Овал 15"/>
              <p:cNvSpPr/>
              <p:nvPr/>
            </p:nvSpPr>
            <p:spPr>
              <a:xfrm>
                <a:off x="6143760" y="5361840"/>
                <a:ext cx="500040" cy="141840"/>
              </a:xfrm>
              <a:prstGeom prst="ellipse">
                <a:avLst/>
              </a:prstGeom>
              <a:noFill/>
              <a:ln w="1908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Овал 16"/>
              <p:cNvSpPr/>
              <p:nvPr/>
            </p:nvSpPr>
            <p:spPr>
              <a:xfrm>
                <a:off x="6143760" y="5290560"/>
                <a:ext cx="500040" cy="283680"/>
              </a:xfrm>
              <a:prstGeom prst="ellipse">
                <a:avLst/>
              </a:prstGeom>
              <a:noFill/>
              <a:ln w="19080">
                <a:solidFill>
                  <a:srgbClr val="6f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209" name="Схема 4" descr=""/>
          <p:cNvPicPr/>
          <p:nvPr/>
        </p:nvPicPr>
        <p:blipFill>
          <a:blip r:embed="rId3"/>
          <a:stretch/>
        </p:blipFill>
        <p:spPr>
          <a:xfrm>
            <a:off x="566640" y="907920"/>
            <a:ext cx="6937560" cy="4754520"/>
          </a:xfrm>
          <a:prstGeom prst="rect">
            <a:avLst/>
          </a:prstGeom>
          <a:ln w="0">
            <a:noFill/>
          </a:ln>
        </p:spPr>
      </p:pic>
      <p:grpSp>
        <p:nvGrpSpPr>
          <p:cNvPr id="210" name="Группа 14"/>
          <p:cNvGrpSpPr/>
          <p:nvPr/>
        </p:nvGrpSpPr>
        <p:grpSpPr>
          <a:xfrm>
            <a:off x="2571840" y="2000160"/>
            <a:ext cx="571320" cy="214560"/>
            <a:chOff x="2571840" y="2000160"/>
            <a:chExt cx="571320" cy="214560"/>
          </a:xfrm>
        </p:grpSpPr>
        <p:sp>
          <p:nvSpPr>
            <p:cNvPr id="211" name="Овал 12"/>
            <p:cNvSpPr/>
            <p:nvPr/>
          </p:nvSpPr>
          <p:spPr>
            <a:xfrm>
              <a:off x="2643120" y="2000160"/>
              <a:ext cx="428400" cy="214560"/>
            </a:xfrm>
            <a:prstGeom prst="ellipse">
              <a:avLst/>
            </a:prstGeom>
            <a:noFill/>
            <a:ln w="1908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Овал 13"/>
            <p:cNvSpPr/>
            <p:nvPr/>
          </p:nvSpPr>
          <p:spPr>
            <a:xfrm>
              <a:off x="2571840" y="2000160"/>
              <a:ext cx="571320" cy="214560"/>
            </a:xfrm>
            <a:prstGeom prst="ellipse">
              <a:avLst/>
            </a:prstGeom>
            <a:noFill/>
            <a:ln w="1908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15"/>
          <p:cNvGrpSpPr/>
          <p:nvPr/>
        </p:nvGrpSpPr>
        <p:grpSpPr>
          <a:xfrm>
            <a:off x="4572000" y="2214720"/>
            <a:ext cx="571680" cy="285480"/>
            <a:chOff x="4572000" y="2214720"/>
            <a:chExt cx="571680" cy="285480"/>
          </a:xfrm>
        </p:grpSpPr>
        <p:sp>
          <p:nvSpPr>
            <p:cNvPr id="214" name="Овал 16"/>
            <p:cNvSpPr/>
            <p:nvPr/>
          </p:nvSpPr>
          <p:spPr>
            <a:xfrm>
              <a:off x="4643280" y="2214720"/>
              <a:ext cx="428760" cy="285480"/>
            </a:xfrm>
            <a:prstGeom prst="ellipse">
              <a:avLst/>
            </a:prstGeom>
            <a:noFill/>
            <a:ln w="1908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Овал 17"/>
            <p:cNvSpPr/>
            <p:nvPr/>
          </p:nvSpPr>
          <p:spPr>
            <a:xfrm>
              <a:off x="4572000" y="2214720"/>
              <a:ext cx="571680" cy="285480"/>
            </a:xfrm>
            <a:prstGeom prst="ellipse">
              <a:avLst/>
            </a:prstGeom>
            <a:noFill/>
            <a:ln w="1908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18"/>
          <p:cNvGrpSpPr/>
          <p:nvPr/>
        </p:nvGrpSpPr>
        <p:grpSpPr>
          <a:xfrm>
            <a:off x="4214880" y="4572000"/>
            <a:ext cx="500040" cy="214200"/>
            <a:chOff x="4214880" y="4572000"/>
            <a:chExt cx="500040" cy="214200"/>
          </a:xfrm>
        </p:grpSpPr>
        <p:sp>
          <p:nvSpPr>
            <p:cNvPr id="217" name="Овал 19"/>
            <p:cNvSpPr/>
            <p:nvPr/>
          </p:nvSpPr>
          <p:spPr>
            <a:xfrm>
              <a:off x="4276800" y="4572000"/>
              <a:ext cx="376200" cy="214200"/>
            </a:xfrm>
            <a:prstGeom prst="ellipse">
              <a:avLst/>
            </a:prstGeom>
            <a:noFill/>
            <a:ln w="1908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Овал 20"/>
            <p:cNvSpPr/>
            <p:nvPr/>
          </p:nvSpPr>
          <p:spPr>
            <a:xfrm>
              <a:off x="4214880" y="4572000"/>
              <a:ext cx="500040" cy="214200"/>
            </a:xfrm>
            <a:prstGeom prst="ellipse">
              <a:avLst/>
            </a:prstGeom>
            <a:noFill/>
            <a:ln w="19080">
              <a:solidFill>
                <a:srgbClr val="6f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21" name="TextBox 11"/>
          <p:cNvGrpSpPr/>
          <p:nvPr/>
        </p:nvGrpSpPr>
        <p:grpSpPr>
          <a:xfrm>
            <a:off x="1554120" y="1103400"/>
            <a:ext cx="7431120" cy="1152360"/>
            <a:chOff x="1554120" y="1103400"/>
            <a:chExt cx="7431120" cy="1152360"/>
          </a:xfrm>
        </p:grpSpPr>
        <p:pic>
          <p:nvPicPr>
            <p:cNvPr id="222" name="TextBox 11" descr=""/>
            <p:cNvPicPr/>
            <p:nvPr/>
          </p:nvPicPr>
          <p:blipFill>
            <a:blip r:embed="rId3"/>
            <a:stretch/>
          </p:blipFill>
          <p:spPr>
            <a:xfrm>
              <a:off x="1554120" y="1103400"/>
              <a:ext cx="74311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663560" y="1193760"/>
              <a:ext cx="72154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аданымі дапаўняльнымі называюцца такія часткі складаназалежных сказаў, якія выконваюць ролю, блізкую да разгорнутых дапаўненняў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Яны звычайна паясняюць у галоўнай частцы выказнікі ці дапаўненні са значэннем думкі, меркавання, успрымання, маўлення, якія патрабуюць удакладнення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Андрэю здаецца, (што  вось ужо каторы дзень яго непакоіць нейкая трывога). (П. Місько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TextBox 12"/>
          <p:cNvGrpSpPr/>
          <p:nvPr/>
        </p:nvGrpSpPr>
        <p:grpSpPr>
          <a:xfrm>
            <a:off x="1511280" y="2389320"/>
            <a:ext cx="7431120" cy="963360"/>
            <a:chOff x="1511280" y="2389320"/>
            <a:chExt cx="7431120" cy="963360"/>
          </a:xfrm>
        </p:grpSpPr>
        <p:pic>
          <p:nvPicPr>
            <p:cNvPr id="225" name="TextBox 12" descr=""/>
            <p:cNvPicPr/>
            <p:nvPr/>
          </p:nvPicPr>
          <p:blipFill>
            <a:blip r:embed="rId4"/>
            <a:stretch/>
          </p:blipFill>
          <p:spPr>
            <a:xfrm>
              <a:off x="1511280" y="2389320"/>
              <a:ext cx="743112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1612800" y="2470320"/>
              <a:ext cx="72342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аданыя дапаўняльныя часткі могуць служыць для перадачы ўскоснай мовы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Данік зразумеў думкі Сашы і дадаў:”Хутка і ты атрымаеш заданне” – Данік зразумеў думкі Сашы і дадаў, ( што хутка яна атрымае заданне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І. Шамякі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TextBox 13"/>
          <p:cNvGrpSpPr/>
          <p:nvPr/>
        </p:nvGrpSpPr>
        <p:grpSpPr>
          <a:xfrm>
            <a:off x="1511280" y="3462480"/>
            <a:ext cx="7431120" cy="963360"/>
            <a:chOff x="1511280" y="3462480"/>
            <a:chExt cx="7431120" cy="963360"/>
          </a:xfrm>
        </p:grpSpPr>
        <p:pic>
          <p:nvPicPr>
            <p:cNvPr id="228" name="TextBox 13" descr=""/>
            <p:cNvPicPr/>
            <p:nvPr/>
          </p:nvPicPr>
          <p:blipFill>
            <a:blip r:embed="rId5"/>
            <a:stretch/>
          </p:blipFill>
          <p:spPr>
            <a:xfrm>
              <a:off x="1511280" y="3462480"/>
              <a:ext cx="743112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612800" y="3541680"/>
              <a:ext cx="72342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осіны паміж галоўнай і даданай часткамі афармляюцца пры дапамозе падпарадкавальных злучнікаў што, каб, быццам, як або злучальных слоў і вызначаюцца з дапамогай пытанняў ускосных склонаў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Прыпомні, ( як мы, маракі, на прывале за супам наварыстым піравалі). (П. Панчан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іколка вельмі хацеў ведаць, ( што прынёс бацька). (М. Лынькоў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TextBox 17"/>
          <p:cNvGrpSpPr/>
          <p:nvPr/>
        </p:nvGrpSpPr>
        <p:grpSpPr>
          <a:xfrm>
            <a:off x="1554120" y="390600"/>
            <a:ext cx="5688000" cy="633240"/>
            <a:chOff x="1554120" y="390600"/>
            <a:chExt cx="5688000" cy="633240"/>
          </a:xfrm>
        </p:grpSpPr>
        <p:pic>
          <p:nvPicPr>
            <p:cNvPr id="231" name="TextBox 17" descr=""/>
            <p:cNvPicPr/>
            <p:nvPr/>
          </p:nvPicPr>
          <p:blipFill>
            <a:blip r:embed="rId6"/>
            <a:stretch/>
          </p:blipFill>
          <p:spPr>
            <a:xfrm>
              <a:off x="1554120" y="390600"/>
              <a:ext cx="56880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612800" y="428760"/>
              <a:ext cx="557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алежныя сказ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 даданымі дапаўняльнымі часткам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AutoShape 9"/>
          <p:cNvSpPr/>
          <p:nvPr/>
        </p:nvSpPr>
        <p:spPr>
          <a:xfrm rot="317400">
            <a:off x="69840" y="490680"/>
            <a:ext cx="1405080" cy="1590480"/>
          </a:xfrm>
          <a:custGeom>
            <a:avLst/>
            <a:gdLst>
              <a:gd name="textAreaLeft" fmla="*/ 188280 w 1405080"/>
              <a:gd name="textAreaRight" fmla="*/ 1216800 w 1405080"/>
              <a:gd name="textAreaTop" fmla="*/ 279720 h 1590480"/>
              <a:gd name="textAreaBottom" fmla="*/ 1168560 h 15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98" stAng="-5400000" swAng="-5400000"/>
                <a:lnTo>
                  <a:pt x="0" y="12071"/>
                </a:lnTo>
                <a:arcTo wR="21600" hR="7598" stAng="10800000" swAng="-2691142"/>
                <a:lnTo>
                  <a:pt x="14400" y="21165"/>
                </a:lnTo>
                <a:lnTo>
                  <a:pt x="21600" y="17432"/>
                </a:lnTo>
                <a:lnTo>
                  <a:pt x="14400" y="12828"/>
                </a:lnTo>
                <a:lnTo>
                  <a:pt x="14400" y="14760"/>
                </a:lnTo>
                <a:arcTo wR="21600" hR="7598" stAng="8108858" swAng="2320136"/>
                <a:lnTo>
                  <a:pt x="957" y="9834"/>
                </a:lnTo>
                <a:arcTo wR="21600" hR="7598" stAng="-10428994" swAng="5028994"/>
                <a:close/>
              </a:path>
              <a:path fill="darkenLess" w="21600" h="21600">
                <a:moveTo>
                  <a:pt x="21600" y="0"/>
                </a:moveTo>
                <a:arcTo wR="21600" hR="7598" stAng="-5400000" swAng="-5400000"/>
                <a:lnTo>
                  <a:pt x="0" y="7598"/>
                </a:lnTo>
                <a:arcTo wR="21600" hR="7598" stAng="10800000" swAng="-371006"/>
                <a:lnTo>
                  <a:pt x="957" y="9834"/>
                </a:lnTo>
                <a:arcTo wR="21600" hR="7598" stAng="-10428994" swAng="502899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9"/>
          <p:cNvSpPr/>
          <p:nvPr/>
        </p:nvSpPr>
        <p:spPr>
          <a:xfrm rot="317400">
            <a:off x="120240" y="556920"/>
            <a:ext cx="1359000" cy="2600280"/>
          </a:xfrm>
          <a:custGeom>
            <a:avLst/>
            <a:gdLst>
              <a:gd name="textAreaLeft" fmla="*/ 181800 w 1359000"/>
              <a:gd name="textAreaRight" fmla="*/ 1177200 w 1359000"/>
              <a:gd name="textAreaTop" fmla="*/ 542880 h 2600280"/>
              <a:gd name="textAreaBottom" fmla="*/ 1911960 h 26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21" stAng="-5400000" swAng="-5400000"/>
                <a:lnTo>
                  <a:pt x="0" y="11372"/>
                </a:lnTo>
                <a:arcTo wR="21600" hR="9021" stAng="10800000" swAng="-2889706"/>
                <a:lnTo>
                  <a:pt x="14035" y="21029"/>
                </a:lnTo>
                <a:lnTo>
                  <a:pt x="21600" y="19218"/>
                </a:lnTo>
                <a:lnTo>
                  <a:pt x="14035" y="16264"/>
                </a:lnTo>
                <a:lnTo>
                  <a:pt x="14035" y="17471"/>
                </a:lnTo>
                <a:arcTo wR="21600" hR="9021" stAng="7910294" swAng="2701200"/>
                <a:lnTo>
                  <a:pt x="184" y="10196"/>
                </a:lnTo>
                <a:arcTo wR="21600" hR="9021" stAng="-10611494" swAng="5211494"/>
                <a:close/>
              </a:path>
              <a:path fill="darkenLess" w="21600" h="21600">
                <a:moveTo>
                  <a:pt x="21600" y="0"/>
                </a:moveTo>
                <a:arcTo wR="21600" hR="9021" stAng="-5400000" swAng="-5400000"/>
                <a:lnTo>
                  <a:pt x="0" y="9021"/>
                </a:lnTo>
                <a:arcTo wR="21600" hR="9021" stAng="10800000" swAng="-188506"/>
                <a:lnTo>
                  <a:pt x="184" y="10196"/>
                </a:lnTo>
                <a:arcTo wR="21600" hR="9021" stAng="-10611494" swAng="521149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69800" y="500040"/>
            <a:ext cx="1071720" cy="385776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843840 h 3857760"/>
              <a:gd name="textAreaBottom" fmla="*/ 2909880 h 385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51" stAng="-5400000" swAng="-5400000"/>
                <a:lnTo>
                  <a:pt x="0" y="11567"/>
                </a:lnTo>
                <a:arcTo wR="21600" hR="9451" stAng="10800000" swAng="-3003124"/>
                <a:lnTo>
                  <a:pt x="14168" y="21023"/>
                </a:lnTo>
                <a:lnTo>
                  <a:pt x="21600" y="19959"/>
                </a:lnTo>
                <a:lnTo>
                  <a:pt x="14168" y="17741"/>
                </a:lnTo>
                <a:lnTo>
                  <a:pt x="14168" y="18324"/>
                </a:lnTo>
                <a:arcTo wR="21600" hR="9451" stAng="7796876" swAng="2833810"/>
                <a:lnTo>
                  <a:pt x="136" y="10508"/>
                </a:lnTo>
                <a:arcTo wR="21600" hR="9451" stAng="-10630686" swAng="5230686"/>
                <a:close/>
              </a:path>
              <a:path fill="darkenLess" w="21600" h="21600">
                <a:moveTo>
                  <a:pt x="21600" y="0"/>
                </a:moveTo>
                <a:arcTo wR="21600" hR="9451" stAng="-5400000" swAng="-5400000"/>
                <a:lnTo>
                  <a:pt x="0" y="9451"/>
                </a:lnTo>
                <a:arcTo wR="21600" hR="9451" stAng="10800000" swAng="-169314"/>
                <a:lnTo>
                  <a:pt x="136" y="10508"/>
                </a:lnTo>
                <a:arcTo wR="21600" hR="9451" stAng="-10630686" swAng="5230686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TextBox 10"/>
          <p:cNvGrpSpPr/>
          <p:nvPr/>
        </p:nvGrpSpPr>
        <p:grpSpPr>
          <a:xfrm>
            <a:off x="1511280" y="4748040"/>
            <a:ext cx="7400880" cy="1152720"/>
            <a:chOff x="1511280" y="4748040"/>
            <a:chExt cx="7400880" cy="1152720"/>
          </a:xfrm>
        </p:grpSpPr>
        <p:pic>
          <p:nvPicPr>
            <p:cNvPr id="237" name="TextBox 10" descr=""/>
            <p:cNvPicPr/>
            <p:nvPr/>
          </p:nvPicPr>
          <p:blipFill>
            <a:blip r:embed="rId7"/>
            <a:stretch/>
          </p:blipFill>
          <p:spPr>
            <a:xfrm>
              <a:off x="1511280" y="4748040"/>
              <a:ext cx="740088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622520" y="4836960"/>
              <a:ext cx="71848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аданая дапаўняльная частка аддзяляецца ад галоўнай часткі коскай, калі стаіць перад галоўнай або пасля яе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Якую аперацыю меў на ўвазе Арэхаў), Галя не ведала. (Р. Няхай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Максім вельмі хацеў, (каб спартыўны комплекс упрыгожваў адну з плошчаў горада).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І. Шамякі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AutoShape 9"/>
          <p:cNvSpPr/>
          <p:nvPr/>
        </p:nvSpPr>
        <p:spPr>
          <a:xfrm>
            <a:off x="469800" y="642960"/>
            <a:ext cx="1071720" cy="500076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1129680 h 5000760"/>
              <a:gd name="textAreaBottom" fmla="*/ 3767040 h 500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59" stAng="-5400000" swAng="-5400000"/>
                <a:lnTo>
                  <a:pt x="0" y="11391"/>
                </a:lnTo>
                <a:arcTo wR="21600" hR="9759" stAng="10800000" swAng="-3057320"/>
                <a:lnTo>
                  <a:pt x="14168" y="21004"/>
                </a:lnTo>
                <a:lnTo>
                  <a:pt x="21600" y="20334"/>
                </a:lnTo>
                <a:lnTo>
                  <a:pt x="14168" y="18472"/>
                </a:lnTo>
                <a:lnTo>
                  <a:pt x="14168" y="18922"/>
                </a:lnTo>
                <a:arcTo wR="21600" hR="9759" stAng="7742680" swAng="2927055"/>
                <a:lnTo>
                  <a:pt x="76" y="10575"/>
                </a:lnTo>
                <a:arcTo wR="21600" hR="9759" stAng="-10669736" swAng="5269736"/>
                <a:close/>
              </a:path>
              <a:path fill="darkenLess" w="21600" h="21600">
                <a:moveTo>
                  <a:pt x="21600" y="0"/>
                </a:moveTo>
                <a:arcTo wR="21600" hR="9759" stAng="-5400000" swAng="-5400000"/>
                <a:lnTo>
                  <a:pt x="0" y="9759"/>
                </a:lnTo>
                <a:arcTo wR="21600" hR="9759" stAng="10800000" swAng="-130264"/>
                <a:lnTo>
                  <a:pt x="76" y="10575"/>
                </a:lnTo>
                <a:arcTo wR="21600" hR="9759" stAng="-10669736" swAng="5269736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TextBox 15"/>
          <p:cNvGrpSpPr/>
          <p:nvPr/>
        </p:nvGrpSpPr>
        <p:grpSpPr>
          <a:xfrm>
            <a:off x="1584360" y="6053040"/>
            <a:ext cx="7358040" cy="592200"/>
            <a:chOff x="1584360" y="6053040"/>
            <a:chExt cx="7358040" cy="592200"/>
          </a:xfrm>
        </p:grpSpPr>
        <p:pic>
          <p:nvPicPr>
            <p:cNvPr id="241" name="TextBox 15" descr=""/>
            <p:cNvPicPr/>
            <p:nvPr/>
          </p:nvPicPr>
          <p:blipFill>
            <a:blip r:embed="rId8"/>
            <a:stretch/>
          </p:blipFill>
          <p:spPr>
            <a:xfrm>
              <a:off x="1584360" y="6053040"/>
              <a:ext cx="73580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666800" y="6114960"/>
              <a:ext cx="7197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аданая дапаўняльная частка выдзяляецца коскамі, калі стаіць у сярэдзіне галоўнай часткі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Пра тое, (што чакала яе ў мястэчку), Саша не думала. (І. Шамякі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AutoShape 9"/>
          <p:cNvSpPr/>
          <p:nvPr/>
        </p:nvSpPr>
        <p:spPr>
          <a:xfrm>
            <a:off x="428760" y="714240"/>
            <a:ext cx="1071360" cy="5929560"/>
          </a:xfrm>
          <a:custGeom>
            <a:avLst/>
            <a:gdLst>
              <a:gd name="textAreaLeft" fmla="*/ 143280 w 1071360"/>
              <a:gd name="textAreaRight" fmla="*/ 928080 w 1071360"/>
              <a:gd name="textAreaTop" fmla="*/ 1361880 h 5929560"/>
              <a:gd name="textAreaBottom" fmla="*/ 4463280 h 5929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22" stAng="-5400000" swAng="-5400000"/>
                <a:lnTo>
                  <a:pt x="0" y="11298"/>
                </a:lnTo>
                <a:arcTo wR="21600" hR="9922" stAng="10800000" swAng="-3085131"/>
                <a:lnTo>
                  <a:pt x="14168" y="20994"/>
                </a:lnTo>
                <a:lnTo>
                  <a:pt x="21600" y="20532"/>
                </a:lnTo>
                <a:lnTo>
                  <a:pt x="14168" y="18858"/>
                </a:lnTo>
                <a:lnTo>
                  <a:pt x="14168" y="19238"/>
                </a:lnTo>
                <a:arcTo wR="21600" hR="9922" stAng="7714869" swAng="2975405"/>
                <a:lnTo>
                  <a:pt x="52" y="10610"/>
                </a:lnTo>
                <a:arcTo wR="21600" hR="9922" stAng="-10690274" swAng="5290274"/>
                <a:close/>
              </a:path>
              <a:path fill="darkenLess" w="21600" h="21600">
                <a:moveTo>
                  <a:pt x="21600" y="0"/>
                </a:moveTo>
                <a:arcTo wR="21600" hR="9922" stAng="-5400000" swAng="-5400000"/>
                <a:lnTo>
                  <a:pt x="0" y="9922"/>
                </a:lnTo>
                <a:arcTo wR="21600" hR="9922" stAng="10800000" swAng="-109726"/>
                <a:lnTo>
                  <a:pt x="52" y="10610"/>
                </a:lnTo>
                <a:arcTo wR="21600" hR="9922" stAng="-10690274" swAng="529027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46" name="Прямоугольник 4"/>
          <p:cNvGrpSpPr/>
          <p:nvPr/>
        </p:nvGrpSpPr>
        <p:grpSpPr>
          <a:xfrm>
            <a:off x="1938240" y="676440"/>
            <a:ext cx="4975200" cy="634680"/>
            <a:chOff x="1938240" y="676440"/>
            <a:chExt cx="4975200" cy="634680"/>
          </a:xfrm>
        </p:grpSpPr>
        <p:pic>
          <p:nvPicPr>
            <p:cNvPr id="247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938240" y="676440"/>
              <a:ext cx="497520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000160" y="714240"/>
              <a:ext cx="4857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алежныя  ска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 даданымі акалічнаснымі часткам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Прямоугольник 5"/>
          <p:cNvGrpSpPr/>
          <p:nvPr/>
        </p:nvGrpSpPr>
        <p:grpSpPr>
          <a:xfrm>
            <a:off x="1225440" y="2176560"/>
            <a:ext cx="6613560" cy="633240"/>
            <a:chOff x="1225440" y="2176560"/>
            <a:chExt cx="6613560" cy="633240"/>
          </a:xfrm>
        </p:grpSpPr>
        <p:pic>
          <p:nvPicPr>
            <p:cNvPr id="250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225440" y="2176560"/>
              <a:ext cx="66135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285920" y="2214720"/>
              <a:ext cx="650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ладаназалежныя  сказы </a:t>
              </a: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 даданымі акалічнаснымі часткам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могуць выражаць значэнні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Прямоугольник 6"/>
          <p:cNvGrpSpPr/>
          <p:nvPr/>
        </p:nvGrpSpPr>
        <p:grpSpPr>
          <a:xfrm>
            <a:off x="579600" y="3822840"/>
            <a:ext cx="2401560" cy="633240"/>
            <a:chOff x="579600" y="3822840"/>
            <a:chExt cx="2401560" cy="633240"/>
          </a:xfrm>
        </p:grpSpPr>
        <p:pic>
          <p:nvPicPr>
            <p:cNvPr id="253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579600" y="3822840"/>
              <a:ext cx="24015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42960" y="385776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месца, часу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умо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Прямоугольник 7"/>
          <p:cNvGrpSpPr/>
          <p:nvPr/>
        </p:nvGrpSpPr>
        <p:grpSpPr>
          <a:xfrm>
            <a:off x="3365640" y="3749760"/>
            <a:ext cx="2406600" cy="846000"/>
            <a:chOff x="3365640" y="3749760"/>
            <a:chExt cx="2406600" cy="846000"/>
          </a:xfrm>
        </p:grpSpPr>
        <p:pic>
          <p:nvPicPr>
            <p:cNvPr id="256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3365640" y="3749760"/>
              <a:ext cx="240660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429000" y="3786120"/>
              <a:ext cx="228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ычыны, мэты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уступальны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араўнальны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Прямоугольник 8"/>
          <p:cNvGrpSpPr/>
          <p:nvPr/>
        </p:nvGrpSpPr>
        <p:grpSpPr>
          <a:xfrm>
            <a:off x="6083280" y="3822840"/>
            <a:ext cx="2401920" cy="633240"/>
            <a:chOff x="6083280" y="3822840"/>
            <a:chExt cx="2401920" cy="633240"/>
          </a:xfrm>
        </p:grpSpPr>
        <p:pic>
          <p:nvPicPr>
            <p:cNvPr id="259" name="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6083280" y="3822840"/>
              <a:ext cx="24019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143760" y="385776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спосабу дзеянн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меры і ступен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1" name="Прямая со стрелкой 10"/>
          <p:cNvCxnSpPr/>
          <p:nvPr/>
        </p:nvCxnSpPr>
        <p:spPr>
          <a:xfrm flipH="1">
            <a:off x="4498200" y="2857680"/>
            <a:ext cx="2520" cy="9309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262" name="Прямая соединительная линия 12"/>
          <p:cNvSpPr/>
          <p:nvPr/>
        </p:nvSpPr>
        <p:spPr>
          <a:xfrm>
            <a:off x="1785960" y="3357720"/>
            <a:ext cx="5429160" cy="144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Прямая со стрелкой 14"/>
          <p:cNvCxnSpPr/>
          <p:nvPr/>
        </p:nvCxnSpPr>
        <p:spPr>
          <a:xfrm flipH="1">
            <a:off x="1784160" y="3357360"/>
            <a:ext cx="2160" cy="4309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64" name="Прямая со стрелкой 16"/>
          <p:cNvCxnSpPr/>
          <p:nvPr/>
        </p:nvCxnSpPr>
        <p:spPr>
          <a:xfrm flipH="1">
            <a:off x="7214400" y="3357720"/>
            <a:ext cx="2520" cy="4291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6:55:44Z</dcterms:created>
  <dc:creator>solahitdinova</dc:creator>
  <dc:description/>
  <dc:language>en-US</dc:language>
  <cp:lastModifiedBy>solahitdinova</cp:lastModifiedBy>
  <dcterms:modified xsi:type="dcterms:W3CDTF">2009-08-11T12:00:46Z</dcterms:modified>
  <cp:revision>102</cp:revision>
  <dc:subject/>
  <dc:title>Слайд 1</dc:title>
</cp:coreProperties>
</file>