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32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.wmf" ContentType="image/x-wmf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98AE1-68BD-41D3-ADD5-F073E1104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0C75E-B837-4B34-BC4B-8AF228BA0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3938D-565B-44BF-A557-E9CF8FF60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2A656-EF1B-49B4-BB6B-5AC396833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9681A-950E-4007-8ABA-6621DF635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47F51-318C-4015-9BF7-8D263E067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A2D52-0234-4A93-A51F-E2BFA881C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C33E7-FAFC-4B39-8BF6-ED8D982E7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5AF3D-9607-4572-AC85-4547C40A6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0B0D7-0EBD-460D-9301-EE8F02AFA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252A2-3C3A-4686-B579-BC173475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EB2C7-99E8-4626-9D09-24BE1C6B2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B5A38-8FDC-4701-A7F0-0E08ABA57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C75CD-89C8-4065-8776-056B360F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EB633-0626-46CE-B985-70EE37DA4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8AB81-A9FF-45C5-A3F3-D887322A5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C9E34-5BF5-4DC1-AC74-F67561BA6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B9A91-7040-4AAD-860A-96EF4AF5F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2D672-E1EC-4908-8C50-66B1CCC2C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6D0D7-2ED7-46DC-9437-E8EF1932D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CA3EC-1C63-4E51-9247-0B524E238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2DF1B-B152-49EE-8F5D-B50451BB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6D214-3802-4E52-92C0-1E9F4122B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885B9-8520-4D0A-A9B7-DFC1DB71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5F0F9-0DDE-4B35-A927-B8D8FE3C84D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A7A16-D9EC-4CCB-8704-5F095514E1C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wmf"/><Relationship Id="rId3" Type="http://schemas.openxmlformats.org/officeDocument/2006/relationships/image" Target="../media/image35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wmf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.wmf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wmf"/><Relationship Id="rId3" Type="http://schemas.openxmlformats.org/officeDocument/2006/relationships/image" Target="../media/image2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wmf"/><Relationship Id="rId3" Type="http://schemas.openxmlformats.org/officeDocument/2006/relationships/image" Target="../media/image26.png"/><Relationship Id="rId4" Type="http://schemas.openxmlformats.org/officeDocument/2006/relationships/image" Target="../media/image17.png"/><Relationship Id="rId5" Type="http://schemas.openxmlformats.org/officeDocument/2006/relationships/image" Target="../media/image29.png"/><Relationship Id="rId6" Type="http://schemas.openxmlformats.org/officeDocument/2006/relationships/image" Target="../media/image27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wmf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wmf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0" descr="logo 21"/>
          <p:cNvPicPr/>
          <p:nvPr/>
        </p:nvPicPr>
        <p:blipFill>
          <a:blip r:embed="rId1"/>
          <a:stretch/>
        </p:blipFill>
        <p:spPr>
          <a:xfrm>
            <a:off x="6138720" y="5565600"/>
            <a:ext cx="3011760" cy="1298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pic>
        <p:nvPicPr>
          <p:cNvPr id="108" name="Прямоугольник 4" descr=""/>
          <p:cNvPicPr/>
          <p:nvPr/>
        </p:nvPicPr>
        <p:blipFill>
          <a:blip r:embed="rId3"/>
          <a:stretch/>
        </p:blipFill>
        <p:spPr>
          <a:xfrm>
            <a:off x="1316160" y="3449520"/>
            <a:ext cx="6218280" cy="1805040"/>
          </a:xfrm>
          <a:prstGeom prst="rect">
            <a:avLst/>
          </a:prstGeom>
          <a:ln w="0">
            <a:noFill/>
          </a:ln>
        </p:spPr>
      </p:pic>
      <p:pic>
        <p:nvPicPr>
          <p:cNvPr id="109" name="Прямоугольник 5" descr=""/>
          <p:cNvPicPr/>
          <p:nvPr/>
        </p:nvPicPr>
        <p:blipFill>
          <a:blip r:embed="rId4"/>
          <a:stretch/>
        </p:blipFill>
        <p:spPr>
          <a:xfrm>
            <a:off x="2060640" y="549360"/>
            <a:ext cx="4419360" cy="24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40" descr="logo 21"/>
          <p:cNvPicPr/>
          <p:nvPr/>
        </p:nvPicPr>
        <p:blipFill>
          <a:blip r:embed="rId1"/>
          <a:stretch/>
        </p:blipFill>
        <p:spPr>
          <a:xfrm>
            <a:off x="6138720" y="6211800"/>
            <a:ext cx="3011760" cy="6526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grpSp>
        <p:nvGrpSpPr>
          <p:cNvPr id="267" name="Прямоугольник 4"/>
          <p:cNvGrpSpPr/>
          <p:nvPr/>
        </p:nvGrpSpPr>
        <p:grpSpPr>
          <a:xfrm>
            <a:off x="1652760" y="738360"/>
            <a:ext cx="5973480" cy="706320"/>
            <a:chOff x="1652760" y="738360"/>
            <a:chExt cx="5973480" cy="706320"/>
          </a:xfrm>
        </p:grpSpPr>
        <p:pic>
          <p:nvPicPr>
            <p:cNvPr id="268" name="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1652760" y="738360"/>
              <a:ext cx="5973480" cy="70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1714680" y="785880"/>
              <a:ext cx="5857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Узор сінтаксічнага разбор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бяззлучнікавых складаных сказаў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Прямоугольник 5"/>
          <p:cNvGrpSpPr/>
          <p:nvPr/>
        </p:nvGrpSpPr>
        <p:grpSpPr>
          <a:xfrm>
            <a:off x="652320" y="1590840"/>
            <a:ext cx="2262240" cy="463320"/>
            <a:chOff x="652320" y="1590840"/>
            <a:chExt cx="2262240" cy="463320"/>
          </a:xfrm>
        </p:grpSpPr>
        <p:pic>
          <p:nvPicPr>
            <p:cNvPr id="271" name="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652320" y="1590840"/>
              <a:ext cx="2262240" cy="46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714240" y="1643040"/>
              <a:ext cx="214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Пісьмовы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TextBox 6"/>
          <p:cNvGrpSpPr/>
          <p:nvPr/>
        </p:nvGrpSpPr>
        <p:grpSpPr>
          <a:xfrm>
            <a:off x="1225440" y="3895560"/>
            <a:ext cx="7832880" cy="1938600"/>
            <a:chOff x="1225440" y="3895560"/>
            <a:chExt cx="7832880" cy="1938600"/>
          </a:xfrm>
        </p:grpSpPr>
        <p:pic>
          <p:nvPicPr>
            <p:cNvPr id="274" name="TextBox 6" descr=""/>
            <p:cNvPicPr/>
            <p:nvPr/>
          </p:nvPicPr>
          <p:blipFill>
            <a:blip r:embed="rId5"/>
            <a:stretch/>
          </p:blipFill>
          <p:spPr>
            <a:xfrm>
              <a:off x="1225440" y="3895560"/>
              <a:ext cx="7832880" cy="193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1285920" y="3929040"/>
              <a:ext cx="7715160" cy="181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4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	</a:t>
              </a: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Сказ апавядальны, няклічны, складаны, бяззлучнікавы, складаецца з дзвюх аднатыпных частак, якія звязаны пры дапамозе сэнсу і інтанацыі і выражаюць адносіны адначасовасці дзеяння. Паміж часткамі ставіцца коска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	</a:t>
              </a: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У першай частцы – </a:t>
              </a:r>
              <a:r>
                <a:rPr b="1" i="1" lang="be-BY" sz="1100" spc="-1" strike="noStrike">
                  <a:solidFill>
                    <a:srgbClr val="1818ff"/>
                  </a:solidFill>
                  <a:latin typeface="Times New Roman"/>
                  <a:ea typeface="Times New Roman"/>
                </a:rPr>
                <a:t>Пахне свежай краскай школа </a:t>
              </a: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– члены сказа: (Што?) </a:t>
              </a:r>
              <a:r>
                <a:rPr b="1" i="1" lang="be-BY" sz="1100" spc="-1" strike="noStrike">
                  <a:solidFill>
                    <a:srgbClr val="1818ff"/>
                  </a:solidFill>
                  <a:latin typeface="Times New Roman"/>
                  <a:ea typeface="Times New Roman"/>
                </a:rPr>
                <a:t>школа</a:t>
              </a: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 – дзейнік, выражаны агульным назоўнікам у форме Н. скл., адз. л.;</a:t>
              </a:r>
              <a:r>
                <a:rPr b="1" i="1" lang="be-BY" sz="1100" spc="-1" strike="noStrike">
                  <a:solidFill>
                    <a:srgbClr val="1818ff"/>
                  </a:solidFill>
                  <a:latin typeface="Times New Roman"/>
                  <a:ea typeface="Times New Roman"/>
                </a:rPr>
                <a:t> школа  </a:t>
              </a: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(што робіць?) </a:t>
              </a:r>
              <a:r>
                <a:rPr b="1" i="1" lang="be-BY" sz="1100" spc="-1" strike="noStrike">
                  <a:solidFill>
                    <a:srgbClr val="1818ff"/>
                  </a:solidFill>
                  <a:latin typeface="Times New Roman"/>
                  <a:ea typeface="Times New Roman"/>
                </a:rPr>
                <a:t>пахне</a:t>
              </a: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 – просты дзеяслоўны выказнік, выражаны дзеясловам абв. л., цяп. ч., 3-й ас., адз. л.; </a:t>
              </a:r>
              <a:r>
                <a:rPr b="1" i="1" lang="be-BY" sz="1100" spc="-1" strike="noStrike">
                  <a:solidFill>
                    <a:srgbClr val="1818ff"/>
                  </a:solidFill>
                  <a:latin typeface="Times New Roman"/>
                  <a:ea typeface="Times New Roman"/>
                </a:rPr>
                <a:t>пахне</a:t>
              </a: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 (чым?) краскай – ускоснае дапаўненне, выражана назоўнікам у форме Т. скл., адз. л.; </a:t>
              </a:r>
              <a:r>
                <a:rPr b="1" i="1" lang="be-BY" sz="1100" spc="-1" strike="noStrike">
                  <a:solidFill>
                    <a:srgbClr val="1818ff"/>
                  </a:solidFill>
                  <a:latin typeface="Times New Roman"/>
                  <a:ea typeface="Times New Roman"/>
                </a:rPr>
                <a:t>краскай </a:t>
              </a: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(якой?) свежай – дапасаванае азначэнне, выражана прыметнікам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	</a:t>
              </a: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У другой частцы – </a:t>
              </a:r>
              <a:r>
                <a:rPr b="1" i="1" lang="be-BY" sz="1100" spc="-1" strike="noStrike">
                  <a:solidFill>
                    <a:srgbClr val="1818ff"/>
                  </a:solidFill>
                  <a:latin typeface="Times New Roman"/>
                  <a:ea typeface="Times New Roman"/>
                </a:rPr>
                <a:t>вокны свецяцца здалёк </a:t>
              </a: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– члены сказа: (што?) </a:t>
              </a:r>
              <a:r>
                <a:rPr b="1" i="1" lang="be-BY" sz="1100" spc="-1" strike="noStrike">
                  <a:solidFill>
                    <a:srgbClr val="1818ff"/>
                  </a:solidFill>
                  <a:latin typeface="Times New Roman"/>
                  <a:ea typeface="Times New Roman"/>
                </a:rPr>
                <a:t>вокны</a:t>
              </a: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 – дзейнік, выражаны назоўнікам у форме Н. скл., мн. л.; </a:t>
              </a:r>
              <a:r>
                <a:rPr b="1" i="1" lang="be-BY" sz="1100" spc="-1" strike="noStrike">
                  <a:solidFill>
                    <a:srgbClr val="1818ff"/>
                  </a:solidFill>
                  <a:latin typeface="Times New Roman"/>
                  <a:ea typeface="Times New Roman"/>
                </a:rPr>
                <a:t>вокны</a:t>
              </a: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 (што робяць?) </a:t>
              </a:r>
              <a:r>
                <a:rPr b="1" i="1" lang="be-BY" sz="1100" spc="-1" strike="noStrike">
                  <a:solidFill>
                    <a:srgbClr val="1818ff"/>
                  </a:solidFill>
                  <a:latin typeface="Times New Roman"/>
                  <a:ea typeface="Times New Roman"/>
                </a:rPr>
                <a:t>свецяцца</a:t>
              </a: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 – просты дзеяслоўны выказнік, выражаны дзеясловам абв. л., цяп. ч., 3-й ас., мн. л.; с</a:t>
              </a:r>
              <a:r>
                <a:rPr b="1" i="1" lang="be-BY" sz="1100" spc="-1" strike="noStrike">
                  <a:solidFill>
                    <a:srgbClr val="1818ff"/>
                  </a:solidFill>
                  <a:latin typeface="Times New Roman"/>
                  <a:ea typeface="Times New Roman"/>
                </a:rPr>
                <a:t>вецяцца</a:t>
              </a: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 (адкуль?)</a:t>
              </a:r>
              <a:r>
                <a:rPr b="1" i="1" lang="be-BY" sz="1100" spc="-1" strike="noStrike">
                  <a:solidFill>
                    <a:srgbClr val="1818ff"/>
                  </a:solidFill>
                  <a:latin typeface="Times New Roman"/>
                  <a:ea typeface="Times New Roman"/>
                </a:rPr>
                <a:t> здалёк </a:t>
              </a: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– акалічнасць месца, выражана прыслоўем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TextBox 7"/>
          <p:cNvGrpSpPr/>
          <p:nvPr/>
        </p:nvGrpSpPr>
        <p:grpSpPr>
          <a:xfrm>
            <a:off x="2865600" y="1951200"/>
            <a:ext cx="4833720" cy="706320"/>
            <a:chOff x="2865600" y="1951200"/>
            <a:chExt cx="4833720" cy="706320"/>
          </a:xfrm>
        </p:grpSpPr>
        <p:pic>
          <p:nvPicPr>
            <p:cNvPr id="277" name="TextBox 7" descr=""/>
            <p:cNvPicPr/>
            <p:nvPr/>
          </p:nvPicPr>
          <p:blipFill>
            <a:blip r:embed="rId6"/>
            <a:stretch/>
          </p:blipFill>
          <p:spPr>
            <a:xfrm>
              <a:off x="2865600" y="1951200"/>
              <a:ext cx="4833720" cy="70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2928960" y="2000160"/>
              <a:ext cx="4714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[</a:t>
              </a:r>
              <a:r>
                <a:rPr b="1" lang="ru-RU" sz="1600" spc="-1" strike="noStrike" baseline="30000">
                  <a:solidFill>
                    <a:srgbClr val="0000e5"/>
                  </a:solidFill>
                  <a:latin typeface="Arial"/>
                </a:rPr>
                <a:t>1</a:t>
              </a:r>
              <a:r>
                <a:rPr b="1" i="1" lang="en-US" sz="1600" spc="-1" strike="noStrike" u="sng">
                  <a:solidFill>
                    <a:srgbClr val="0000e5"/>
                  </a:solidFill>
                  <a:uFillTx/>
                  <a:latin typeface="Times New Roman"/>
                  <a:ea typeface="Times New Roman"/>
                </a:rPr>
                <a:t>  </a:t>
              </a:r>
              <a:r>
                <a:rPr b="1" i="1" lang="be-BY" sz="1600" spc="-1" strike="noStrike" u="sng">
                  <a:solidFill>
                    <a:srgbClr val="0000e5"/>
                  </a:solidFill>
                  <a:uFillTx/>
                  <a:latin typeface="Times New Roman"/>
                  <a:ea typeface="Times New Roman"/>
                </a:rPr>
                <a:t>Пахне свежай</a:t>
              </a:r>
              <a:r>
                <a:rPr b="1" i="1" lang="be-BY" sz="16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be-BY" sz="1600" spc="-1" strike="noStrike" u="sng">
                  <a:solidFill>
                    <a:srgbClr val="0000e5"/>
                  </a:solidFill>
                  <a:uFillTx/>
                  <a:latin typeface="Times New Roman"/>
                  <a:ea typeface="Times New Roman"/>
                </a:rPr>
                <a:t>краскай школа</a:t>
              </a:r>
              <a:r>
                <a:rPr b="1" i="1" lang="en-US" sz="1600" spc="-1" strike="noStrike" u="sng">
                  <a:solidFill>
                    <a:srgbClr val="0000e5"/>
                  </a:solidFill>
                  <a:uFillTx/>
                  <a:latin typeface="Times New Roman"/>
                  <a:ea typeface="Times New Roman"/>
                </a:rPr>
                <a:t>]</a:t>
              </a:r>
              <a:r>
                <a:rPr b="1" i="1" lang="be-BY" sz="16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, </a:t>
              </a:r>
              <a:r>
                <a:rPr b="1" i="1" lang="en-US" sz="16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[</a:t>
              </a:r>
              <a:r>
                <a:rPr b="1" lang="ru-RU" sz="1600" spc="-1" strike="noStrike" baseline="30000">
                  <a:solidFill>
                    <a:srgbClr val="0000e5"/>
                  </a:solidFill>
                  <a:latin typeface="Arial"/>
                </a:rPr>
                <a:t>2</a:t>
              </a:r>
              <a:r>
                <a:rPr b="1" i="1" lang="en-US" sz="16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be-BY" sz="1600" spc="-1" strike="noStrike" u="sng">
                  <a:solidFill>
                    <a:srgbClr val="0000e5"/>
                  </a:solidFill>
                  <a:uFillTx/>
                  <a:latin typeface="Times New Roman"/>
                  <a:ea typeface="Times New Roman"/>
                </a:rPr>
                <a:t>вокны</a:t>
              </a:r>
              <a:r>
                <a:rPr b="1" i="1" lang="be-BY" sz="16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be-BY" sz="1600" spc="-1" strike="noStrike" u="sng">
                  <a:solidFill>
                    <a:srgbClr val="0000e5"/>
                  </a:solidFill>
                  <a:uFillTx/>
                  <a:latin typeface="Times New Roman"/>
                  <a:ea typeface="Times New Roman"/>
                </a:rPr>
                <a:t>свецяцца</a:t>
              </a:r>
              <a:r>
                <a:rPr b="1" i="1" lang="be-BY" sz="16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be-BY" sz="1600" spc="-1" strike="noStrike" u="sng">
                  <a:solidFill>
                    <a:srgbClr val="0000e5"/>
                  </a:solidFill>
                  <a:uFillTx/>
                  <a:latin typeface="Times New Roman"/>
                  <a:ea typeface="Times New Roman"/>
                </a:rPr>
                <a:t>здалёк</a:t>
              </a:r>
              <a:r>
                <a:rPr b="1" i="1" lang="en-US" sz="1600" spc="-1" strike="noStrike" u="sng">
                  <a:solidFill>
                    <a:srgbClr val="0000e5"/>
                  </a:solidFill>
                  <a:uFillTx/>
                  <a:latin typeface="Times New Roman"/>
                  <a:ea typeface="Times New Roman"/>
                </a:rPr>
                <a:t>]</a:t>
              </a:r>
              <a:r>
                <a:rPr b="1" i="1" lang="be-BY" sz="16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. (М. Губернатараў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Прямоугольник 8"/>
          <p:cNvGrpSpPr/>
          <p:nvPr/>
        </p:nvGrpSpPr>
        <p:grpSpPr>
          <a:xfrm>
            <a:off x="652320" y="3376440"/>
            <a:ext cx="2262240" cy="463680"/>
            <a:chOff x="652320" y="3376440"/>
            <a:chExt cx="2262240" cy="463680"/>
          </a:xfrm>
        </p:grpSpPr>
        <p:pic>
          <p:nvPicPr>
            <p:cNvPr id="280" name="Прямоугольник 8" descr=""/>
            <p:cNvPicPr/>
            <p:nvPr/>
          </p:nvPicPr>
          <p:blipFill>
            <a:blip r:embed="rId7"/>
            <a:stretch/>
          </p:blipFill>
          <p:spPr>
            <a:xfrm>
              <a:off x="652320" y="3376440"/>
              <a:ext cx="226224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714240" y="3429000"/>
              <a:ext cx="214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Вусны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Прямоугольник 9"/>
          <p:cNvGrpSpPr/>
          <p:nvPr/>
        </p:nvGrpSpPr>
        <p:grpSpPr>
          <a:xfrm>
            <a:off x="652320" y="2803680"/>
            <a:ext cx="2262240" cy="463320"/>
            <a:chOff x="652320" y="2803680"/>
            <a:chExt cx="2262240" cy="463320"/>
          </a:xfrm>
        </p:grpSpPr>
        <p:pic>
          <p:nvPicPr>
            <p:cNvPr id="283" name="Прямоугольник 9" descr=""/>
            <p:cNvPicPr/>
            <p:nvPr/>
          </p:nvPicPr>
          <p:blipFill>
            <a:blip r:embed="rId8"/>
            <a:stretch/>
          </p:blipFill>
          <p:spPr>
            <a:xfrm>
              <a:off x="652320" y="2803680"/>
              <a:ext cx="2262240" cy="46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714240" y="2857680"/>
              <a:ext cx="214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Схема сказа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TextBox 11"/>
          <p:cNvGrpSpPr/>
          <p:nvPr/>
        </p:nvGrpSpPr>
        <p:grpSpPr>
          <a:xfrm>
            <a:off x="3011400" y="2803680"/>
            <a:ext cx="2975040" cy="463320"/>
            <a:chOff x="3011400" y="2803680"/>
            <a:chExt cx="2975040" cy="463320"/>
          </a:xfrm>
        </p:grpSpPr>
        <p:pic>
          <p:nvPicPr>
            <p:cNvPr id="286" name="TextBox 11" descr=""/>
            <p:cNvPicPr/>
            <p:nvPr/>
          </p:nvPicPr>
          <p:blipFill>
            <a:blip r:embed="rId9"/>
            <a:stretch/>
          </p:blipFill>
          <p:spPr>
            <a:xfrm>
              <a:off x="3011400" y="2803680"/>
              <a:ext cx="2975040" cy="46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3071880" y="2857680"/>
              <a:ext cx="2857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[</a:t>
              </a:r>
              <a:r>
                <a:rPr b="1" lang="ru-RU" sz="1600" spc="-1" strike="noStrike" baseline="30000">
                  <a:solidFill>
                    <a:srgbClr val="0000e5"/>
                  </a:solidFill>
                  <a:latin typeface="Arial"/>
                </a:rPr>
                <a:t>1</a:t>
              </a:r>
              <a:r>
                <a:rPr b="1" lang="en-US" sz="16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  ]</a:t>
              </a:r>
              <a:r>
                <a:rPr b="1" lang="be-BY" sz="16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, </a:t>
              </a:r>
              <a:r>
                <a:rPr b="1" lang="en-US" sz="16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[</a:t>
              </a:r>
              <a:r>
                <a:rPr b="1" lang="ru-RU" sz="1600" spc="-1" strike="noStrike" baseline="30000">
                  <a:solidFill>
                    <a:srgbClr val="0000e5"/>
                  </a:solidFill>
                  <a:latin typeface="Arial"/>
                </a:rPr>
                <a:t>2</a:t>
              </a:r>
              <a:r>
                <a:rPr b="1" lang="en-US" sz="16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  ]</a:t>
              </a:r>
              <a:r>
                <a:rPr b="1" i="1" lang="be-BY" sz="16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0" descr="logo 21"/>
          <p:cNvPicPr/>
          <p:nvPr/>
        </p:nvPicPr>
        <p:blipFill>
          <a:blip r:embed="rId1"/>
          <a:stretch/>
        </p:blipFill>
        <p:spPr>
          <a:xfrm>
            <a:off x="6138720" y="6211800"/>
            <a:ext cx="3011760" cy="652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grpSp>
        <p:nvGrpSpPr>
          <p:cNvPr id="112" name="Скругленный прямоугольник 6"/>
          <p:cNvGrpSpPr/>
          <p:nvPr/>
        </p:nvGrpSpPr>
        <p:grpSpPr>
          <a:xfrm>
            <a:off x="3511440" y="463680"/>
            <a:ext cx="5327640" cy="1182600"/>
            <a:chOff x="3511440" y="463680"/>
            <a:chExt cx="5327640" cy="1182600"/>
          </a:xfrm>
        </p:grpSpPr>
        <p:pic>
          <p:nvPicPr>
            <p:cNvPr id="113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3511440" y="463680"/>
              <a:ext cx="532764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3624120" y="552600"/>
              <a:ext cx="5110200" cy="9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2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складаныя сказы, у якіх часткі аб’ядноўваюцца ў адно сэнсава-граматычнае цэлае без удзелу злучнікаў, а пры дапамозе інтанацыі і сэнсавых адценняў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5" name="Прямоугольник 7" descr=""/>
          <p:cNvPicPr/>
          <p:nvPr/>
        </p:nvPicPr>
        <p:blipFill>
          <a:blip r:embed="rId4"/>
          <a:stretch/>
        </p:blipFill>
        <p:spPr>
          <a:xfrm>
            <a:off x="225360" y="579600"/>
            <a:ext cx="2975040" cy="718920"/>
          </a:xfrm>
          <a:prstGeom prst="rect">
            <a:avLst/>
          </a:prstGeom>
          <a:ln w="0">
            <a:noFill/>
          </a:ln>
        </p:spPr>
      </p:pic>
      <p:cxnSp>
        <p:nvCxnSpPr>
          <p:cNvPr id="116" name="Прямая со стрелкой 9"/>
          <p:cNvCxnSpPr/>
          <p:nvPr/>
        </p:nvCxnSpPr>
        <p:spPr>
          <a:xfrm>
            <a:off x="3214440" y="999720"/>
            <a:ext cx="286200" cy="2520"/>
          </a:xfrm>
          <a:prstGeom prst="straightConnector1">
            <a:avLst/>
          </a:prstGeom>
          <a:ln w="25560">
            <a:solidFill>
              <a:srgbClr val="9999ff"/>
            </a:solidFill>
            <a:miter/>
            <a:tailEnd len="med" type="arrow" w="med"/>
          </a:ln>
        </p:spPr>
      </p:cxnSp>
      <p:grpSp>
        <p:nvGrpSpPr>
          <p:cNvPr id="117" name="Прямоугольник 12"/>
          <p:cNvGrpSpPr/>
          <p:nvPr/>
        </p:nvGrpSpPr>
        <p:grpSpPr>
          <a:xfrm>
            <a:off x="798480" y="1822320"/>
            <a:ext cx="7540560" cy="567000"/>
            <a:chOff x="798480" y="1822320"/>
            <a:chExt cx="7540560" cy="567000"/>
          </a:xfrm>
        </p:grpSpPr>
        <p:pic>
          <p:nvPicPr>
            <p:cNvPr id="118" name="Прямоугольник 12" descr=""/>
            <p:cNvPicPr/>
            <p:nvPr/>
          </p:nvPicPr>
          <p:blipFill>
            <a:blip r:embed="rId5"/>
            <a:stretch/>
          </p:blipFill>
          <p:spPr>
            <a:xfrm>
              <a:off x="798480" y="1822320"/>
              <a:ext cx="754056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857160" y="1857240"/>
              <a:ext cx="7429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У бяззлучнікавых складаных сказах  могуць выражацца наступныя сэнсава-граматычныя адносіны паміж часткамі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0" name="TextBox 13" descr=""/>
          <p:cNvPicPr/>
          <p:nvPr/>
        </p:nvPicPr>
        <p:blipFill>
          <a:blip r:embed="rId6"/>
          <a:stretch/>
        </p:blipFill>
        <p:spPr>
          <a:xfrm>
            <a:off x="938160" y="3035160"/>
            <a:ext cx="519120" cy="3395880"/>
          </a:xfrm>
          <a:prstGeom prst="rect">
            <a:avLst/>
          </a:prstGeom>
          <a:ln w="0">
            <a:noFill/>
          </a:ln>
        </p:spPr>
      </p:pic>
      <p:pic>
        <p:nvPicPr>
          <p:cNvPr id="121" name="TextBox 14" descr=""/>
          <p:cNvPicPr/>
          <p:nvPr/>
        </p:nvPicPr>
        <p:blipFill>
          <a:blip r:embed="rId7"/>
          <a:stretch/>
        </p:blipFill>
        <p:spPr>
          <a:xfrm>
            <a:off x="2298600" y="3035160"/>
            <a:ext cx="511200" cy="3395880"/>
          </a:xfrm>
          <a:prstGeom prst="rect">
            <a:avLst/>
          </a:prstGeom>
          <a:ln w="0">
            <a:noFill/>
          </a:ln>
        </p:spPr>
      </p:pic>
      <p:pic>
        <p:nvPicPr>
          <p:cNvPr id="122" name="TextBox 15" descr=""/>
          <p:cNvPicPr/>
          <p:nvPr/>
        </p:nvPicPr>
        <p:blipFill>
          <a:blip r:embed="rId8"/>
          <a:stretch/>
        </p:blipFill>
        <p:spPr>
          <a:xfrm>
            <a:off x="3651120" y="3035160"/>
            <a:ext cx="519120" cy="3395880"/>
          </a:xfrm>
          <a:prstGeom prst="rect">
            <a:avLst/>
          </a:prstGeom>
          <a:ln w="0">
            <a:noFill/>
          </a:ln>
        </p:spPr>
      </p:pic>
      <p:pic>
        <p:nvPicPr>
          <p:cNvPr id="123" name="TextBox 16" descr=""/>
          <p:cNvPicPr/>
          <p:nvPr/>
        </p:nvPicPr>
        <p:blipFill>
          <a:blip r:embed="rId9"/>
          <a:stretch/>
        </p:blipFill>
        <p:spPr>
          <a:xfrm>
            <a:off x="4797360" y="3035160"/>
            <a:ext cx="731880" cy="3395880"/>
          </a:xfrm>
          <a:prstGeom prst="rect">
            <a:avLst/>
          </a:prstGeom>
          <a:ln w="0">
            <a:noFill/>
          </a:ln>
        </p:spPr>
      </p:pic>
      <p:pic>
        <p:nvPicPr>
          <p:cNvPr id="124" name="TextBox 17" descr=""/>
          <p:cNvPicPr/>
          <p:nvPr/>
        </p:nvPicPr>
        <p:blipFill>
          <a:blip r:embed="rId10"/>
          <a:stretch/>
        </p:blipFill>
        <p:spPr>
          <a:xfrm>
            <a:off x="6224760" y="3035160"/>
            <a:ext cx="517320" cy="3395880"/>
          </a:xfrm>
          <a:prstGeom prst="rect">
            <a:avLst/>
          </a:prstGeom>
          <a:ln w="0">
            <a:noFill/>
          </a:ln>
        </p:spPr>
      </p:pic>
      <p:pic>
        <p:nvPicPr>
          <p:cNvPr id="125" name="TextBox 18" descr=""/>
          <p:cNvPicPr/>
          <p:nvPr/>
        </p:nvPicPr>
        <p:blipFill>
          <a:blip r:embed="rId11"/>
          <a:stretch/>
        </p:blipFill>
        <p:spPr>
          <a:xfrm>
            <a:off x="7656480" y="2962440"/>
            <a:ext cx="512640" cy="339552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ая соединительная линия 20"/>
          <p:cNvSpPr/>
          <p:nvPr/>
        </p:nvSpPr>
        <p:spPr>
          <a:xfrm>
            <a:off x="4357800" y="2357280"/>
            <a:ext cx="0" cy="285840"/>
          </a:xfrm>
          <a:prstGeom prst="line">
            <a:avLst/>
          </a:prstGeom>
          <a:ln w="255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ая соединительная линия 22"/>
          <p:cNvSpPr/>
          <p:nvPr/>
        </p:nvSpPr>
        <p:spPr>
          <a:xfrm>
            <a:off x="1143000" y="2643120"/>
            <a:ext cx="6715080" cy="0"/>
          </a:xfrm>
          <a:prstGeom prst="line">
            <a:avLst/>
          </a:prstGeom>
          <a:ln w="255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Прямая со стрелкой 27"/>
          <p:cNvCxnSpPr/>
          <p:nvPr/>
        </p:nvCxnSpPr>
        <p:spPr>
          <a:xfrm flipH="1">
            <a:off x="1141200" y="2643120"/>
            <a:ext cx="2160" cy="357840"/>
          </a:xfrm>
          <a:prstGeom prst="straightConnector1">
            <a:avLst/>
          </a:prstGeom>
          <a:ln w="25560">
            <a:solidFill>
              <a:srgbClr val="9999ff"/>
            </a:solidFill>
            <a:miter/>
            <a:tailEnd len="med" type="arrow" w="med"/>
          </a:ln>
        </p:spPr>
      </p:cxnSp>
      <p:cxnSp>
        <p:nvCxnSpPr>
          <p:cNvPr id="129" name="Прямая со стрелкой 29"/>
          <p:cNvCxnSpPr/>
          <p:nvPr/>
        </p:nvCxnSpPr>
        <p:spPr>
          <a:xfrm flipH="1">
            <a:off x="2569320" y="2643120"/>
            <a:ext cx="2520" cy="357840"/>
          </a:xfrm>
          <a:prstGeom prst="straightConnector1">
            <a:avLst/>
          </a:prstGeom>
          <a:ln w="25560">
            <a:solidFill>
              <a:srgbClr val="9999ff"/>
            </a:solidFill>
            <a:miter/>
            <a:tailEnd len="med" type="arrow" w="med"/>
          </a:ln>
        </p:spPr>
      </p:cxnSp>
      <p:cxnSp>
        <p:nvCxnSpPr>
          <p:cNvPr id="130" name="Прямая со стрелкой 31"/>
          <p:cNvCxnSpPr/>
          <p:nvPr/>
        </p:nvCxnSpPr>
        <p:spPr>
          <a:xfrm flipH="1">
            <a:off x="3927240" y="2643120"/>
            <a:ext cx="2160" cy="357840"/>
          </a:xfrm>
          <a:prstGeom prst="straightConnector1">
            <a:avLst/>
          </a:prstGeom>
          <a:ln w="25560">
            <a:solidFill>
              <a:srgbClr val="9999ff"/>
            </a:solidFill>
            <a:miter/>
            <a:tailEnd len="med" type="arrow" w="med"/>
          </a:ln>
        </p:spPr>
      </p:cxnSp>
      <p:cxnSp>
        <p:nvCxnSpPr>
          <p:cNvPr id="131" name="Прямая со стрелкой 33"/>
          <p:cNvCxnSpPr/>
          <p:nvPr/>
        </p:nvCxnSpPr>
        <p:spPr>
          <a:xfrm flipH="1">
            <a:off x="5214600" y="2643120"/>
            <a:ext cx="2160" cy="357840"/>
          </a:xfrm>
          <a:prstGeom prst="straightConnector1">
            <a:avLst/>
          </a:prstGeom>
          <a:ln w="25560">
            <a:solidFill>
              <a:srgbClr val="9999ff"/>
            </a:solidFill>
            <a:miter/>
            <a:tailEnd len="med" type="arrow" w="med"/>
          </a:ln>
        </p:spPr>
      </p:cxnSp>
      <p:cxnSp>
        <p:nvCxnSpPr>
          <p:cNvPr id="132" name="Прямая со стрелкой 35"/>
          <p:cNvCxnSpPr/>
          <p:nvPr/>
        </p:nvCxnSpPr>
        <p:spPr>
          <a:xfrm flipH="1">
            <a:off x="6500520" y="2571840"/>
            <a:ext cx="2160" cy="357840"/>
          </a:xfrm>
          <a:prstGeom prst="straightConnector1">
            <a:avLst/>
          </a:prstGeom>
          <a:ln w="25560">
            <a:solidFill>
              <a:srgbClr val="9999ff"/>
            </a:solidFill>
            <a:miter/>
            <a:tailEnd len="med" type="arrow" w="med"/>
          </a:ln>
        </p:spPr>
      </p:cxnSp>
      <p:cxnSp>
        <p:nvCxnSpPr>
          <p:cNvPr id="133" name="Прямая со стрелкой 37"/>
          <p:cNvCxnSpPr/>
          <p:nvPr/>
        </p:nvCxnSpPr>
        <p:spPr>
          <a:xfrm flipH="1">
            <a:off x="7857360" y="2571840"/>
            <a:ext cx="2520" cy="357840"/>
          </a:xfrm>
          <a:prstGeom prst="straightConnector1">
            <a:avLst/>
          </a:prstGeom>
          <a:ln w="25560">
            <a:solidFill>
              <a:srgbClr val="9999ff"/>
            </a:solidFill>
            <a:miter/>
            <a:tailEnd len="med" type="arrow" w="med"/>
          </a:ln>
        </p:spPr>
      </p:cxn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5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70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75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80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500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25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300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00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55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7500"/>
                            </p:stCondLst>
                            <p:childTnLst>
                              <p:par>
                                <p:cTn id="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80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500"/>
                            </p:stCondLst>
                            <p:childTnLst>
                              <p:par>
                                <p:cTn id="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0" descr="logo 21"/>
          <p:cNvPicPr/>
          <p:nvPr/>
        </p:nvPicPr>
        <p:blipFill>
          <a:blip r:embed="rId1"/>
          <a:stretch/>
        </p:blipFill>
        <p:spPr>
          <a:xfrm>
            <a:off x="6138720" y="6278400"/>
            <a:ext cx="3011760" cy="5860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grpSp>
        <p:nvGrpSpPr>
          <p:cNvPr id="136" name="TextBox 11"/>
          <p:cNvGrpSpPr/>
          <p:nvPr/>
        </p:nvGrpSpPr>
        <p:grpSpPr>
          <a:xfrm>
            <a:off x="1652760" y="1390680"/>
            <a:ext cx="7332480" cy="590400"/>
            <a:chOff x="1652760" y="1390680"/>
            <a:chExt cx="7332480" cy="590400"/>
          </a:xfrm>
        </p:grpSpPr>
        <p:pic>
          <p:nvPicPr>
            <p:cNvPr id="137" name="TextBox 11" descr=""/>
            <p:cNvPicPr/>
            <p:nvPr/>
          </p:nvPicPr>
          <p:blipFill>
            <a:blip r:embed="rId3"/>
            <a:stretch/>
          </p:blipFill>
          <p:spPr>
            <a:xfrm>
              <a:off x="1652760" y="1390680"/>
              <a:ext cx="7332480" cy="59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1738440" y="1452600"/>
              <a:ext cx="7167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Бяззлучнікавыя складаныя сказы, часткі якіх адлюстроўваюць адначасовасць ці паслядоўнасць падзей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[</a:t>
              </a:r>
              <a:r>
                <a:rPr b="1" i="1" lang="be-BY" sz="11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Маўчала цішыня навокал</a:t>
              </a:r>
              <a:r>
                <a:rPr b="1" i="1" lang="en-US" sz="11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]</a:t>
              </a:r>
              <a:r>
                <a:rPr b="1" i="1" lang="be-BY" sz="11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, </a:t>
              </a:r>
              <a:r>
                <a:rPr b="1" i="1" lang="en-US" sz="11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[</a:t>
              </a:r>
              <a:r>
                <a:rPr b="1" i="1" lang="be-BY" sz="11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драмаў трывожна спеў лясны</a:t>
              </a:r>
              <a:r>
                <a:rPr b="1" i="1" lang="en-US" sz="11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]</a:t>
              </a:r>
              <a:r>
                <a:rPr b="1" i="1" lang="be-BY" sz="11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. (Р. Барадулін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TextBox 12"/>
          <p:cNvGrpSpPr/>
          <p:nvPr/>
        </p:nvGrpSpPr>
        <p:grpSpPr>
          <a:xfrm>
            <a:off x="1652760" y="2109960"/>
            <a:ext cx="7332480" cy="766440"/>
            <a:chOff x="1652760" y="2109960"/>
            <a:chExt cx="7332480" cy="766440"/>
          </a:xfrm>
        </p:grpSpPr>
        <p:pic>
          <p:nvPicPr>
            <p:cNvPr id="140" name="TextBox 12" descr=""/>
            <p:cNvPicPr/>
            <p:nvPr/>
          </p:nvPicPr>
          <p:blipFill>
            <a:blip r:embed="rId4"/>
            <a:stretch/>
          </p:blipFill>
          <p:spPr>
            <a:xfrm>
              <a:off x="1652760" y="2109960"/>
              <a:ext cx="7332480" cy="76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1746360" y="2174760"/>
              <a:ext cx="715140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Бяззлучнікавыя складаныя сказы, другая частка якіх паясняе ці ўдакладняе папярэднюю або ўказвае на прычыну таго, што вядома з папярэдняй часткі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[</a:t>
              </a:r>
              <a:r>
                <a:rPr b="1" i="1" lang="be-BY" sz="11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Мне сніўся сон</a:t>
              </a:r>
              <a:r>
                <a:rPr b="1" i="1" lang="en-US" sz="11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]</a:t>
              </a:r>
              <a:r>
                <a:rPr b="1" i="1" lang="be-BY" sz="11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: </a:t>
              </a:r>
              <a:r>
                <a:rPr b="1" i="1" lang="en-US" sz="11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[</a:t>
              </a:r>
              <a:r>
                <a:rPr b="1" i="1" lang="be-BY" sz="11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лагодныя вятры ішлі шырока ў горад беласценны</a:t>
              </a:r>
              <a:r>
                <a:rPr b="1" i="1" lang="en-US" sz="11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]</a:t>
              </a:r>
              <a:r>
                <a:rPr b="1" i="1" lang="be-BY" sz="11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. (С. Гаўрусёў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TextBox 14"/>
          <p:cNvGrpSpPr/>
          <p:nvPr/>
        </p:nvGrpSpPr>
        <p:grpSpPr>
          <a:xfrm>
            <a:off x="1652760" y="2962440"/>
            <a:ext cx="7332480" cy="774360"/>
            <a:chOff x="1652760" y="2962440"/>
            <a:chExt cx="7332480" cy="774360"/>
          </a:xfrm>
        </p:grpSpPr>
        <p:pic>
          <p:nvPicPr>
            <p:cNvPr id="143" name="TextBox 14" descr=""/>
            <p:cNvPicPr/>
            <p:nvPr/>
          </p:nvPicPr>
          <p:blipFill>
            <a:blip r:embed="rId5"/>
            <a:stretch/>
          </p:blipFill>
          <p:spPr>
            <a:xfrm>
              <a:off x="1652760" y="2962440"/>
              <a:ext cx="733248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746360" y="3032280"/>
              <a:ext cx="715140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Бяззлучнікавыя складаныя сказы, часткі якіх указваюць на хуткую змену падзей або другая частка паведамляе пра нечаканы вынік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[</a:t>
              </a:r>
              <a:r>
                <a:rPr b="1" i="1" lang="be-BY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Раптам бліснула маланка</a:t>
              </a:r>
              <a:r>
                <a:rPr b="1" i="1" lang="en-US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]</a:t>
              </a:r>
              <a:r>
                <a:rPr b="1" i="1" lang="be-BY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 – </a:t>
              </a:r>
              <a:r>
                <a:rPr b="1" i="1" lang="en-US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[</a:t>
              </a:r>
              <a:r>
                <a:rPr b="1" i="1" lang="be-BY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стала відна як удзень</a:t>
              </a:r>
              <a:r>
                <a:rPr b="1" i="1" lang="en-US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].</a:t>
              </a:r>
              <a:r>
                <a:rPr b="1" i="1" lang="be-BY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 (С. Грахоўскі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TextBox 15"/>
          <p:cNvGrpSpPr/>
          <p:nvPr/>
        </p:nvGrpSpPr>
        <p:grpSpPr>
          <a:xfrm>
            <a:off x="1652760" y="3822840"/>
            <a:ext cx="7332480" cy="620640"/>
            <a:chOff x="1652760" y="3822840"/>
            <a:chExt cx="7332480" cy="620640"/>
          </a:xfrm>
        </p:grpSpPr>
        <p:pic>
          <p:nvPicPr>
            <p:cNvPr id="146" name="TextBox 15" descr=""/>
            <p:cNvPicPr/>
            <p:nvPr/>
          </p:nvPicPr>
          <p:blipFill>
            <a:blip r:embed="rId6"/>
            <a:stretch/>
          </p:blipFill>
          <p:spPr>
            <a:xfrm>
              <a:off x="1652760" y="3822840"/>
              <a:ext cx="73324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739880" y="3882960"/>
              <a:ext cx="7164360" cy="44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Змест </a:t>
              </a: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другой часткі можа супрацьпастаўляцца зместу папярэдняй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[</a:t>
              </a:r>
              <a:r>
                <a:rPr b="1" i="1" lang="be-BY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Клікнуць хацелася</a:t>
              </a:r>
              <a:r>
                <a:rPr b="1" i="1" lang="en-US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]</a:t>
              </a:r>
              <a:r>
                <a:rPr b="1" i="1" lang="be-BY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 – </a:t>
              </a:r>
              <a:r>
                <a:rPr b="1" i="1" lang="en-US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[</a:t>
              </a:r>
              <a:r>
                <a:rPr b="1" i="1" lang="be-BY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голас замёр</a:t>
              </a:r>
              <a:r>
                <a:rPr b="1" i="1" lang="en-US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]</a:t>
              </a:r>
              <a:r>
                <a:rPr b="1" i="1" lang="be-BY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. (П. Броўка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TextBox 17"/>
          <p:cNvGrpSpPr/>
          <p:nvPr/>
        </p:nvGrpSpPr>
        <p:grpSpPr>
          <a:xfrm>
            <a:off x="1652760" y="890640"/>
            <a:ext cx="6332400" cy="388800"/>
            <a:chOff x="1652760" y="890640"/>
            <a:chExt cx="6332400" cy="388800"/>
          </a:xfrm>
        </p:grpSpPr>
        <p:pic>
          <p:nvPicPr>
            <p:cNvPr id="149" name="TextBox 17" descr=""/>
            <p:cNvPicPr/>
            <p:nvPr/>
          </p:nvPicPr>
          <p:blipFill>
            <a:blip r:embed="rId7"/>
            <a:stretch/>
          </p:blipFill>
          <p:spPr>
            <a:xfrm>
              <a:off x="1652760" y="890640"/>
              <a:ext cx="633240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1714680" y="928800"/>
              <a:ext cx="621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Сэнсава-граматычныя адносіны паміж часткамі ў бяззлучнікавых сказах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AutoShape 9"/>
          <p:cNvSpPr/>
          <p:nvPr/>
        </p:nvSpPr>
        <p:spPr>
          <a:xfrm>
            <a:off x="415800" y="911160"/>
            <a:ext cx="1227240" cy="2732040"/>
          </a:xfrm>
          <a:custGeom>
            <a:avLst/>
            <a:gdLst>
              <a:gd name="textAreaLeft" fmla="*/ 164160 w 1227240"/>
              <a:gd name="textAreaRight" fmla="*/ 1063080 w 1227240"/>
              <a:gd name="textAreaTop" fmla="*/ 574920 h 2732040"/>
              <a:gd name="textAreaBottom" fmla="*/ 2013120 h 2732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093" stAng="-5400000" swAng="-5400000"/>
                <a:lnTo>
                  <a:pt x="0" y="11370"/>
                </a:lnTo>
                <a:arcTo wR="21600" hR="9093" stAng="10800000" swAng="-3162773"/>
                <a:lnTo>
                  <a:pt x="15007" y="21166"/>
                </a:lnTo>
                <a:lnTo>
                  <a:pt x="21600" y="19324"/>
                </a:lnTo>
                <a:lnTo>
                  <a:pt x="15007" y="16613"/>
                </a:lnTo>
                <a:lnTo>
                  <a:pt x="15007" y="17751"/>
                </a:lnTo>
                <a:arcTo wR="21600" hR="9093" stAng="7637227" swAng="2980310"/>
                <a:lnTo>
                  <a:pt x="170" y="10231"/>
                </a:lnTo>
                <a:arcTo wR="21600" hR="9093" stAng="-10617536" swAng="5217536"/>
                <a:close/>
              </a:path>
              <a:path fill="darkenLess" w="21600" h="21600">
                <a:moveTo>
                  <a:pt x="21600" y="0"/>
                </a:moveTo>
                <a:arcTo wR="21600" hR="9093" stAng="-5400000" swAng="-5400000"/>
                <a:lnTo>
                  <a:pt x="0" y="9093"/>
                </a:lnTo>
                <a:arcTo wR="21600" hR="9093" stAng="10800000" swAng="-182464"/>
                <a:lnTo>
                  <a:pt x="170" y="10231"/>
                </a:lnTo>
                <a:arcTo wR="21600" hR="9093" stAng="-10617536" swAng="5217536"/>
                <a:close/>
              </a:path>
            </a:pathLst>
          </a:cu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9"/>
          <p:cNvSpPr/>
          <p:nvPr/>
        </p:nvSpPr>
        <p:spPr>
          <a:xfrm>
            <a:off x="423720" y="901800"/>
            <a:ext cx="1219320" cy="3598920"/>
          </a:xfrm>
          <a:custGeom>
            <a:avLst/>
            <a:gdLst>
              <a:gd name="textAreaLeft" fmla="*/ 163080 w 1219320"/>
              <a:gd name="textAreaRight" fmla="*/ 1056240 w 1219320"/>
              <a:gd name="textAreaTop" fmla="*/ 795960 h 3598920"/>
              <a:gd name="textAreaBottom" fmla="*/ 2674080 h 359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555" stAng="-5400000" swAng="-5400000"/>
                <a:lnTo>
                  <a:pt x="0" y="11272"/>
                </a:lnTo>
                <a:arcTo wR="21600" hR="9555" stAng="10800000" swAng="-3081914"/>
                <a:lnTo>
                  <a:pt x="14400" y="21054"/>
                </a:lnTo>
                <a:lnTo>
                  <a:pt x="21600" y="19968"/>
                </a:lnTo>
                <a:lnTo>
                  <a:pt x="14400" y="17789"/>
                </a:lnTo>
                <a:lnTo>
                  <a:pt x="14400" y="18563"/>
                </a:lnTo>
                <a:arcTo wR="21600" hR="9555" stAng="7718086" swAng="2944797"/>
                <a:lnTo>
                  <a:pt x="87" y="10413"/>
                </a:lnTo>
                <a:arcTo wR="21600" hR="9555" stAng="-10662883" swAng="5262883"/>
                <a:close/>
              </a:path>
              <a:path fill="darkenLess" w="21600" h="21600">
                <a:moveTo>
                  <a:pt x="21600" y="0"/>
                </a:moveTo>
                <a:arcTo wR="21600" hR="9555" stAng="-5400000" swAng="-5400000"/>
                <a:lnTo>
                  <a:pt x="0" y="9555"/>
                </a:lnTo>
                <a:arcTo wR="21600" hR="9555" stAng="10800000" swAng="-137117"/>
                <a:lnTo>
                  <a:pt x="87" y="10413"/>
                </a:lnTo>
                <a:arcTo wR="21600" hR="9555" stAng="-10662883" swAng="5262883"/>
                <a:close/>
              </a:path>
            </a:pathLst>
          </a:cu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9"/>
          <p:cNvSpPr/>
          <p:nvPr/>
        </p:nvSpPr>
        <p:spPr>
          <a:xfrm rot="317400">
            <a:off x="498240" y="923400"/>
            <a:ext cx="1125360" cy="1098720"/>
          </a:xfrm>
          <a:custGeom>
            <a:avLst/>
            <a:gdLst>
              <a:gd name="textAreaLeft" fmla="*/ 150480 w 1125360"/>
              <a:gd name="textAreaRight" fmla="*/ 974880 w 1125360"/>
              <a:gd name="textAreaTop" fmla="*/ 182160 h 1098720"/>
              <a:gd name="textAreaBottom" fmla="*/ 804960 h 109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172" stAng="-5400000" swAng="-5400000"/>
                <a:lnTo>
                  <a:pt x="0" y="12241"/>
                </a:lnTo>
                <a:arcTo wR="21600" hR="7172" stAng="10800000" swAng="-2641868"/>
                <a:lnTo>
                  <a:pt x="14584" y="21211"/>
                </a:lnTo>
                <a:lnTo>
                  <a:pt x="21600" y="16878"/>
                </a:lnTo>
                <a:lnTo>
                  <a:pt x="14584" y="11766"/>
                </a:lnTo>
                <a:lnTo>
                  <a:pt x="14584" y="13954"/>
                </a:lnTo>
                <a:arcTo wR="21600" hR="7172" stAng="8158132" swAng="2212903"/>
                <a:lnTo>
                  <a:pt x="1394" y="9706"/>
                </a:lnTo>
                <a:arcTo wR="21600" hR="7172" stAng="-10371035" swAng="4971035"/>
                <a:close/>
              </a:path>
              <a:path fill="darkenLess" w="21600" h="21600">
                <a:moveTo>
                  <a:pt x="21600" y="0"/>
                </a:moveTo>
                <a:arcTo wR="21600" hR="7172" stAng="-5400000" swAng="-5400000"/>
                <a:lnTo>
                  <a:pt x="0" y="7172"/>
                </a:lnTo>
                <a:arcTo wR="21600" hR="7172" stAng="10800000" swAng="-428965"/>
                <a:lnTo>
                  <a:pt x="1394" y="9706"/>
                </a:lnTo>
                <a:arcTo wR="21600" hR="7172" stAng="-10371035" swAng="4971035"/>
                <a:close/>
              </a:path>
            </a:pathLst>
          </a:cu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082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9"/>
          <p:cNvSpPr/>
          <p:nvPr/>
        </p:nvSpPr>
        <p:spPr>
          <a:xfrm rot="317400">
            <a:off x="409320" y="907920"/>
            <a:ext cx="1204920" cy="1874880"/>
          </a:xfrm>
          <a:custGeom>
            <a:avLst/>
            <a:gdLst>
              <a:gd name="textAreaLeft" fmla="*/ 161280 w 1204920"/>
              <a:gd name="textAreaRight" fmla="*/ 1043640 w 1204920"/>
              <a:gd name="textAreaTop" fmla="*/ 373680 h 1874880"/>
              <a:gd name="textAreaBottom" fmla="*/ 1372320 h 1874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12" stAng="-5400000" swAng="-5400000"/>
                <a:lnTo>
                  <a:pt x="0" y="11504"/>
                </a:lnTo>
                <a:arcTo wR="21600" hR="8612" stAng="10800000" swAng="-2810263"/>
                <a:lnTo>
                  <a:pt x="14035" y="21055"/>
                </a:lnTo>
                <a:lnTo>
                  <a:pt x="21600" y="18670"/>
                </a:lnTo>
                <a:lnTo>
                  <a:pt x="14035" y="15195"/>
                </a:lnTo>
                <a:lnTo>
                  <a:pt x="14035" y="16679"/>
                </a:lnTo>
                <a:arcTo wR="21600" hR="8612" stAng="7989737" swAng="2577169"/>
                <a:lnTo>
                  <a:pt x="307" y="10058"/>
                </a:lnTo>
                <a:arcTo wR="21600" hR="8612" stAng="-10566906" swAng="5166906"/>
                <a:close/>
              </a:path>
              <a:path fill="darkenLess" w="21600" h="21600">
                <a:moveTo>
                  <a:pt x="21600" y="0"/>
                </a:moveTo>
                <a:arcTo wR="21600" hR="8612" stAng="-5400000" swAng="-5400000"/>
                <a:lnTo>
                  <a:pt x="0" y="8612"/>
                </a:lnTo>
                <a:arcTo wR="21600" hR="8612" stAng="10800000" swAng="-233094"/>
                <a:lnTo>
                  <a:pt x="307" y="10058"/>
                </a:lnTo>
                <a:arcTo wR="21600" hR="8612" stAng="-10566906" swAng="5166906"/>
                <a:close/>
              </a:path>
            </a:pathLst>
          </a:cu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082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TextBox 13"/>
          <p:cNvGrpSpPr/>
          <p:nvPr/>
        </p:nvGrpSpPr>
        <p:grpSpPr>
          <a:xfrm>
            <a:off x="1652760" y="4462560"/>
            <a:ext cx="7259400" cy="585720"/>
            <a:chOff x="1652760" y="4462560"/>
            <a:chExt cx="7259400" cy="585720"/>
          </a:xfrm>
        </p:grpSpPr>
        <p:pic>
          <p:nvPicPr>
            <p:cNvPr id="156" name="TextBox 13" descr=""/>
            <p:cNvPicPr/>
            <p:nvPr/>
          </p:nvPicPr>
          <p:blipFill>
            <a:blip r:embed="rId8"/>
            <a:stretch/>
          </p:blipFill>
          <p:spPr>
            <a:xfrm>
              <a:off x="1652760" y="4462560"/>
              <a:ext cx="7259400" cy="5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1738440" y="4524480"/>
              <a:ext cx="7095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Нярэдка першая частка ўказвае на час (умову) таго, што гаворыцца ў наступнай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[</a:t>
              </a:r>
              <a:r>
                <a:rPr b="1" i="1" lang="be-BY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Сціхне бура</a:t>
              </a:r>
              <a:r>
                <a:rPr b="1" i="1" lang="en-US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]</a:t>
              </a:r>
              <a:r>
                <a:rPr b="1" i="1" lang="be-BY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 – </a:t>
              </a:r>
              <a:r>
                <a:rPr b="1" i="1" lang="en-US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[</a:t>
              </a:r>
              <a:r>
                <a:rPr b="1" i="1" lang="be-BY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ясна стане</a:t>
              </a:r>
              <a:r>
                <a:rPr b="1" i="1" lang="en-US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]</a:t>
              </a:r>
              <a:r>
                <a:rPr b="1" i="1" lang="be-BY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. (Я. Колас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AutoShape 9"/>
          <p:cNvSpPr/>
          <p:nvPr/>
        </p:nvSpPr>
        <p:spPr>
          <a:xfrm>
            <a:off x="428760" y="1000080"/>
            <a:ext cx="1218960" cy="4143600"/>
          </a:xfrm>
          <a:custGeom>
            <a:avLst/>
            <a:gdLst>
              <a:gd name="textAreaLeft" fmla="*/ 163080 w 1218960"/>
              <a:gd name="textAreaRight" fmla="*/ 1055880 w 1218960"/>
              <a:gd name="textAreaTop" fmla="*/ 932040 h 4143600"/>
              <a:gd name="textAreaBottom" fmla="*/ 3082680 h 4143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718" stAng="-5400000" swAng="-5400000"/>
                <a:lnTo>
                  <a:pt x="0" y="11210"/>
                </a:lnTo>
                <a:arcTo wR="21600" hR="9718" stAng="10800000" swAng="-3110308"/>
                <a:lnTo>
                  <a:pt x="14400" y="21044"/>
                </a:lnTo>
                <a:lnTo>
                  <a:pt x="21600" y="20182"/>
                </a:lnTo>
                <a:lnTo>
                  <a:pt x="14400" y="18208"/>
                </a:lnTo>
                <a:lnTo>
                  <a:pt x="14400" y="18880"/>
                </a:lnTo>
                <a:arcTo wR="21600" hR="9718" stAng="7689692" swAng="2991275"/>
                <a:lnTo>
                  <a:pt x="64" y="10464"/>
                </a:lnTo>
                <a:arcTo wR="21600" hR="9718" stAng="-10680967" swAng="5280967"/>
                <a:close/>
              </a:path>
              <a:path fill="darkenLess" w="21600" h="21600">
                <a:moveTo>
                  <a:pt x="21600" y="0"/>
                </a:moveTo>
                <a:arcTo wR="21600" hR="9718" stAng="-5400000" swAng="-5400000"/>
                <a:lnTo>
                  <a:pt x="0" y="9718"/>
                </a:lnTo>
                <a:arcTo wR="21600" hR="9718" stAng="10800000" swAng="-119033"/>
                <a:lnTo>
                  <a:pt x="64" y="10464"/>
                </a:lnTo>
                <a:arcTo wR="21600" hR="9718" stAng="-10680967" swAng="5280967"/>
                <a:close/>
              </a:path>
            </a:pathLst>
          </a:cu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TextBox 18"/>
          <p:cNvGrpSpPr/>
          <p:nvPr/>
        </p:nvGrpSpPr>
        <p:grpSpPr>
          <a:xfrm>
            <a:off x="1725480" y="5108400"/>
            <a:ext cx="7259760" cy="774720"/>
            <a:chOff x="1725480" y="5108400"/>
            <a:chExt cx="7259760" cy="774720"/>
          </a:xfrm>
        </p:grpSpPr>
        <p:pic>
          <p:nvPicPr>
            <p:cNvPr id="160" name="TextBox 18" descr=""/>
            <p:cNvPicPr/>
            <p:nvPr/>
          </p:nvPicPr>
          <p:blipFill>
            <a:blip r:embed="rId9"/>
            <a:stretch/>
          </p:blipFill>
          <p:spPr>
            <a:xfrm>
              <a:off x="1725480" y="5108400"/>
              <a:ext cx="725976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1817640" y="5175360"/>
              <a:ext cx="70801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Сустракаюцца і такія бяззлучнікавыя сказы, у якіх другая частка заключае ў сабе выснову таго, што гаворыцца ў папярэдняй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[</a:t>
              </a:r>
              <a:r>
                <a:rPr b="1" i="1" lang="be-BY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Шумяць па-новаму дубравы</a:t>
              </a:r>
              <a:r>
                <a:rPr b="1" i="1" lang="en-US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]</a:t>
              </a:r>
              <a:r>
                <a:rPr b="1" i="1" lang="be-BY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 – </a:t>
              </a:r>
              <a:r>
                <a:rPr b="1" i="1" lang="en-US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[</a:t>
              </a:r>
              <a:r>
                <a:rPr b="1" i="1" lang="be-BY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на край свій люба мне зірнуць</a:t>
              </a:r>
              <a:r>
                <a:rPr b="1" i="1" lang="en-US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]</a:t>
              </a:r>
              <a:r>
                <a:rPr b="1" i="1" lang="be-BY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. (Я. Колас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AutoShape 9"/>
          <p:cNvSpPr/>
          <p:nvPr/>
        </p:nvSpPr>
        <p:spPr>
          <a:xfrm>
            <a:off x="285840" y="1000080"/>
            <a:ext cx="1357200" cy="4714920"/>
          </a:xfrm>
          <a:custGeom>
            <a:avLst/>
            <a:gdLst>
              <a:gd name="textAreaLeft" fmla="*/ 181800 w 1357200"/>
              <a:gd name="textAreaRight" fmla="*/ 1175400 w 1357200"/>
              <a:gd name="textAreaTop" fmla="*/ 1063080 h 4714920"/>
              <a:gd name="textAreaBottom" fmla="*/ 3508200 h 471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742" stAng="-5400000" swAng="-5400000"/>
                <a:lnTo>
                  <a:pt x="0" y="11201"/>
                </a:lnTo>
                <a:arcTo wR="21600" hR="9742" stAng="10800000" swAng="-3114426"/>
                <a:lnTo>
                  <a:pt x="14400" y="21043"/>
                </a:lnTo>
                <a:lnTo>
                  <a:pt x="21600" y="20214"/>
                </a:lnTo>
                <a:lnTo>
                  <a:pt x="14400" y="18270"/>
                </a:lnTo>
                <a:lnTo>
                  <a:pt x="14400" y="18927"/>
                </a:lnTo>
                <a:arcTo wR="21600" hR="9742" stAng="7685574" swAng="2998040"/>
                <a:lnTo>
                  <a:pt x="61" y="10471"/>
                </a:lnTo>
                <a:arcTo wR="21600" hR="9742" stAng="-10683614" swAng="5283614"/>
                <a:close/>
              </a:path>
              <a:path fill="darkenLess" w="21600" h="21600">
                <a:moveTo>
                  <a:pt x="21600" y="0"/>
                </a:moveTo>
                <a:arcTo wR="21600" hR="9742" stAng="-5400000" swAng="-5400000"/>
                <a:lnTo>
                  <a:pt x="0" y="9742"/>
                </a:lnTo>
                <a:arcTo wR="21600" hR="9742" stAng="10800000" swAng="-116386"/>
                <a:lnTo>
                  <a:pt x="61" y="10471"/>
                </a:lnTo>
                <a:arcTo wR="21600" hR="9742" stAng="-10683614" swAng="5283614"/>
                <a:close/>
              </a:path>
            </a:pathLst>
          </a:cu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3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500"/>
                            </p:stCondLst>
                            <p:childTnLst>
                              <p:par>
                                <p:cTn id="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3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65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3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950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3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3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3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3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3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0" descr="logo 21"/>
          <p:cNvPicPr/>
          <p:nvPr/>
        </p:nvPicPr>
        <p:blipFill>
          <a:blip r:embed="rId1"/>
          <a:stretch/>
        </p:blipFill>
        <p:spPr>
          <a:xfrm>
            <a:off x="6138720" y="6211800"/>
            <a:ext cx="3011760" cy="6526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pic>
        <p:nvPicPr>
          <p:cNvPr id="165" name="Схема 4" descr=""/>
          <p:cNvPicPr/>
          <p:nvPr/>
        </p:nvPicPr>
        <p:blipFill>
          <a:blip r:embed="rId3"/>
          <a:stretch/>
        </p:blipFill>
        <p:spPr>
          <a:xfrm>
            <a:off x="1152360" y="890640"/>
            <a:ext cx="7047000" cy="546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0" descr="logo 21"/>
          <p:cNvPicPr/>
          <p:nvPr/>
        </p:nvPicPr>
        <p:blipFill>
          <a:blip r:embed="rId1"/>
          <a:stretch/>
        </p:blipFill>
        <p:spPr>
          <a:xfrm>
            <a:off x="6138720" y="6138720"/>
            <a:ext cx="3011760" cy="7257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sp>
        <p:nvSpPr>
          <p:cNvPr id="168" name="AutoShape 5"/>
          <p:cNvSpPr/>
          <p:nvPr/>
        </p:nvSpPr>
        <p:spPr>
          <a:xfrm>
            <a:off x="1357200" y="571680"/>
            <a:ext cx="6357960" cy="642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100" spc="-1" strike="noStrike">
                <a:solidFill>
                  <a:srgbClr val="0000ff"/>
                </a:solidFill>
                <a:latin typeface="Times New Roman"/>
              </a:rPr>
              <a:t>калі другая частка раскрывае, паясняе ці дапаўняе змест папярэдняй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e5"/>
                </a:solidFill>
                <a:latin typeface="Times New Roman"/>
              </a:rPr>
              <a:t>[</a:t>
            </a:r>
            <a:r>
              <a:rPr b="1" i="1" lang="be-BY" sz="1100" spc="-1" strike="noStrike">
                <a:solidFill>
                  <a:srgbClr val="0000e5"/>
                </a:solidFill>
                <a:latin typeface="Times New Roman"/>
              </a:rPr>
              <a:t>Наказ бацькоўскі я збярог на Полаччыне і Палессі</a:t>
            </a:r>
            <a:r>
              <a:rPr b="1" i="1" lang="en-US" sz="1100" spc="-1" strike="noStrike">
                <a:solidFill>
                  <a:srgbClr val="0000e5"/>
                </a:solidFill>
                <a:latin typeface="Times New Roman"/>
              </a:rPr>
              <a:t>]</a:t>
            </a:r>
            <a:r>
              <a:rPr b="1" i="1" lang="be-BY" sz="1100" spc="-1" strike="noStrike">
                <a:solidFill>
                  <a:srgbClr val="0000e5"/>
                </a:solidFill>
                <a:latin typeface="Times New Roman"/>
              </a:rPr>
              <a:t>: </a:t>
            </a:r>
            <a:r>
              <a:rPr b="1" i="1" lang="en-US" sz="1100" spc="-1" strike="noStrike">
                <a:solidFill>
                  <a:srgbClr val="0000e5"/>
                </a:solidFill>
                <a:latin typeface="Times New Roman"/>
              </a:rPr>
              <a:t>[</a:t>
            </a:r>
            <a:r>
              <a:rPr b="1" i="1" lang="be-BY" sz="1100" spc="-1" strike="noStrike">
                <a:solidFill>
                  <a:srgbClr val="0000e5"/>
                </a:solidFill>
                <a:latin typeface="Times New Roman"/>
              </a:rPr>
              <a:t>не трэба мудраваць у лесе</a:t>
            </a:r>
            <a:r>
              <a:rPr b="1" i="1" lang="en-US" sz="1100" spc="-1" strike="noStrike">
                <a:solidFill>
                  <a:srgbClr val="0000e5"/>
                </a:solidFill>
                <a:latin typeface="Times New Roman"/>
              </a:rPr>
              <a:t>]</a:t>
            </a:r>
            <a:r>
              <a:rPr b="1" i="1" lang="be-BY" sz="1100" spc="-1" strike="noStrike">
                <a:solidFill>
                  <a:srgbClr val="0000e5"/>
                </a:solidFill>
                <a:latin typeface="Times New Roman"/>
              </a:rPr>
              <a:t>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200" spc="-1" strike="noStrike">
                <a:solidFill>
                  <a:srgbClr val="0000e5"/>
                </a:solidFill>
                <a:latin typeface="Times New Roman"/>
              </a:rPr>
              <a:t>(Г. Бураўкі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5"/>
          <p:cNvSpPr/>
          <p:nvPr/>
        </p:nvSpPr>
        <p:spPr>
          <a:xfrm>
            <a:off x="1357200" y="1285920"/>
            <a:ext cx="6357960" cy="928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100" spc="-1" strike="noStrike">
                <a:solidFill>
                  <a:srgbClr val="0000ff"/>
                </a:solidFill>
                <a:latin typeface="Times New Roman"/>
              </a:rPr>
              <a:t>калі другая частка ўказвае на прычыну таго, пра што гаворыцца ў першай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e5"/>
                </a:solidFill>
                <a:latin typeface="Times New Roman"/>
              </a:rPr>
              <a:t>[</a:t>
            </a:r>
            <a:r>
              <a:rPr b="1" i="1" lang="be-BY" sz="1100" spc="-1" strike="noStrike">
                <a:solidFill>
                  <a:srgbClr val="0000e5"/>
                </a:solidFill>
                <a:latin typeface="Times New Roman"/>
              </a:rPr>
              <a:t>Першыя кіламетры не здаваліся надта цяжкімі</a:t>
            </a:r>
            <a:r>
              <a:rPr b="1" i="1" lang="en-US" sz="1100" spc="-1" strike="noStrike">
                <a:solidFill>
                  <a:srgbClr val="0000e5"/>
                </a:solidFill>
                <a:latin typeface="Times New Roman"/>
              </a:rPr>
              <a:t>]</a:t>
            </a:r>
            <a:r>
              <a:rPr b="1" i="1" lang="be-BY" sz="1100" spc="-1" strike="noStrike">
                <a:solidFill>
                  <a:srgbClr val="0000e5"/>
                </a:solidFill>
                <a:latin typeface="Times New Roman"/>
              </a:rPr>
              <a:t>: </a:t>
            </a:r>
            <a:r>
              <a:rPr b="1" i="1" lang="en-US" sz="1100" spc="-1" strike="noStrike">
                <a:solidFill>
                  <a:srgbClr val="0000e5"/>
                </a:solidFill>
                <a:latin typeface="Times New Roman"/>
              </a:rPr>
              <a:t>[</a:t>
            </a:r>
            <a:r>
              <a:rPr b="1" i="1" lang="be-BY" sz="1100" spc="-1" strike="noStrike">
                <a:solidFill>
                  <a:srgbClr val="0000e5"/>
                </a:solidFill>
                <a:latin typeface="Times New Roman"/>
              </a:rPr>
              <a:t>пажыткі ў хлопцаў былі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100" spc="-1" strike="noStrike">
                <a:solidFill>
                  <a:srgbClr val="0000e5"/>
                </a:solidFill>
                <a:latin typeface="Times New Roman"/>
              </a:rPr>
              <a:t>невялікія</a:t>
            </a:r>
            <a:r>
              <a:rPr b="1" i="1" lang="en-US" sz="1100" spc="-1" strike="noStrike">
                <a:solidFill>
                  <a:srgbClr val="0000e5"/>
                </a:solidFill>
                <a:latin typeface="Times New Roman"/>
              </a:rPr>
              <a:t>]</a:t>
            </a:r>
            <a:r>
              <a:rPr b="1" i="1" lang="be-BY" sz="1100" spc="-1" strike="noStrike">
                <a:solidFill>
                  <a:srgbClr val="0000e5"/>
                </a:solidFill>
                <a:latin typeface="Times New Roman"/>
              </a:rPr>
              <a:t>.</a:t>
            </a:r>
            <a:r>
              <a:rPr b="1" i="1" lang="en-US" sz="1100" spc="-1" strike="noStrike">
                <a:solidFill>
                  <a:srgbClr val="0000e5"/>
                </a:solidFill>
                <a:latin typeface="Times New Roman"/>
              </a:rPr>
              <a:t> </a:t>
            </a:r>
            <a:r>
              <a:rPr b="1" i="1" lang="be-BY" sz="1100" spc="-1" strike="noStrike">
                <a:solidFill>
                  <a:srgbClr val="0000e5"/>
                </a:solidFill>
                <a:latin typeface="Times New Roman"/>
              </a:rPr>
              <a:t>(А. Якімовіч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5"/>
          <p:cNvSpPr/>
          <p:nvPr/>
        </p:nvSpPr>
        <p:spPr>
          <a:xfrm>
            <a:off x="1428840" y="2286000"/>
            <a:ext cx="635796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100" spc="-1" strike="noStrike">
                <a:solidFill>
                  <a:srgbClr val="0000ff"/>
                </a:solidFill>
                <a:latin typeface="Times New Roman"/>
              </a:rPr>
              <a:t>калі другая частка дапаўняе першую, а паміж часткамі можна ўставіць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100" spc="-1" strike="noStrike">
                <a:solidFill>
                  <a:srgbClr val="0000ff"/>
                </a:solidFill>
                <a:latin typeface="Times New Roman"/>
              </a:rPr>
              <a:t>спалучэнні слоў са значэннем успрымання тыпу </a:t>
            </a:r>
            <a:r>
              <a:rPr b="1" lang="be-BY" sz="1100" spc="-1" strike="noStrike">
                <a:solidFill>
                  <a:srgbClr val="c00000"/>
                </a:solidFill>
                <a:latin typeface="Times New Roman"/>
              </a:rPr>
              <a:t>ўбачыў, адчуў, падумаў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100" spc="-1" strike="noStrike">
                <a:solidFill>
                  <a:srgbClr val="c00000"/>
                </a:solidFill>
                <a:latin typeface="Times New Roman"/>
              </a:rPr>
              <a:t>разважыў</a:t>
            </a:r>
            <a:r>
              <a:rPr b="1" lang="be-BY" sz="1100" spc="-1" strike="noStrike">
                <a:solidFill>
                  <a:srgbClr val="0000ff"/>
                </a:solidFill>
                <a:latin typeface="Times New Roman"/>
              </a:rPr>
              <a:t> і г.д.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e5"/>
                </a:solidFill>
                <a:latin typeface="Times New Roman"/>
              </a:rPr>
              <a:t>[</a:t>
            </a:r>
            <a:r>
              <a:rPr b="1" i="1" lang="be-BY" sz="1100" spc="-1" strike="noStrike">
                <a:solidFill>
                  <a:srgbClr val="0000e5"/>
                </a:solidFill>
                <a:latin typeface="Times New Roman"/>
              </a:rPr>
              <a:t>Апейка адчуў</a:t>
            </a:r>
            <a:r>
              <a:rPr b="1" i="1" lang="en-US" sz="1100" spc="-1" strike="noStrike">
                <a:solidFill>
                  <a:srgbClr val="0000e5"/>
                </a:solidFill>
                <a:latin typeface="Times New Roman"/>
              </a:rPr>
              <a:t>]</a:t>
            </a:r>
            <a:r>
              <a:rPr b="1" i="1" lang="be-BY" sz="1100" spc="-1" strike="noStrike">
                <a:solidFill>
                  <a:srgbClr val="0000e5"/>
                </a:solidFill>
                <a:latin typeface="Times New Roman"/>
              </a:rPr>
              <a:t>: </a:t>
            </a:r>
            <a:r>
              <a:rPr b="1" i="1" lang="en-US" sz="1100" spc="-1" strike="noStrike">
                <a:solidFill>
                  <a:srgbClr val="0000e5"/>
                </a:solidFill>
                <a:latin typeface="Times New Roman"/>
              </a:rPr>
              <a:t>[</a:t>
            </a:r>
            <a:r>
              <a:rPr b="1" i="1" lang="be-BY" sz="1100" spc="-1" strike="noStrike">
                <a:solidFill>
                  <a:srgbClr val="0000e5"/>
                </a:solidFill>
                <a:latin typeface="Times New Roman"/>
              </a:rPr>
              <a:t>цішыня зрабілася насцярожанаю</a:t>
            </a:r>
            <a:r>
              <a:rPr b="1" i="1" lang="en-US" sz="1100" spc="-1" strike="noStrike">
                <a:solidFill>
                  <a:srgbClr val="0000e5"/>
                </a:solidFill>
                <a:latin typeface="Times New Roman"/>
              </a:rPr>
              <a:t>]</a:t>
            </a:r>
            <a:r>
              <a:rPr b="1" i="1" lang="be-BY" sz="1100" spc="-1" strike="noStrike">
                <a:solidFill>
                  <a:srgbClr val="0000e5"/>
                </a:solidFill>
                <a:latin typeface="Times New Roman"/>
              </a:rPr>
              <a:t>.  </a:t>
            </a:r>
            <a:r>
              <a:rPr b="1" i="1" lang="en-US" sz="1100" spc="-1" strike="noStrike">
                <a:solidFill>
                  <a:srgbClr val="0000e5"/>
                </a:solidFill>
                <a:latin typeface="Times New Roman"/>
              </a:rPr>
              <a:t>(</a:t>
            </a:r>
            <a:r>
              <a:rPr b="1" i="1" lang="be-BY" sz="1100" spc="-1" strike="noStrike">
                <a:solidFill>
                  <a:srgbClr val="0000e5"/>
                </a:solidFill>
                <a:latin typeface="Times New Roman"/>
              </a:rPr>
              <a:t>І. Мележ</a:t>
            </a:r>
            <a:r>
              <a:rPr b="1" i="1" lang="en-US" sz="1100" spc="-1" strike="noStrike">
                <a:solidFill>
                  <a:srgbClr val="0000e5"/>
                </a:solidFill>
                <a:latin typeface="Times New Roman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100" spc="-1" strike="noStrike">
                <a:solidFill>
                  <a:srgbClr val="0000e5"/>
                </a:solidFill>
                <a:latin typeface="Times New Roman"/>
              </a:rPr>
              <a:t>Гэтыя словы могуць і апускацца, а двукроп’е ставіцц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5"/>
          <p:cNvSpPr/>
          <p:nvPr/>
        </p:nvSpPr>
        <p:spPr>
          <a:xfrm>
            <a:off x="1428840" y="3500280"/>
            <a:ext cx="6357960" cy="928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100" spc="-1" strike="noStrike">
                <a:solidFill>
                  <a:srgbClr val="0000ff"/>
                </a:solidFill>
                <a:latin typeface="Times New Roman"/>
              </a:rPr>
              <a:t>калі другая частка выражае прамое пытанне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e5"/>
                </a:solidFill>
                <a:latin typeface="Times New Roman"/>
              </a:rPr>
              <a:t>[</a:t>
            </a:r>
            <a:r>
              <a:rPr b="1" i="1" lang="be-BY" sz="1100" spc="-1" strike="noStrike">
                <a:solidFill>
                  <a:srgbClr val="0000e5"/>
                </a:solidFill>
                <a:latin typeface="Times New Roman"/>
              </a:rPr>
              <a:t>Хлопчык сцішыўся за тоўстым дрэвам</a:t>
            </a:r>
            <a:r>
              <a:rPr b="1" i="1" lang="en-US" sz="1100" spc="-1" strike="noStrike">
                <a:solidFill>
                  <a:srgbClr val="0000e5"/>
                </a:solidFill>
                <a:latin typeface="Times New Roman"/>
              </a:rPr>
              <a:t>]</a:t>
            </a:r>
            <a:r>
              <a:rPr b="1" i="1" lang="be-BY" sz="1100" spc="-1" strike="noStrike">
                <a:solidFill>
                  <a:srgbClr val="0000e5"/>
                </a:solidFill>
                <a:latin typeface="Times New Roman"/>
              </a:rPr>
              <a:t>: </a:t>
            </a:r>
            <a:r>
              <a:rPr b="1" i="1" lang="en-US" sz="1100" spc="-1" strike="noStrike">
                <a:solidFill>
                  <a:srgbClr val="0000e5"/>
                </a:solidFill>
                <a:latin typeface="Times New Roman"/>
              </a:rPr>
              <a:t>[</a:t>
            </a:r>
            <a:r>
              <a:rPr b="1" i="1" lang="be-BY" sz="1100" spc="-1" strike="noStrike">
                <a:solidFill>
                  <a:srgbClr val="0000e5"/>
                </a:solidFill>
                <a:latin typeface="Times New Roman"/>
              </a:rPr>
              <a:t>чалавек ці звер ідзе</a:t>
            </a:r>
            <a:r>
              <a:rPr b="1" i="1" lang="en-US" sz="1100" spc="-1" strike="noStrike">
                <a:solidFill>
                  <a:srgbClr val="0000e5"/>
                </a:solidFill>
                <a:latin typeface="Times New Roman"/>
              </a:rPr>
              <a:t>]</a:t>
            </a:r>
            <a:r>
              <a:rPr b="1" i="1" lang="be-BY" sz="1100" spc="-1" strike="noStrike">
                <a:solidFill>
                  <a:srgbClr val="0000e5"/>
                </a:solidFill>
                <a:latin typeface="Times New Roman"/>
              </a:rPr>
              <a:t>? (Р. Ігнаценка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5"/>
          <p:cNvSpPr/>
          <p:nvPr/>
        </p:nvSpPr>
        <p:spPr>
          <a:xfrm>
            <a:off x="1428840" y="4500720"/>
            <a:ext cx="6357960" cy="121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100" spc="-1" strike="noStrike">
                <a:solidFill>
                  <a:srgbClr val="0000ff"/>
                </a:solidFill>
                <a:latin typeface="Times New Roman"/>
              </a:rPr>
              <a:t>калі першая частка заключае ў сабе абагульгяльны сэнс, а наступныя гэт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1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be-BY" sz="1100" spc="-1" strike="noStrike">
                <a:solidFill>
                  <a:srgbClr val="0000ff"/>
                </a:solidFill>
                <a:latin typeface="Times New Roman"/>
              </a:rPr>
              <a:t>сэнс раскрываюць. У такіх выпадках двукроп’е ставіцца звычайна пасл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1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be-BY" sz="1100" spc="-1" strike="noStrike">
                <a:solidFill>
                  <a:srgbClr val="0000ff"/>
                </a:solidFill>
                <a:latin typeface="Times New Roman"/>
              </a:rPr>
              <a:t>першай часткі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ff"/>
                </a:solidFill>
                <a:latin typeface="Times New Roman"/>
              </a:rPr>
              <a:t>[</a:t>
            </a:r>
            <a:r>
              <a:rPr b="1" i="1" lang="be-BY" sz="1100" spc="-1" strike="noStrike">
                <a:solidFill>
                  <a:srgbClr val="0000ff"/>
                </a:solidFill>
                <a:latin typeface="Times New Roman"/>
              </a:rPr>
              <a:t>Зямля жыве</a:t>
            </a:r>
            <a:r>
              <a:rPr b="1" i="1" lang="en-US" sz="1100" spc="-1" strike="noStrike">
                <a:solidFill>
                  <a:srgbClr val="0000ff"/>
                </a:solidFill>
                <a:latin typeface="Times New Roman"/>
              </a:rPr>
              <a:t>]</a:t>
            </a:r>
            <a:r>
              <a:rPr b="1" i="1" lang="be-BY" sz="1100" spc="-1" strike="noStrike">
                <a:solidFill>
                  <a:srgbClr val="0000ff"/>
                </a:solidFill>
                <a:latin typeface="Times New Roman"/>
              </a:rPr>
              <a:t>: </a:t>
            </a:r>
            <a:r>
              <a:rPr b="1" i="1" lang="en-US" sz="1100" spc="-1" strike="noStrike">
                <a:solidFill>
                  <a:srgbClr val="0000ff"/>
                </a:solidFill>
                <a:latin typeface="Times New Roman"/>
              </a:rPr>
              <a:t>[</a:t>
            </a:r>
            <a:r>
              <a:rPr b="1" i="1" lang="be-BY" sz="1100" spc="-1" strike="noStrike">
                <a:solidFill>
                  <a:srgbClr val="0000ff"/>
                </a:solidFill>
                <a:latin typeface="Times New Roman"/>
              </a:rPr>
              <a:t>у бераг б’юць прылівы</a:t>
            </a:r>
            <a:r>
              <a:rPr b="1" i="1" lang="en-US" sz="1100" spc="-1" strike="noStrike">
                <a:solidFill>
                  <a:srgbClr val="0000ff"/>
                </a:solidFill>
                <a:latin typeface="Times New Roman"/>
              </a:rPr>
              <a:t>]</a:t>
            </a:r>
            <a:r>
              <a:rPr b="1" i="1" lang="be-BY" sz="1100" spc="-1" strike="noStrike">
                <a:solidFill>
                  <a:srgbClr val="0000ff"/>
                </a:solidFill>
                <a:latin typeface="Times New Roman"/>
              </a:rPr>
              <a:t>, </a:t>
            </a:r>
            <a:r>
              <a:rPr b="1" i="1" lang="en-US" sz="1100" spc="-1" strike="noStrike">
                <a:solidFill>
                  <a:srgbClr val="0000ff"/>
                </a:solidFill>
                <a:latin typeface="Times New Roman"/>
              </a:rPr>
              <a:t>[</a:t>
            </a:r>
            <a:r>
              <a:rPr b="1" i="1" lang="be-BY" sz="1100" spc="-1" strike="noStrike">
                <a:solidFill>
                  <a:srgbClr val="0000ff"/>
                </a:solidFill>
                <a:latin typeface="Times New Roman"/>
              </a:rPr>
              <a:t>у вырай адлятаюць журавы</a:t>
            </a:r>
            <a:r>
              <a:rPr b="1" i="1" lang="en-US" sz="1100" spc="-1" strike="noStrike">
                <a:solidFill>
                  <a:srgbClr val="0000ff"/>
                </a:solidFill>
                <a:latin typeface="Times New Roman"/>
              </a:rPr>
              <a:t>]</a:t>
            </a:r>
            <a:r>
              <a:rPr b="1" i="1" lang="be-BY" sz="1100" spc="-1" strike="noStrike">
                <a:solidFill>
                  <a:srgbClr val="0000ff"/>
                </a:solidFill>
                <a:latin typeface="Times New Roman"/>
              </a:rPr>
              <a:t>. (С. Грахоўскі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TextBox 8"/>
          <p:cNvGrpSpPr/>
          <p:nvPr/>
        </p:nvGrpSpPr>
        <p:grpSpPr>
          <a:xfrm>
            <a:off x="1438200" y="103320"/>
            <a:ext cx="6334200" cy="420480"/>
            <a:chOff x="1438200" y="103320"/>
            <a:chExt cx="6334200" cy="420480"/>
          </a:xfrm>
        </p:grpSpPr>
        <p:pic>
          <p:nvPicPr>
            <p:cNvPr id="174" name="TextBox 8" descr=""/>
            <p:cNvPicPr/>
            <p:nvPr/>
          </p:nvPicPr>
          <p:blipFill>
            <a:blip r:embed="rId3"/>
            <a:stretch/>
          </p:blipFill>
          <p:spPr>
            <a:xfrm>
              <a:off x="1438200" y="103320"/>
              <a:ext cx="6334200" cy="42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1500120" y="142920"/>
              <a:ext cx="621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Двукроп’е ў бяззлучнікавых складаных сказах на мяжы частак ставіцца</a:t>
              </a:r>
              <a:r>
                <a:rPr b="1" lang="be-BY" sz="1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AutoShape 5"/>
          <p:cNvSpPr/>
          <p:nvPr/>
        </p:nvSpPr>
        <p:spPr>
          <a:xfrm>
            <a:off x="1500120" y="5786280"/>
            <a:ext cx="6357960" cy="928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100" spc="-1" strike="noStrike">
                <a:solidFill>
                  <a:srgbClr val="c00000"/>
                </a:solidFill>
                <a:latin typeface="Times New Roman"/>
              </a:rPr>
              <a:t>Заўвага. </a:t>
            </a:r>
            <a:r>
              <a:rPr b="1" lang="be-BY" sz="1100" spc="-1" strike="noStrike">
                <a:solidFill>
                  <a:srgbClr val="0000ff"/>
                </a:solidFill>
                <a:latin typeface="Times New Roman"/>
              </a:rPr>
              <a:t>Калі абагульняльны сэнс заключае ў сабе апошняя частка ў адносіна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100" spc="-1" strike="noStrike">
                <a:solidFill>
                  <a:srgbClr val="0000ff"/>
                </a:solidFill>
                <a:latin typeface="Times New Roman"/>
              </a:rPr>
              <a:t>да папярэдніх, перад ёю ставіцца працяжнік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e5"/>
                </a:solidFill>
                <a:latin typeface="Times New Roman"/>
              </a:rPr>
              <a:t>[</a:t>
            </a:r>
            <a:r>
              <a:rPr b="1" i="1" lang="be-BY" sz="1100" spc="-1" strike="noStrike">
                <a:solidFill>
                  <a:srgbClr val="0000e5"/>
                </a:solidFill>
                <a:latin typeface="Times New Roman"/>
              </a:rPr>
              <a:t>Ніжэй стала хадзіць сонца</a:t>
            </a:r>
            <a:r>
              <a:rPr b="1" i="1" lang="en-US" sz="1100" spc="-1" strike="noStrike">
                <a:solidFill>
                  <a:srgbClr val="0000e5"/>
                </a:solidFill>
                <a:latin typeface="Times New Roman"/>
              </a:rPr>
              <a:t>]</a:t>
            </a:r>
            <a:r>
              <a:rPr b="1" i="1" lang="be-BY" sz="1100" spc="-1" strike="noStrike">
                <a:solidFill>
                  <a:srgbClr val="0000e5"/>
                </a:solidFill>
                <a:latin typeface="Times New Roman"/>
              </a:rPr>
              <a:t>, </a:t>
            </a:r>
            <a:r>
              <a:rPr b="1" i="1" lang="en-US" sz="1100" spc="-1" strike="noStrike">
                <a:solidFill>
                  <a:srgbClr val="0000e5"/>
                </a:solidFill>
                <a:latin typeface="Times New Roman"/>
              </a:rPr>
              <a:t>[</a:t>
            </a:r>
            <a:r>
              <a:rPr b="1" i="1" lang="be-BY" sz="1100" spc="-1" strike="noStrike">
                <a:solidFill>
                  <a:srgbClr val="0000e5"/>
                </a:solidFill>
                <a:latin typeface="Times New Roman"/>
              </a:rPr>
              <a:t>пажаўцела трава на паплавах</a:t>
            </a:r>
            <a:r>
              <a:rPr b="1" i="1" lang="en-US" sz="1100" spc="-1" strike="noStrike">
                <a:solidFill>
                  <a:srgbClr val="0000e5"/>
                </a:solidFill>
                <a:latin typeface="Times New Roman"/>
              </a:rPr>
              <a:t>]</a:t>
            </a:r>
            <a:r>
              <a:rPr b="1" i="1" lang="be-BY" sz="1100" spc="-1" strike="noStrike">
                <a:solidFill>
                  <a:srgbClr val="0000e5"/>
                </a:solidFill>
                <a:latin typeface="Times New Roman"/>
              </a:rPr>
              <a:t>, </a:t>
            </a:r>
            <a:r>
              <a:rPr b="1" i="1" lang="en-US" sz="1100" spc="-1" strike="noStrike">
                <a:solidFill>
                  <a:srgbClr val="0000e5"/>
                </a:solidFill>
                <a:latin typeface="Times New Roman"/>
              </a:rPr>
              <a:t>[</a:t>
            </a:r>
            <a:r>
              <a:rPr b="1" i="1" lang="be-BY" sz="1100" spc="-1" strike="noStrike">
                <a:solidFill>
                  <a:srgbClr val="0000e5"/>
                </a:solidFill>
                <a:latin typeface="Times New Roman"/>
              </a:rPr>
              <a:t>збіраюцца стайкамі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100" spc="-1" strike="noStrike">
                <a:solidFill>
                  <a:srgbClr val="0000e5"/>
                </a:solidFill>
                <a:latin typeface="Times New Roman"/>
              </a:rPr>
              <a:t>вераб’і</a:t>
            </a:r>
            <a:r>
              <a:rPr b="1" i="1" lang="en-US" sz="1100" spc="-1" strike="noStrike">
                <a:solidFill>
                  <a:srgbClr val="0000e5"/>
                </a:solidFill>
                <a:latin typeface="Times New Roman"/>
              </a:rPr>
              <a:t>]</a:t>
            </a:r>
            <a:r>
              <a:rPr b="1" i="1" lang="be-BY" sz="1100" spc="-1" strike="noStrike">
                <a:solidFill>
                  <a:srgbClr val="0000e5"/>
                </a:solidFill>
                <a:latin typeface="Times New Roman"/>
              </a:rPr>
              <a:t> -  </a:t>
            </a:r>
            <a:r>
              <a:rPr b="1" i="1" lang="en-US" sz="1100" spc="-1" strike="noStrike">
                <a:solidFill>
                  <a:srgbClr val="0000e5"/>
                </a:solidFill>
                <a:latin typeface="Times New Roman"/>
              </a:rPr>
              <a:t>[</a:t>
            </a:r>
            <a:r>
              <a:rPr b="1" i="1" lang="be-BY" sz="1100" spc="-1" strike="noStrike">
                <a:solidFill>
                  <a:srgbClr val="0000e5"/>
                </a:solidFill>
                <a:latin typeface="Times New Roman"/>
              </a:rPr>
              <a:t>усё гаворыць аб наступленні восені</a:t>
            </a:r>
            <a:r>
              <a:rPr b="1" i="1" lang="en-US" sz="1100" spc="-1" strike="noStrike">
                <a:solidFill>
                  <a:srgbClr val="0000e5"/>
                </a:solidFill>
                <a:latin typeface="Times New Roman"/>
              </a:rPr>
              <a:t>]</a:t>
            </a:r>
            <a:r>
              <a:rPr b="1" i="1" lang="be-BY" sz="1100" spc="-1" strike="noStrike">
                <a:solidFill>
                  <a:srgbClr val="0000e5"/>
                </a:solidFill>
                <a:latin typeface="Times New Roman"/>
              </a:rPr>
              <a:t>. (В. Хомчанка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500"/>
                            </p:stCondLst>
                            <p:childTnLst>
                              <p:par>
                                <p:cTn id="1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3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3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6500"/>
                            </p:stCondLst>
                            <p:childTnLst>
                              <p:par>
                                <p:cTn id="1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9500"/>
                            </p:stCondLst>
                            <p:childTnLst>
                              <p:par>
                                <p:cTn id="1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2500"/>
                            </p:stCondLst>
                            <p:childTnLst>
                              <p:par>
                                <p:cTn id="1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3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3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500"/>
                            </p:stCondLst>
                            <p:childTnLst>
                              <p:par>
                                <p:cTn id="1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3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3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0" descr="logo 21"/>
          <p:cNvPicPr/>
          <p:nvPr/>
        </p:nvPicPr>
        <p:blipFill>
          <a:blip r:embed="rId1"/>
          <a:stretch/>
        </p:blipFill>
        <p:spPr>
          <a:xfrm>
            <a:off x="6138720" y="6278400"/>
            <a:ext cx="3011760" cy="5860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grpSp>
        <p:nvGrpSpPr>
          <p:cNvPr id="179" name="TextBox 11"/>
          <p:cNvGrpSpPr/>
          <p:nvPr/>
        </p:nvGrpSpPr>
        <p:grpSpPr>
          <a:xfrm>
            <a:off x="1652760" y="1249200"/>
            <a:ext cx="7332480" cy="774720"/>
            <a:chOff x="1652760" y="1249200"/>
            <a:chExt cx="7332480" cy="774720"/>
          </a:xfrm>
        </p:grpSpPr>
        <p:pic>
          <p:nvPicPr>
            <p:cNvPr id="180" name="TextBox 11" descr=""/>
            <p:cNvPicPr/>
            <p:nvPr/>
          </p:nvPicPr>
          <p:blipFill>
            <a:blip r:embed="rId3"/>
            <a:stretch/>
          </p:blipFill>
          <p:spPr>
            <a:xfrm>
              <a:off x="1652760" y="1249200"/>
              <a:ext cx="733248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1746360" y="1317600"/>
              <a:ext cx="715140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Бяззлучнікавыя складаныя сказы, часткі якіх адлюстроўваюць адначасовасць ці паслядоўнасць падзей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[</a:t>
              </a:r>
              <a:r>
                <a:rPr b="1" i="1" lang="be-BY" sz="11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Маўчала цішыня навокал</a:t>
              </a:r>
              <a:r>
                <a:rPr b="1" i="1" lang="en-US" sz="11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]</a:t>
              </a:r>
              <a:r>
                <a:rPr b="1" i="1" lang="be-BY" sz="11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, </a:t>
              </a:r>
              <a:r>
                <a:rPr b="1" i="1" lang="en-US" sz="11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[</a:t>
              </a:r>
              <a:r>
                <a:rPr b="1" i="1" lang="be-BY" sz="11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драмаў трывожна спеў лясны</a:t>
              </a:r>
              <a:r>
                <a:rPr b="1" i="1" lang="en-US" sz="11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]</a:t>
              </a:r>
              <a:r>
                <a:rPr b="1" i="1" lang="be-BY" sz="11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. (Р. Барадулін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TextBox 12"/>
          <p:cNvGrpSpPr/>
          <p:nvPr/>
        </p:nvGrpSpPr>
        <p:grpSpPr>
          <a:xfrm>
            <a:off x="1652760" y="2109960"/>
            <a:ext cx="7332480" cy="766440"/>
            <a:chOff x="1652760" y="2109960"/>
            <a:chExt cx="7332480" cy="766440"/>
          </a:xfrm>
        </p:grpSpPr>
        <p:pic>
          <p:nvPicPr>
            <p:cNvPr id="183" name="TextBox 12" descr=""/>
            <p:cNvPicPr/>
            <p:nvPr/>
          </p:nvPicPr>
          <p:blipFill>
            <a:blip r:embed="rId4"/>
            <a:stretch/>
          </p:blipFill>
          <p:spPr>
            <a:xfrm>
              <a:off x="1652760" y="2109960"/>
              <a:ext cx="7332480" cy="76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1746360" y="2174760"/>
              <a:ext cx="715140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Бяззлучнікавыя складаныя сказы, другая частка якіх паясняе ці ўдакладняе папярэднюю або ўказвае на прычыну таго, што вядома з папярэдняй часткі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[</a:t>
              </a:r>
              <a:r>
                <a:rPr b="1" i="1" lang="be-BY" sz="11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Мне сніўся сон</a:t>
              </a:r>
              <a:r>
                <a:rPr b="1" i="1" lang="en-US" sz="11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]</a:t>
              </a:r>
              <a:r>
                <a:rPr b="1" i="1" lang="be-BY" sz="11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: </a:t>
              </a:r>
              <a:r>
                <a:rPr b="1" i="1" lang="en-US" sz="11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[</a:t>
              </a:r>
              <a:r>
                <a:rPr b="1" i="1" lang="be-BY" sz="11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лагодныя вятры ішлі шырока ў горад беласценны</a:t>
              </a:r>
              <a:r>
                <a:rPr b="1" i="1" lang="en-US" sz="11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]</a:t>
              </a:r>
              <a:r>
                <a:rPr b="1" i="1" lang="be-BY" sz="11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. (С. Гаўрусёў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TextBox 14"/>
          <p:cNvGrpSpPr/>
          <p:nvPr/>
        </p:nvGrpSpPr>
        <p:grpSpPr>
          <a:xfrm>
            <a:off x="1652760" y="2962440"/>
            <a:ext cx="7332480" cy="774360"/>
            <a:chOff x="1652760" y="2962440"/>
            <a:chExt cx="7332480" cy="774360"/>
          </a:xfrm>
        </p:grpSpPr>
        <p:pic>
          <p:nvPicPr>
            <p:cNvPr id="186" name="TextBox 14" descr=""/>
            <p:cNvPicPr/>
            <p:nvPr/>
          </p:nvPicPr>
          <p:blipFill>
            <a:blip r:embed="rId5"/>
            <a:stretch/>
          </p:blipFill>
          <p:spPr>
            <a:xfrm>
              <a:off x="1652760" y="2962440"/>
              <a:ext cx="7332480" cy="77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1746360" y="3032280"/>
              <a:ext cx="715140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Бяззлучнікавыя складаныя сказы, часткі якіх указваюць на хуткую змену падзей або другая частка паведамляе пра нечаканы вынік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[</a:t>
              </a:r>
              <a:r>
                <a:rPr b="1" i="1" lang="be-BY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Раптам бліснула маланка</a:t>
              </a:r>
              <a:r>
                <a:rPr b="1" i="1" lang="en-US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]</a:t>
              </a:r>
              <a:r>
                <a:rPr b="1" i="1" lang="be-BY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 – </a:t>
              </a:r>
              <a:r>
                <a:rPr b="1" i="1" lang="en-US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[</a:t>
              </a:r>
              <a:r>
                <a:rPr b="1" i="1" lang="be-BY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стала відна як удзень</a:t>
              </a:r>
              <a:r>
                <a:rPr b="1" i="1" lang="en-US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].</a:t>
              </a:r>
              <a:r>
                <a:rPr b="1" i="1" lang="be-BY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 (С. Грахоўскі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TextBox 15"/>
          <p:cNvGrpSpPr/>
          <p:nvPr/>
        </p:nvGrpSpPr>
        <p:grpSpPr>
          <a:xfrm>
            <a:off x="1652760" y="3822840"/>
            <a:ext cx="7332480" cy="583920"/>
            <a:chOff x="1652760" y="3822840"/>
            <a:chExt cx="7332480" cy="583920"/>
          </a:xfrm>
        </p:grpSpPr>
        <p:pic>
          <p:nvPicPr>
            <p:cNvPr id="189" name="TextBox 15" descr=""/>
            <p:cNvPicPr/>
            <p:nvPr/>
          </p:nvPicPr>
          <p:blipFill>
            <a:blip r:embed="rId6"/>
            <a:stretch/>
          </p:blipFill>
          <p:spPr>
            <a:xfrm>
              <a:off x="1652760" y="3822840"/>
              <a:ext cx="7332480" cy="58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1738440" y="3881520"/>
              <a:ext cx="7167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Змест другой часткі можа супрацьпастаўляцца зместу папярэдняй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[</a:t>
              </a:r>
              <a:r>
                <a:rPr b="1" i="1" lang="be-BY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Клікнуць хацелася</a:t>
              </a:r>
              <a:r>
                <a:rPr b="1" i="1" lang="en-US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]</a:t>
              </a:r>
              <a:r>
                <a:rPr b="1" i="1" lang="be-BY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 – </a:t>
              </a:r>
              <a:r>
                <a:rPr b="1" i="1" lang="en-US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[</a:t>
              </a:r>
              <a:r>
                <a:rPr b="1" i="1" lang="be-BY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голас замёр</a:t>
              </a:r>
              <a:r>
                <a:rPr b="1" i="1" lang="en-US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]</a:t>
              </a:r>
              <a:r>
                <a:rPr b="1" i="1" lang="be-BY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. (П. Броўка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TextBox 17"/>
          <p:cNvGrpSpPr/>
          <p:nvPr/>
        </p:nvGrpSpPr>
        <p:grpSpPr>
          <a:xfrm>
            <a:off x="1652760" y="817560"/>
            <a:ext cx="6332400" cy="420840"/>
            <a:chOff x="1652760" y="817560"/>
            <a:chExt cx="6332400" cy="420840"/>
          </a:xfrm>
        </p:grpSpPr>
        <p:pic>
          <p:nvPicPr>
            <p:cNvPr id="192" name="TextBox 17" descr=""/>
            <p:cNvPicPr/>
            <p:nvPr/>
          </p:nvPicPr>
          <p:blipFill>
            <a:blip r:embed="rId7"/>
            <a:stretch/>
          </p:blipFill>
          <p:spPr>
            <a:xfrm>
              <a:off x="1652760" y="817560"/>
              <a:ext cx="633240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1714680" y="857160"/>
              <a:ext cx="621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Бяззлучн</a:t>
              </a:r>
              <a:r>
                <a:rPr b="1" lang="be-BY" sz="1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і</a:t>
              </a:r>
              <a:r>
                <a:rPr b="1" lang="ru-RU" sz="1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кавыя складаныя сказ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AutoShape 9"/>
          <p:cNvSpPr/>
          <p:nvPr/>
        </p:nvSpPr>
        <p:spPr>
          <a:xfrm>
            <a:off x="415800" y="911160"/>
            <a:ext cx="1227240" cy="2732040"/>
          </a:xfrm>
          <a:custGeom>
            <a:avLst/>
            <a:gdLst>
              <a:gd name="textAreaLeft" fmla="*/ 164160 w 1227240"/>
              <a:gd name="textAreaRight" fmla="*/ 1063080 w 1227240"/>
              <a:gd name="textAreaTop" fmla="*/ 574920 h 2732040"/>
              <a:gd name="textAreaBottom" fmla="*/ 2013120 h 2732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093" stAng="-5400000" swAng="-5400000"/>
                <a:lnTo>
                  <a:pt x="0" y="11370"/>
                </a:lnTo>
                <a:arcTo wR="21600" hR="9093" stAng="10800000" swAng="-3162773"/>
                <a:lnTo>
                  <a:pt x="15007" y="21166"/>
                </a:lnTo>
                <a:lnTo>
                  <a:pt x="21600" y="19324"/>
                </a:lnTo>
                <a:lnTo>
                  <a:pt x="15007" y="16613"/>
                </a:lnTo>
                <a:lnTo>
                  <a:pt x="15007" y="17751"/>
                </a:lnTo>
                <a:arcTo wR="21600" hR="9093" stAng="7637227" swAng="2980310"/>
                <a:lnTo>
                  <a:pt x="170" y="10231"/>
                </a:lnTo>
                <a:arcTo wR="21600" hR="9093" stAng="-10617536" swAng="5217536"/>
                <a:close/>
              </a:path>
              <a:path fill="darkenLess" w="21600" h="21600">
                <a:moveTo>
                  <a:pt x="21600" y="0"/>
                </a:moveTo>
                <a:arcTo wR="21600" hR="9093" stAng="-5400000" swAng="-5400000"/>
                <a:lnTo>
                  <a:pt x="0" y="9093"/>
                </a:lnTo>
                <a:arcTo wR="21600" hR="9093" stAng="10800000" swAng="-182464"/>
                <a:lnTo>
                  <a:pt x="170" y="10231"/>
                </a:lnTo>
                <a:arcTo wR="21600" hR="9093" stAng="-10617536" swAng="5217536"/>
                <a:close/>
              </a:path>
            </a:pathLst>
          </a:cu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9"/>
          <p:cNvSpPr/>
          <p:nvPr/>
        </p:nvSpPr>
        <p:spPr>
          <a:xfrm>
            <a:off x="423720" y="901800"/>
            <a:ext cx="1219320" cy="3598920"/>
          </a:xfrm>
          <a:custGeom>
            <a:avLst/>
            <a:gdLst>
              <a:gd name="textAreaLeft" fmla="*/ 163080 w 1219320"/>
              <a:gd name="textAreaRight" fmla="*/ 1056240 w 1219320"/>
              <a:gd name="textAreaTop" fmla="*/ 795960 h 3598920"/>
              <a:gd name="textAreaBottom" fmla="*/ 2674080 h 359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555" stAng="-5400000" swAng="-5400000"/>
                <a:lnTo>
                  <a:pt x="0" y="11272"/>
                </a:lnTo>
                <a:arcTo wR="21600" hR="9555" stAng="10800000" swAng="-3081914"/>
                <a:lnTo>
                  <a:pt x="14400" y="21054"/>
                </a:lnTo>
                <a:lnTo>
                  <a:pt x="21600" y="19968"/>
                </a:lnTo>
                <a:lnTo>
                  <a:pt x="14400" y="17789"/>
                </a:lnTo>
                <a:lnTo>
                  <a:pt x="14400" y="18563"/>
                </a:lnTo>
                <a:arcTo wR="21600" hR="9555" stAng="7718086" swAng="2944797"/>
                <a:lnTo>
                  <a:pt x="87" y="10413"/>
                </a:lnTo>
                <a:arcTo wR="21600" hR="9555" stAng="-10662883" swAng="5262883"/>
                <a:close/>
              </a:path>
              <a:path fill="darkenLess" w="21600" h="21600">
                <a:moveTo>
                  <a:pt x="21600" y="0"/>
                </a:moveTo>
                <a:arcTo wR="21600" hR="9555" stAng="-5400000" swAng="-5400000"/>
                <a:lnTo>
                  <a:pt x="0" y="9555"/>
                </a:lnTo>
                <a:arcTo wR="21600" hR="9555" stAng="10800000" swAng="-137117"/>
                <a:lnTo>
                  <a:pt x="87" y="10413"/>
                </a:lnTo>
                <a:arcTo wR="21600" hR="9555" stAng="-10662883" swAng="5262883"/>
                <a:close/>
              </a:path>
            </a:pathLst>
          </a:cu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9"/>
          <p:cNvSpPr/>
          <p:nvPr/>
        </p:nvSpPr>
        <p:spPr>
          <a:xfrm rot="317400">
            <a:off x="498240" y="923400"/>
            <a:ext cx="1125360" cy="1098720"/>
          </a:xfrm>
          <a:custGeom>
            <a:avLst/>
            <a:gdLst>
              <a:gd name="textAreaLeft" fmla="*/ 150480 w 1125360"/>
              <a:gd name="textAreaRight" fmla="*/ 974880 w 1125360"/>
              <a:gd name="textAreaTop" fmla="*/ 182160 h 1098720"/>
              <a:gd name="textAreaBottom" fmla="*/ 804960 h 109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172" stAng="-5400000" swAng="-5400000"/>
                <a:lnTo>
                  <a:pt x="0" y="12241"/>
                </a:lnTo>
                <a:arcTo wR="21600" hR="7172" stAng="10800000" swAng="-2641868"/>
                <a:lnTo>
                  <a:pt x="14584" y="21211"/>
                </a:lnTo>
                <a:lnTo>
                  <a:pt x="21600" y="16878"/>
                </a:lnTo>
                <a:lnTo>
                  <a:pt x="14584" y="11766"/>
                </a:lnTo>
                <a:lnTo>
                  <a:pt x="14584" y="13954"/>
                </a:lnTo>
                <a:arcTo wR="21600" hR="7172" stAng="8158132" swAng="2212903"/>
                <a:lnTo>
                  <a:pt x="1394" y="9706"/>
                </a:lnTo>
                <a:arcTo wR="21600" hR="7172" stAng="-10371035" swAng="4971035"/>
                <a:close/>
              </a:path>
              <a:path fill="darkenLess" w="21600" h="21600">
                <a:moveTo>
                  <a:pt x="21600" y="0"/>
                </a:moveTo>
                <a:arcTo wR="21600" hR="7172" stAng="-5400000" swAng="-5400000"/>
                <a:lnTo>
                  <a:pt x="0" y="7172"/>
                </a:lnTo>
                <a:arcTo wR="21600" hR="7172" stAng="10800000" swAng="-428965"/>
                <a:lnTo>
                  <a:pt x="1394" y="9706"/>
                </a:lnTo>
                <a:arcTo wR="21600" hR="7172" stAng="-10371035" swAng="4971035"/>
                <a:close/>
              </a:path>
            </a:pathLst>
          </a:cu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082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9"/>
          <p:cNvSpPr/>
          <p:nvPr/>
        </p:nvSpPr>
        <p:spPr>
          <a:xfrm rot="317400">
            <a:off x="409320" y="907920"/>
            <a:ext cx="1204920" cy="1874880"/>
          </a:xfrm>
          <a:custGeom>
            <a:avLst/>
            <a:gdLst>
              <a:gd name="textAreaLeft" fmla="*/ 161280 w 1204920"/>
              <a:gd name="textAreaRight" fmla="*/ 1043640 w 1204920"/>
              <a:gd name="textAreaTop" fmla="*/ 373680 h 1874880"/>
              <a:gd name="textAreaBottom" fmla="*/ 1372320 h 1874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12" stAng="-5400000" swAng="-5400000"/>
                <a:lnTo>
                  <a:pt x="0" y="11504"/>
                </a:lnTo>
                <a:arcTo wR="21600" hR="8612" stAng="10800000" swAng="-2810263"/>
                <a:lnTo>
                  <a:pt x="14035" y="21055"/>
                </a:lnTo>
                <a:lnTo>
                  <a:pt x="21600" y="18670"/>
                </a:lnTo>
                <a:lnTo>
                  <a:pt x="14035" y="15195"/>
                </a:lnTo>
                <a:lnTo>
                  <a:pt x="14035" y="16679"/>
                </a:lnTo>
                <a:arcTo wR="21600" hR="8612" stAng="7989737" swAng="2577169"/>
                <a:lnTo>
                  <a:pt x="307" y="10058"/>
                </a:lnTo>
                <a:arcTo wR="21600" hR="8612" stAng="-10566906" swAng="5166906"/>
                <a:close/>
              </a:path>
              <a:path fill="darkenLess" w="21600" h="21600">
                <a:moveTo>
                  <a:pt x="21600" y="0"/>
                </a:moveTo>
                <a:arcTo wR="21600" hR="8612" stAng="-5400000" swAng="-5400000"/>
                <a:lnTo>
                  <a:pt x="0" y="8612"/>
                </a:lnTo>
                <a:arcTo wR="21600" hR="8612" stAng="10800000" swAng="-233094"/>
                <a:lnTo>
                  <a:pt x="307" y="10058"/>
                </a:lnTo>
                <a:arcTo wR="21600" hR="8612" stAng="-10566906" swAng="5166906"/>
                <a:close/>
              </a:path>
            </a:pathLst>
          </a:cu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082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TextBox 13"/>
          <p:cNvGrpSpPr/>
          <p:nvPr/>
        </p:nvGrpSpPr>
        <p:grpSpPr>
          <a:xfrm>
            <a:off x="1652760" y="4462560"/>
            <a:ext cx="7259400" cy="585720"/>
            <a:chOff x="1652760" y="4462560"/>
            <a:chExt cx="7259400" cy="585720"/>
          </a:xfrm>
        </p:grpSpPr>
        <p:pic>
          <p:nvPicPr>
            <p:cNvPr id="199" name="TextBox 13" descr=""/>
            <p:cNvPicPr/>
            <p:nvPr/>
          </p:nvPicPr>
          <p:blipFill>
            <a:blip r:embed="rId8"/>
            <a:stretch/>
          </p:blipFill>
          <p:spPr>
            <a:xfrm>
              <a:off x="1652760" y="4462560"/>
              <a:ext cx="7259400" cy="5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1738440" y="4524480"/>
              <a:ext cx="7095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Нярэдка першая частка ўказвае на час (умову) таго, што гаворыцца ў наступнай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[</a:t>
              </a:r>
              <a:r>
                <a:rPr b="1" i="1" lang="be-BY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Сціхне бура</a:t>
              </a:r>
              <a:r>
                <a:rPr b="1" i="1" lang="en-US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]</a:t>
              </a:r>
              <a:r>
                <a:rPr b="1" i="1" lang="be-BY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 – </a:t>
              </a:r>
              <a:r>
                <a:rPr b="1" i="1" lang="en-US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[</a:t>
              </a:r>
              <a:r>
                <a:rPr b="1" i="1" lang="be-BY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ясна стане</a:t>
              </a:r>
              <a:r>
                <a:rPr b="1" i="1" lang="en-US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]</a:t>
              </a:r>
              <a:r>
                <a:rPr b="1" i="1" lang="be-BY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. (Я. Колас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AutoShape 9"/>
          <p:cNvSpPr/>
          <p:nvPr/>
        </p:nvSpPr>
        <p:spPr>
          <a:xfrm>
            <a:off x="428760" y="1000080"/>
            <a:ext cx="1218960" cy="4143600"/>
          </a:xfrm>
          <a:custGeom>
            <a:avLst/>
            <a:gdLst>
              <a:gd name="textAreaLeft" fmla="*/ 163080 w 1218960"/>
              <a:gd name="textAreaRight" fmla="*/ 1055880 w 1218960"/>
              <a:gd name="textAreaTop" fmla="*/ 932040 h 4143600"/>
              <a:gd name="textAreaBottom" fmla="*/ 3082680 h 4143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718" stAng="-5400000" swAng="-5400000"/>
                <a:lnTo>
                  <a:pt x="0" y="11210"/>
                </a:lnTo>
                <a:arcTo wR="21600" hR="9718" stAng="10800000" swAng="-3110308"/>
                <a:lnTo>
                  <a:pt x="14400" y="21044"/>
                </a:lnTo>
                <a:lnTo>
                  <a:pt x="21600" y="20182"/>
                </a:lnTo>
                <a:lnTo>
                  <a:pt x="14400" y="18208"/>
                </a:lnTo>
                <a:lnTo>
                  <a:pt x="14400" y="18880"/>
                </a:lnTo>
                <a:arcTo wR="21600" hR="9718" stAng="7689692" swAng="2991275"/>
                <a:lnTo>
                  <a:pt x="64" y="10464"/>
                </a:lnTo>
                <a:arcTo wR="21600" hR="9718" stAng="-10680967" swAng="5280967"/>
                <a:close/>
              </a:path>
              <a:path fill="darkenLess" w="21600" h="21600">
                <a:moveTo>
                  <a:pt x="21600" y="0"/>
                </a:moveTo>
                <a:arcTo wR="21600" hR="9718" stAng="-5400000" swAng="-5400000"/>
                <a:lnTo>
                  <a:pt x="0" y="9718"/>
                </a:lnTo>
                <a:arcTo wR="21600" hR="9718" stAng="10800000" swAng="-119033"/>
                <a:lnTo>
                  <a:pt x="64" y="10464"/>
                </a:lnTo>
                <a:arcTo wR="21600" hR="9718" stAng="-10680967" swAng="5280967"/>
                <a:close/>
              </a:path>
            </a:pathLst>
          </a:cu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TextBox 18"/>
          <p:cNvGrpSpPr/>
          <p:nvPr/>
        </p:nvGrpSpPr>
        <p:grpSpPr>
          <a:xfrm>
            <a:off x="1725480" y="5108400"/>
            <a:ext cx="7259760" cy="774720"/>
            <a:chOff x="1725480" y="5108400"/>
            <a:chExt cx="7259760" cy="774720"/>
          </a:xfrm>
        </p:grpSpPr>
        <p:pic>
          <p:nvPicPr>
            <p:cNvPr id="203" name="TextBox 18" descr=""/>
            <p:cNvPicPr/>
            <p:nvPr/>
          </p:nvPicPr>
          <p:blipFill>
            <a:blip r:embed="rId9"/>
            <a:stretch/>
          </p:blipFill>
          <p:spPr>
            <a:xfrm>
              <a:off x="1725480" y="5108400"/>
              <a:ext cx="725976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1817640" y="5175360"/>
              <a:ext cx="70801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Сустракаюцца і такія бяззлучнікавыя сказы, у якіх другая частка заключае ў сабе выснову таго, што гаворыцца ў папярэдняй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[</a:t>
              </a:r>
              <a:r>
                <a:rPr b="1" i="1" lang="be-BY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Шумяць па-новаму дубравы</a:t>
              </a:r>
              <a:r>
                <a:rPr b="1" i="1" lang="en-US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]</a:t>
              </a:r>
              <a:r>
                <a:rPr b="1" i="1" lang="be-BY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 – </a:t>
              </a:r>
              <a:r>
                <a:rPr b="1" i="1" lang="en-US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[</a:t>
              </a:r>
              <a:r>
                <a:rPr b="1" i="1" lang="be-BY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на край свій люба мне зірнуць</a:t>
              </a:r>
              <a:r>
                <a:rPr b="1" i="1" lang="en-US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]</a:t>
              </a:r>
              <a:r>
                <a:rPr b="1" i="1" lang="be-BY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. (Я. Колас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AutoShape 9"/>
          <p:cNvSpPr/>
          <p:nvPr/>
        </p:nvSpPr>
        <p:spPr>
          <a:xfrm>
            <a:off x="285840" y="1000080"/>
            <a:ext cx="1357200" cy="4714920"/>
          </a:xfrm>
          <a:custGeom>
            <a:avLst/>
            <a:gdLst>
              <a:gd name="textAreaLeft" fmla="*/ 181800 w 1357200"/>
              <a:gd name="textAreaRight" fmla="*/ 1175400 w 1357200"/>
              <a:gd name="textAreaTop" fmla="*/ 1063080 h 4714920"/>
              <a:gd name="textAreaBottom" fmla="*/ 3508200 h 471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742" stAng="-5400000" swAng="-5400000"/>
                <a:lnTo>
                  <a:pt x="0" y="11201"/>
                </a:lnTo>
                <a:arcTo wR="21600" hR="9742" stAng="10800000" swAng="-3114426"/>
                <a:lnTo>
                  <a:pt x="14400" y="21043"/>
                </a:lnTo>
                <a:lnTo>
                  <a:pt x="21600" y="20214"/>
                </a:lnTo>
                <a:lnTo>
                  <a:pt x="14400" y="18270"/>
                </a:lnTo>
                <a:lnTo>
                  <a:pt x="14400" y="18927"/>
                </a:lnTo>
                <a:arcTo wR="21600" hR="9742" stAng="7685574" swAng="2998040"/>
                <a:lnTo>
                  <a:pt x="61" y="10471"/>
                </a:lnTo>
                <a:arcTo wR="21600" hR="9742" stAng="-10683614" swAng="5283614"/>
                <a:close/>
              </a:path>
              <a:path fill="darkenLess" w="21600" h="21600">
                <a:moveTo>
                  <a:pt x="21600" y="0"/>
                </a:moveTo>
                <a:arcTo wR="21600" hR="9742" stAng="-5400000" swAng="-5400000"/>
                <a:lnTo>
                  <a:pt x="0" y="9742"/>
                </a:lnTo>
                <a:arcTo wR="21600" hR="9742" stAng="10800000" swAng="-116386"/>
                <a:lnTo>
                  <a:pt x="61" y="10471"/>
                </a:lnTo>
                <a:arcTo wR="21600" hR="9742" stAng="-10683614" swAng="5283614"/>
                <a:close/>
              </a:path>
            </a:pathLst>
          </a:cu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3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3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500"/>
                            </p:stCondLst>
                            <p:childTnLst>
                              <p:par>
                                <p:cTn id="1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3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3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6500"/>
                            </p:stCondLst>
                            <p:childTnLst>
                              <p:par>
                                <p:cTn id="1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3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3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3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3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2500"/>
                            </p:stCondLst>
                            <p:childTnLst>
                              <p:par>
                                <p:cTn id="2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3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3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2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3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3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40" descr="logo 21"/>
          <p:cNvPicPr/>
          <p:nvPr/>
        </p:nvPicPr>
        <p:blipFill>
          <a:blip r:embed="rId1"/>
          <a:stretch/>
        </p:blipFill>
        <p:spPr>
          <a:xfrm>
            <a:off x="6138720" y="6278400"/>
            <a:ext cx="3011760" cy="5860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grpSp>
        <p:nvGrpSpPr>
          <p:cNvPr id="208" name="TextBox 11"/>
          <p:cNvGrpSpPr/>
          <p:nvPr/>
        </p:nvGrpSpPr>
        <p:grpSpPr>
          <a:xfrm>
            <a:off x="1652760" y="1249200"/>
            <a:ext cx="7332480" cy="774720"/>
            <a:chOff x="1652760" y="1249200"/>
            <a:chExt cx="7332480" cy="774720"/>
          </a:xfrm>
        </p:grpSpPr>
        <p:pic>
          <p:nvPicPr>
            <p:cNvPr id="209" name="TextBox 11" descr=""/>
            <p:cNvPicPr/>
            <p:nvPr/>
          </p:nvPicPr>
          <p:blipFill>
            <a:blip r:embed="rId3"/>
            <a:stretch/>
          </p:blipFill>
          <p:spPr>
            <a:xfrm>
              <a:off x="1652760" y="1249200"/>
              <a:ext cx="733248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1746360" y="1317600"/>
              <a:ext cx="715140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калі часткі ўказваюць на хуткую змену падзей (у такім выпадку паміж часткамі можна паставіць злучнік </a:t>
              </a:r>
              <a:r>
                <a:rPr b="1" i="1" lang="be-BY" sz="11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і</a:t>
              </a: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) або другая частка паведамляе пра нечаканы вынік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[</a:t>
              </a:r>
              <a:r>
                <a:rPr b="1" i="1" lang="be-BY" sz="11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Раптам бераг адступае</a:t>
              </a:r>
              <a:r>
                <a:rPr b="1" i="1" lang="en-US" sz="11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]</a:t>
              </a:r>
              <a:r>
                <a:rPr b="1" i="1" lang="be-BY" sz="11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– </a:t>
              </a:r>
              <a:r>
                <a:rPr b="1" i="1" lang="en-US" sz="11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[</a:t>
              </a:r>
              <a:r>
                <a:rPr b="1" i="1" lang="be-BY" sz="11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луг зялёны вырастае</a:t>
              </a:r>
              <a:r>
                <a:rPr b="1" i="1" lang="en-US" sz="11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]</a:t>
              </a:r>
              <a:r>
                <a:rPr b="1" i="1" lang="be-BY" sz="11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. (М. Танк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TextBox 12"/>
          <p:cNvGrpSpPr/>
          <p:nvPr/>
        </p:nvGrpSpPr>
        <p:grpSpPr>
          <a:xfrm>
            <a:off x="1652760" y="2109960"/>
            <a:ext cx="7332480" cy="766440"/>
            <a:chOff x="1652760" y="2109960"/>
            <a:chExt cx="7332480" cy="766440"/>
          </a:xfrm>
        </p:grpSpPr>
        <p:pic>
          <p:nvPicPr>
            <p:cNvPr id="212" name="TextBox 12" descr=""/>
            <p:cNvPicPr/>
            <p:nvPr/>
          </p:nvPicPr>
          <p:blipFill>
            <a:blip r:embed="rId4"/>
            <a:stretch/>
          </p:blipFill>
          <p:spPr>
            <a:xfrm>
              <a:off x="1652760" y="2109960"/>
              <a:ext cx="7332480" cy="76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1746360" y="2174760"/>
              <a:ext cx="715140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калі змест наступнай часткі супрацьпастаўляецца зместу папярэдняй і можна праверыць гэта, паставіўшы злучнік </a:t>
              </a:r>
              <a:r>
                <a:rPr b="1" i="1" lang="be-BY" sz="11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але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[</a:t>
              </a:r>
              <a:r>
                <a:rPr b="1" i="1" lang="be-BY" sz="11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Рад бы госцю</a:t>
              </a:r>
              <a:r>
                <a:rPr b="1" i="1" lang="en-US" sz="11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]</a:t>
              </a:r>
              <a:r>
                <a:rPr b="1" i="1" lang="be-BY" sz="11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– </a:t>
              </a:r>
              <a:r>
                <a:rPr b="1" i="1" lang="en-US" sz="11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[</a:t>
              </a:r>
              <a:r>
                <a:rPr b="1" i="1" lang="be-BY" sz="11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хлеба шкада</a:t>
              </a:r>
              <a:r>
                <a:rPr b="1" i="1" lang="en-US" sz="11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]</a:t>
              </a:r>
              <a:r>
                <a:rPr b="1" i="1" lang="be-BY" sz="11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. (Прыказка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TextBox 14"/>
          <p:cNvGrpSpPr/>
          <p:nvPr/>
        </p:nvGrpSpPr>
        <p:grpSpPr>
          <a:xfrm>
            <a:off x="1652760" y="2962440"/>
            <a:ext cx="7332480" cy="585720"/>
            <a:chOff x="1652760" y="2962440"/>
            <a:chExt cx="7332480" cy="585720"/>
          </a:xfrm>
        </p:grpSpPr>
        <p:pic>
          <p:nvPicPr>
            <p:cNvPr id="215" name="TextBox 14" descr=""/>
            <p:cNvPicPr/>
            <p:nvPr/>
          </p:nvPicPr>
          <p:blipFill>
            <a:blip r:embed="rId5"/>
            <a:stretch/>
          </p:blipFill>
          <p:spPr>
            <a:xfrm>
              <a:off x="1652760" y="2962440"/>
              <a:ext cx="7332480" cy="5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1738440" y="3024360"/>
              <a:ext cx="7167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калі ў сказе выражаюцца ўмоўна-выніковыя адносіны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[</a:t>
              </a:r>
              <a:r>
                <a:rPr b="1" i="1" lang="be-BY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Дажджы пройдуць</a:t>
              </a:r>
              <a:r>
                <a:rPr b="1" i="1" lang="en-US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]</a:t>
              </a:r>
              <a:r>
                <a:rPr b="1" i="1" lang="be-BY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 – </a:t>
              </a:r>
              <a:r>
                <a:rPr b="1" i="1" lang="en-US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[</a:t>
              </a:r>
              <a:r>
                <a:rPr b="1" i="1" lang="be-BY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грыбы вазамі вазі</a:t>
              </a:r>
              <a:r>
                <a:rPr b="1" i="1" lang="en-US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].</a:t>
              </a:r>
              <a:r>
                <a:rPr b="1" i="1" lang="be-BY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 (А. Кулакоўскі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TextBox 15"/>
          <p:cNvGrpSpPr/>
          <p:nvPr/>
        </p:nvGrpSpPr>
        <p:grpSpPr>
          <a:xfrm>
            <a:off x="1652760" y="3822840"/>
            <a:ext cx="7332480" cy="583920"/>
            <a:chOff x="1652760" y="3822840"/>
            <a:chExt cx="7332480" cy="583920"/>
          </a:xfrm>
        </p:grpSpPr>
        <p:pic>
          <p:nvPicPr>
            <p:cNvPr id="218" name="TextBox 15" descr=""/>
            <p:cNvPicPr/>
            <p:nvPr/>
          </p:nvPicPr>
          <p:blipFill>
            <a:blip r:embed="rId6"/>
            <a:stretch/>
          </p:blipFill>
          <p:spPr>
            <a:xfrm>
              <a:off x="1652760" y="3822840"/>
              <a:ext cx="7332480" cy="58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1738440" y="3881520"/>
              <a:ext cx="7167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Калі другая частка заключае ў сабе мастацкае параўнанне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[</a:t>
              </a:r>
              <a:r>
                <a:rPr b="1" i="1" lang="be-BY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Гаварыць пачаў</a:t>
              </a:r>
              <a:r>
                <a:rPr b="1" i="1" lang="en-US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]</a:t>
              </a:r>
              <a:r>
                <a:rPr b="1" i="1" lang="be-BY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 – </a:t>
              </a:r>
              <a:r>
                <a:rPr b="1" i="1" lang="en-US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[</a:t>
              </a:r>
              <a:r>
                <a:rPr b="1" i="1" lang="be-BY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рэшата бобу на галаву высыпаў</a:t>
              </a:r>
              <a:r>
                <a:rPr b="1" i="1" lang="en-US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]</a:t>
              </a:r>
              <a:r>
                <a:rPr b="1" i="1" lang="be-BY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. (З газеты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TextBox 17"/>
          <p:cNvGrpSpPr/>
          <p:nvPr/>
        </p:nvGrpSpPr>
        <p:grpSpPr>
          <a:xfrm>
            <a:off x="1652760" y="817560"/>
            <a:ext cx="6338880" cy="420840"/>
            <a:chOff x="1652760" y="817560"/>
            <a:chExt cx="6338880" cy="420840"/>
          </a:xfrm>
        </p:grpSpPr>
        <p:pic>
          <p:nvPicPr>
            <p:cNvPr id="221" name="TextBox 17" descr=""/>
            <p:cNvPicPr/>
            <p:nvPr/>
          </p:nvPicPr>
          <p:blipFill>
            <a:blip r:embed="rId7"/>
            <a:stretch/>
          </p:blipFill>
          <p:spPr>
            <a:xfrm>
              <a:off x="1652760" y="817560"/>
              <a:ext cx="633888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1714680" y="857160"/>
              <a:ext cx="621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Працяжнік у бяззлучнікавых складаных сказах на мяжы частак ставіцца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AutoShape 9"/>
          <p:cNvSpPr/>
          <p:nvPr/>
        </p:nvSpPr>
        <p:spPr>
          <a:xfrm>
            <a:off x="415800" y="911160"/>
            <a:ext cx="1227240" cy="2732040"/>
          </a:xfrm>
          <a:custGeom>
            <a:avLst/>
            <a:gdLst>
              <a:gd name="textAreaLeft" fmla="*/ 164160 w 1227240"/>
              <a:gd name="textAreaRight" fmla="*/ 1063080 w 1227240"/>
              <a:gd name="textAreaTop" fmla="*/ 574920 h 2732040"/>
              <a:gd name="textAreaBottom" fmla="*/ 2013120 h 2732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093" stAng="-5400000" swAng="-5400000"/>
                <a:lnTo>
                  <a:pt x="0" y="11370"/>
                </a:lnTo>
                <a:arcTo wR="21600" hR="9093" stAng="10800000" swAng="-3162773"/>
                <a:lnTo>
                  <a:pt x="15007" y="21166"/>
                </a:lnTo>
                <a:lnTo>
                  <a:pt x="21600" y="19324"/>
                </a:lnTo>
                <a:lnTo>
                  <a:pt x="15007" y="16613"/>
                </a:lnTo>
                <a:lnTo>
                  <a:pt x="15007" y="17751"/>
                </a:lnTo>
                <a:arcTo wR="21600" hR="9093" stAng="7637227" swAng="2980310"/>
                <a:lnTo>
                  <a:pt x="170" y="10231"/>
                </a:lnTo>
                <a:arcTo wR="21600" hR="9093" stAng="-10617536" swAng="5217536"/>
                <a:close/>
              </a:path>
              <a:path fill="darkenLess" w="21600" h="21600">
                <a:moveTo>
                  <a:pt x="21600" y="0"/>
                </a:moveTo>
                <a:arcTo wR="21600" hR="9093" stAng="-5400000" swAng="-5400000"/>
                <a:lnTo>
                  <a:pt x="0" y="9093"/>
                </a:lnTo>
                <a:arcTo wR="21600" hR="9093" stAng="10800000" swAng="-182464"/>
                <a:lnTo>
                  <a:pt x="170" y="10231"/>
                </a:lnTo>
                <a:arcTo wR="21600" hR="9093" stAng="-10617536" swAng="5217536"/>
                <a:close/>
              </a:path>
            </a:pathLst>
          </a:cu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9"/>
          <p:cNvSpPr/>
          <p:nvPr/>
        </p:nvSpPr>
        <p:spPr>
          <a:xfrm>
            <a:off x="423720" y="901800"/>
            <a:ext cx="1219320" cy="3598920"/>
          </a:xfrm>
          <a:custGeom>
            <a:avLst/>
            <a:gdLst>
              <a:gd name="textAreaLeft" fmla="*/ 163080 w 1219320"/>
              <a:gd name="textAreaRight" fmla="*/ 1056240 w 1219320"/>
              <a:gd name="textAreaTop" fmla="*/ 795960 h 3598920"/>
              <a:gd name="textAreaBottom" fmla="*/ 2674080 h 359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555" stAng="-5400000" swAng="-5400000"/>
                <a:lnTo>
                  <a:pt x="0" y="11272"/>
                </a:lnTo>
                <a:arcTo wR="21600" hR="9555" stAng="10800000" swAng="-3081914"/>
                <a:lnTo>
                  <a:pt x="14400" y="21054"/>
                </a:lnTo>
                <a:lnTo>
                  <a:pt x="21600" y="19968"/>
                </a:lnTo>
                <a:lnTo>
                  <a:pt x="14400" y="17789"/>
                </a:lnTo>
                <a:lnTo>
                  <a:pt x="14400" y="18563"/>
                </a:lnTo>
                <a:arcTo wR="21600" hR="9555" stAng="7718086" swAng="2944797"/>
                <a:lnTo>
                  <a:pt x="87" y="10413"/>
                </a:lnTo>
                <a:arcTo wR="21600" hR="9555" stAng="-10662883" swAng="5262883"/>
                <a:close/>
              </a:path>
              <a:path fill="darkenLess" w="21600" h="21600">
                <a:moveTo>
                  <a:pt x="21600" y="0"/>
                </a:moveTo>
                <a:arcTo wR="21600" hR="9555" stAng="-5400000" swAng="-5400000"/>
                <a:lnTo>
                  <a:pt x="0" y="9555"/>
                </a:lnTo>
                <a:arcTo wR="21600" hR="9555" stAng="10800000" swAng="-137117"/>
                <a:lnTo>
                  <a:pt x="87" y="10413"/>
                </a:lnTo>
                <a:arcTo wR="21600" hR="9555" stAng="-10662883" swAng="5262883"/>
                <a:close/>
              </a:path>
            </a:pathLst>
          </a:cu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9"/>
          <p:cNvSpPr/>
          <p:nvPr/>
        </p:nvSpPr>
        <p:spPr>
          <a:xfrm rot="317400">
            <a:off x="498240" y="923400"/>
            <a:ext cx="1125360" cy="1098720"/>
          </a:xfrm>
          <a:custGeom>
            <a:avLst/>
            <a:gdLst>
              <a:gd name="textAreaLeft" fmla="*/ 150480 w 1125360"/>
              <a:gd name="textAreaRight" fmla="*/ 974880 w 1125360"/>
              <a:gd name="textAreaTop" fmla="*/ 182160 h 1098720"/>
              <a:gd name="textAreaBottom" fmla="*/ 804960 h 109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172" stAng="-5400000" swAng="-5400000"/>
                <a:lnTo>
                  <a:pt x="0" y="12241"/>
                </a:lnTo>
                <a:arcTo wR="21600" hR="7172" stAng="10800000" swAng="-2641868"/>
                <a:lnTo>
                  <a:pt x="14584" y="21211"/>
                </a:lnTo>
                <a:lnTo>
                  <a:pt x="21600" y="16878"/>
                </a:lnTo>
                <a:lnTo>
                  <a:pt x="14584" y="11766"/>
                </a:lnTo>
                <a:lnTo>
                  <a:pt x="14584" y="13954"/>
                </a:lnTo>
                <a:arcTo wR="21600" hR="7172" stAng="8158132" swAng="2212903"/>
                <a:lnTo>
                  <a:pt x="1394" y="9706"/>
                </a:lnTo>
                <a:arcTo wR="21600" hR="7172" stAng="-10371035" swAng="4971035"/>
                <a:close/>
              </a:path>
              <a:path fill="darkenLess" w="21600" h="21600">
                <a:moveTo>
                  <a:pt x="21600" y="0"/>
                </a:moveTo>
                <a:arcTo wR="21600" hR="7172" stAng="-5400000" swAng="-5400000"/>
                <a:lnTo>
                  <a:pt x="0" y="7172"/>
                </a:lnTo>
                <a:arcTo wR="21600" hR="7172" stAng="10800000" swAng="-428965"/>
                <a:lnTo>
                  <a:pt x="1394" y="9706"/>
                </a:lnTo>
                <a:arcTo wR="21600" hR="7172" stAng="-10371035" swAng="4971035"/>
                <a:close/>
              </a:path>
            </a:pathLst>
          </a:cu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082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9"/>
          <p:cNvSpPr/>
          <p:nvPr/>
        </p:nvSpPr>
        <p:spPr>
          <a:xfrm rot="317400">
            <a:off x="409320" y="907920"/>
            <a:ext cx="1204920" cy="1874880"/>
          </a:xfrm>
          <a:custGeom>
            <a:avLst/>
            <a:gdLst>
              <a:gd name="textAreaLeft" fmla="*/ 161280 w 1204920"/>
              <a:gd name="textAreaRight" fmla="*/ 1043640 w 1204920"/>
              <a:gd name="textAreaTop" fmla="*/ 373680 h 1874880"/>
              <a:gd name="textAreaBottom" fmla="*/ 1372320 h 1874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12" stAng="-5400000" swAng="-5400000"/>
                <a:lnTo>
                  <a:pt x="0" y="11504"/>
                </a:lnTo>
                <a:arcTo wR="21600" hR="8612" stAng="10800000" swAng="-2810263"/>
                <a:lnTo>
                  <a:pt x="14035" y="21055"/>
                </a:lnTo>
                <a:lnTo>
                  <a:pt x="21600" y="18670"/>
                </a:lnTo>
                <a:lnTo>
                  <a:pt x="14035" y="15195"/>
                </a:lnTo>
                <a:lnTo>
                  <a:pt x="14035" y="16679"/>
                </a:lnTo>
                <a:arcTo wR="21600" hR="8612" stAng="7989737" swAng="2577169"/>
                <a:lnTo>
                  <a:pt x="307" y="10058"/>
                </a:lnTo>
                <a:arcTo wR="21600" hR="8612" stAng="-10566906" swAng="5166906"/>
                <a:close/>
              </a:path>
              <a:path fill="darkenLess" w="21600" h="21600">
                <a:moveTo>
                  <a:pt x="21600" y="0"/>
                </a:moveTo>
                <a:arcTo wR="21600" hR="8612" stAng="-5400000" swAng="-5400000"/>
                <a:lnTo>
                  <a:pt x="0" y="8612"/>
                </a:lnTo>
                <a:arcTo wR="21600" hR="8612" stAng="10800000" swAng="-233094"/>
                <a:lnTo>
                  <a:pt x="307" y="10058"/>
                </a:lnTo>
                <a:arcTo wR="21600" hR="8612" stAng="-10566906" swAng="5166906"/>
                <a:close/>
              </a:path>
            </a:pathLst>
          </a:cu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082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TextBox 13"/>
          <p:cNvGrpSpPr/>
          <p:nvPr/>
        </p:nvGrpSpPr>
        <p:grpSpPr>
          <a:xfrm>
            <a:off x="1652760" y="4462560"/>
            <a:ext cx="7259400" cy="963360"/>
            <a:chOff x="1652760" y="4462560"/>
            <a:chExt cx="7259400" cy="963360"/>
          </a:xfrm>
        </p:grpSpPr>
        <p:pic>
          <p:nvPicPr>
            <p:cNvPr id="228" name="TextBox 13" descr=""/>
            <p:cNvPicPr/>
            <p:nvPr/>
          </p:nvPicPr>
          <p:blipFill>
            <a:blip r:embed="rId8"/>
            <a:stretch/>
          </p:blipFill>
          <p:spPr>
            <a:xfrm>
              <a:off x="1652760" y="4462560"/>
              <a:ext cx="7259400" cy="96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1755720" y="4541760"/>
              <a:ext cx="706140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1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Заўвага. </a:t>
              </a: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Выбар таго ці іншага знака прыпынку для пастаноўкі паміж часткамі ў бяззлучнікавым складаным сказе часта залежыць ад сэнсу частак сказаў і ад таго, якія з магчымых адносін хоча ўстанавіць аўтар тэксту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І пайшла тут ходам поўным справа ў нас, усё гудзе. (М. Калачынскі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AutoShape 9"/>
          <p:cNvSpPr/>
          <p:nvPr/>
        </p:nvSpPr>
        <p:spPr>
          <a:xfrm>
            <a:off x="428760" y="1000080"/>
            <a:ext cx="1218960" cy="4143600"/>
          </a:xfrm>
          <a:custGeom>
            <a:avLst/>
            <a:gdLst>
              <a:gd name="textAreaLeft" fmla="*/ 163080 w 1218960"/>
              <a:gd name="textAreaRight" fmla="*/ 1055880 w 1218960"/>
              <a:gd name="textAreaTop" fmla="*/ 932040 h 4143600"/>
              <a:gd name="textAreaBottom" fmla="*/ 3082680 h 4143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718" stAng="-5400000" swAng="-5400000"/>
                <a:lnTo>
                  <a:pt x="0" y="11210"/>
                </a:lnTo>
                <a:arcTo wR="21600" hR="9718" stAng="10800000" swAng="-3110308"/>
                <a:lnTo>
                  <a:pt x="14400" y="21044"/>
                </a:lnTo>
                <a:lnTo>
                  <a:pt x="21600" y="20182"/>
                </a:lnTo>
                <a:lnTo>
                  <a:pt x="14400" y="18208"/>
                </a:lnTo>
                <a:lnTo>
                  <a:pt x="14400" y="18880"/>
                </a:lnTo>
                <a:arcTo wR="21600" hR="9718" stAng="7689692" swAng="2991275"/>
                <a:lnTo>
                  <a:pt x="64" y="10464"/>
                </a:lnTo>
                <a:arcTo wR="21600" hR="9718" stAng="-10680967" swAng="5280967"/>
                <a:close/>
              </a:path>
              <a:path fill="darkenLess" w="21600" h="21600">
                <a:moveTo>
                  <a:pt x="21600" y="0"/>
                </a:moveTo>
                <a:arcTo wR="21600" hR="9718" stAng="-5400000" swAng="-5400000"/>
                <a:lnTo>
                  <a:pt x="0" y="9718"/>
                </a:lnTo>
                <a:arcTo wR="21600" hR="9718" stAng="10800000" swAng="-119033"/>
                <a:lnTo>
                  <a:pt x="64" y="10464"/>
                </a:lnTo>
                <a:arcTo wR="21600" hR="9718" stAng="-10680967" swAng="5280967"/>
                <a:close/>
              </a:path>
            </a:pathLst>
          </a:cu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3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3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500"/>
                            </p:stCondLst>
                            <p:childTnLst>
                              <p:par>
                                <p:cTn id="2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3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3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65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3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3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9500"/>
                            </p:stCondLst>
                            <p:childTnLst>
                              <p:par>
                                <p:cTn id="2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3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3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2500"/>
                            </p:stCondLst>
                            <p:childTnLst>
                              <p:par>
                                <p:cTn id="2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3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3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40" descr="logo 21"/>
          <p:cNvPicPr/>
          <p:nvPr/>
        </p:nvPicPr>
        <p:blipFill>
          <a:blip r:embed="rId1"/>
          <a:stretch/>
        </p:blipFill>
        <p:spPr>
          <a:xfrm>
            <a:off x="6138720" y="6211800"/>
            <a:ext cx="3011760" cy="6526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grpSp>
        <p:nvGrpSpPr>
          <p:cNvPr id="233" name="Прямоугольник 4"/>
          <p:cNvGrpSpPr/>
          <p:nvPr/>
        </p:nvGrpSpPr>
        <p:grpSpPr>
          <a:xfrm>
            <a:off x="3084480" y="103320"/>
            <a:ext cx="2901960" cy="635040"/>
            <a:chOff x="3084480" y="103320"/>
            <a:chExt cx="2901960" cy="635040"/>
          </a:xfrm>
        </p:grpSpPr>
        <p:pic>
          <p:nvPicPr>
            <p:cNvPr id="234" name="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3084480" y="103320"/>
              <a:ext cx="290196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3143160" y="142920"/>
              <a:ext cx="2786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Бяззлучнікавыя складаныя сказ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Прямоугольник 5"/>
          <p:cNvGrpSpPr/>
          <p:nvPr/>
        </p:nvGrpSpPr>
        <p:grpSpPr>
          <a:xfrm>
            <a:off x="865080" y="1103400"/>
            <a:ext cx="3475080" cy="573120"/>
            <a:chOff x="865080" y="1103400"/>
            <a:chExt cx="3475080" cy="573120"/>
          </a:xfrm>
        </p:grpSpPr>
        <p:pic>
          <p:nvPicPr>
            <p:cNvPr id="237" name="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865080" y="1103400"/>
              <a:ext cx="347508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928800" y="1143000"/>
              <a:ext cx="3357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Бяззлучнікавыя складаныя сказы з аднатыпнымі часткамі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Прямоугольник 15"/>
          <p:cNvGrpSpPr/>
          <p:nvPr/>
        </p:nvGrpSpPr>
        <p:grpSpPr>
          <a:xfrm>
            <a:off x="5297400" y="1103400"/>
            <a:ext cx="3475080" cy="573120"/>
            <a:chOff x="5297400" y="1103400"/>
            <a:chExt cx="3475080" cy="573120"/>
          </a:xfrm>
        </p:grpSpPr>
        <p:pic>
          <p:nvPicPr>
            <p:cNvPr id="240" name="Прямоугольник 15" descr=""/>
            <p:cNvPicPr/>
            <p:nvPr/>
          </p:nvPicPr>
          <p:blipFill>
            <a:blip r:embed="rId5"/>
            <a:stretch/>
          </p:blipFill>
          <p:spPr>
            <a:xfrm>
              <a:off x="5297400" y="1103400"/>
              <a:ext cx="347508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5357880" y="1143000"/>
              <a:ext cx="3357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Бяззлучнікавыя складаныя сказы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з разнатыпнымі часткамі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AutoShape 5"/>
          <p:cNvSpPr/>
          <p:nvPr/>
        </p:nvSpPr>
        <p:spPr>
          <a:xfrm>
            <a:off x="785880" y="1857240"/>
            <a:ext cx="3571920" cy="928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100" spc="-1" strike="noStrike">
                <a:solidFill>
                  <a:srgbClr val="0000ff"/>
                </a:solidFill>
                <a:latin typeface="Times New Roman"/>
              </a:rPr>
              <a:t>Бяззлучнікавыя складаныя сказ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100" spc="-1" strike="noStrike">
                <a:solidFill>
                  <a:srgbClr val="0000ff"/>
                </a:solidFill>
                <a:latin typeface="Times New Roman"/>
              </a:rPr>
              <a:t>з аднатыпнымі часткамі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100" spc="-1" strike="noStrike">
                <a:solidFill>
                  <a:srgbClr val="0000ff"/>
                </a:solidFill>
                <a:latin typeface="Times New Roman"/>
              </a:rPr>
              <a:t>набліжаюцца да складаназлучаны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100" spc="-1" strike="noStrike">
                <a:solidFill>
                  <a:srgbClr val="0000ff"/>
                </a:solidFill>
                <a:latin typeface="Times New Roman"/>
              </a:rPr>
              <a:t>сказаў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5"/>
          <p:cNvSpPr/>
          <p:nvPr/>
        </p:nvSpPr>
        <p:spPr>
          <a:xfrm>
            <a:off x="1071720" y="2928960"/>
            <a:ext cx="4071960" cy="928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100" spc="-1" strike="noStrike">
                <a:solidFill>
                  <a:srgbClr val="0000ff"/>
                </a:solidFill>
                <a:latin typeface="Times New Roman"/>
              </a:rPr>
              <a:t>часткі могуць перадаваць падзеі, што адбываюцц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100" spc="-1" strike="noStrike">
                <a:solidFill>
                  <a:srgbClr val="0000ff"/>
                </a:solidFill>
                <a:latin typeface="Times New Roman"/>
              </a:rPr>
              <a:t>адначасов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100" spc="-1" strike="noStrike">
                <a:solidFill>
                  <a:srgbClr val="00007d"/>
                </a:solidFill>
                <a:latin typeface="Times New Roman"/>
              </a:rPr>
              <a:t>Дарогі пахаваліся, слядоў нідзе няма, камус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100" spc="-1" strike="noStrike">
                <a:solidFill>
                  <a:srgbClr val="00007d"/>
                </a:solidFill>
                <a:latin typeface="Times New Roman"/>
              </a:rPr>
              <a:t>на нешта жаліцца кудлатая зіма. (М. Багун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5"/>
          <p:cNvSpPr/>
          <p:nvPr/>
        </p:nvSpPr>
        <p:spPr>
          <a:xfrm>
            <a:off x="1071720" y="3929040"/>
            <a:ext cx="4143240" cy="1214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100" spc="-1" strike="noStrike">
                <a:solidFill>
                  <a:srgbClr val="0000ff"/>
                </a:solidFill>
                <a:latin typeface="Times New Roman"/>
              </a:rPr>
              <a:t>часткі могуць перадаваць падзеі, што адбываюцц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100" spc="-1" strike="noStrike">
                <a:solidFill>
                  <a:srgbClr val="0000ff"/>
                </a:solidFill>
                <a:latin typeface="Times New Roman"/>
              </a:rPr>
              <a:t>ў пэўнай паслядоўнасці, адна за адной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100" spc="-1" strike="noStrike">
                <a:solidFill>
                  <a:srgbClr val="00007d"/>
                </a:solidFill>
                <a:latin typeface="Times New Roman"/>
              </a:rPr>
              <a:t>На заломе выбухнуў велізарны клуб белаватага дыму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100" spc="-1" strike="noStrike">
                <a:solidFill>
                  <a:srgbClr val="00007d"/>
                </a:solidFill>
                <a:latin typeface="Times New Roman"/>
              </a:rPr>
              <a:t>а за ім выкідваліся другія клубкі, следам за гэтым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100" spc="-1" strike="noStrike">
                <a:solidFill>
                  <a:srgbClr val="00007d"/>
                </a:solidFill>
                <a:latin typeface="Times New Roman"/>
              </a:rPr>
              <a:t>паказаўся паравоз кур’ерскага поезда. (Я. Колас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5"/>
          <p:cNvSpPr/>
          <p:nvPr/>
        </p:nvSpPr>
        <p:spPr>
          <a:xfrm>
            <a:off x="1071720" y="5214960"/>
            <a:ext cx="4143240" cy="1500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100" spc="-1" strike="noStrike">
                <a:solidFill>
                  <a:srgbClr val="0000ff"/>
                </a:solidFill>
                <a:latin typeface="Times New Roman"/>
              </a:rPr>
              <a:t>Адзначаюцца бяззлучнікавыя складаныя сказы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100" spc="-1" strike="noStrike">
                <a:solidFill>
                  <a:srgbClr val="0000ff"/>
                </a:solidFill>
                <a:latin typeface="Times New Roman"/>
              </a:rPr>
              <a:t>у якіх другая і наступныя часткі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100" spc="-1" strike="noStrike">
                <a:solidFill>
                  <a:srgbClr val="0000ff"/>
                </a:solidFill>
                <a:latin typeface="Times New Roman"/>
              </a:rPr>
              <a:t>развіваюць якое-небудзь слова ў перша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100" spc="-1" strike="noStrike">
                <a:solidFill>
                  <a:srgbClr val="0000ff"/>
                </a:solidFill>
                <a:latin typeface="Times New Roman"/>
              </a:rPr>
              <a:t>частцы ці ўсю першую частку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100" spc="-1" strike="noStrike">
                <a:solidFill>
                  <a:srgbClr val="00007d"/>
                </a:solidFill>
                <a:latin typeface="Times New Roman"/>
              </a:rPr>
              <a:t>Глянь, квітнеюць старыя таполі, песні новыя ціх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100" spc="-1" strike="noStrike">
                <a:solidFill>
                  <a:srgbClr val="00007d"/>
                </a:solidFill>
                <a:latin typeface="Times New Roman"/>
              </a:rPr>
              <a:t>пяюць, вецер буйны ўзняўся на полі, успамін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100" spc="-1" strike="noStrike">
                <a:solidFill>
                  <a:srgbClr val="00007d"/>
                </a:solidFill>
                <a:latin typeface="Times New Roman"/>
              </a:rPr>
              <a:t>ў сэрцы растуць. (М. Багун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ая соединительная линия 21"/>
          <p:cNvSpPr/>
          <p:nvPr/>
        </p:nvSpPr>
        <p:spPr>
          <a:xfrm flipH="1">
            <a:off x="855720" y="2786040"/>
            <a:ext cx="1440" cy="3502080"/>
          </a:xfrm>
          <a:prstGeom prst="line">
            <a:avLst/>
          </a:prstGeom>
          <a:ln w="255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7" name="Прямая со стрелкой 23"/>
          <p:cNvCxnSpPr/>
          <p:nvPr/>
        </p:nvCxnSpPr>
        <p:spPr>
          <a:xfrm>
            <a:off x="857160" y="6286680"/>
            <a:ext cx="215280" cy="2160"/>
          </a:xfrm>
          <a:prstGeom prst="straightConnector1">
            <a:avLst/>
          </a:prstGeom>
          <a:ln w="25560">
            <a:solidFill>
              <a:srgbClr val="9999ff"/>
            </a:solidFill>
            <a:miter/>
            <a:tailEnd len="med" type="arrow" w="med"/>
          </a:ln>
        </p:spPr>
      </p:cxnSp>
      <p:cxnSp>
        <p:nvCxnSpPr>
          <p:cNvPr id="248" name="Прямая со стрелкой 29"/>
          <p:cNvCxnSpPr/>
          <p:nvPr/>
        </p:nvCxnSpPr>
        <p:spPr>
          <a:xfrm>
            <a:off x="857160" y="4785840"/>
            <a:ext cx="215280" cy="2520"/>
          </a:xfrm>
          <a:prstGeom prst="straightConnector1">
            <a:avLst/>
          </a:prstGeom>
          <a:ln w="25560">
            <a:solidFill>
              <a:srgbClr val="9999ff"/>
            </a:solidFill>
            <a:miter/>
            <a:tailEnd len="med" type="arrow" w="med"/>
          </a:ln>
        </p:spPr>
      </p:cxnSp>
      <p:cxnSp>
        <p:nvCxnSpPr>
          <p:cNvPr id="249" name="Прямая со стрелкой 43"/>
          <p:cNvCxnSpPr/>
          <p:nvPr/>
        </p:nvCxnSpPr>
        <p:spPr>
          <a:xfrm>
            <a:off x="857160" y="3571920"/>
            <a:ext cx="215280" cy="2160"/>
          </a:xfrm>
          <a:prstGeom prst="straightConnector1">
            <a:avLst/>
          </a:prstGeom>
          <a:ln w="25560">
            <a:solidFill>
              <a:srgbClr val="9999ff"/>
            </a:solidFill>
            <a:miter/>
            <a:tailEnd len="med" type="arrow" w="med"/>
          </a:ln>
        </p:spPr>
      </p:cxnSp>
      <p:cxnSp>
        <p:nvCxnSpPr>
          <p:cNvPr id="250" name="Прямая со стрелкой 45"/>
          <p:cNvCxnSpPr/>
          <p:nvPr/>
        </p:nvCxnSpPr>
        <p:spPr>
          <a:xfrm flipH="1">
            <a:off x="3428640" y="714240"/>
            <a:ext cx="1286640" cy="286560"/>
          </a:xfrm>
          <a:prstGeom prst="straightConnector1">
            <a:avLst/>
          </a:prstGeom>
          <a:ln w="25560">
            <a:solidFill>
              <a:srgbClr val="9999ff"/>
            </a:solidFill>
            <a:miter/>
            <a:tailEnd len="med" type="arrow" w="med"/>
          </a:ln>
        </p:spPr>
      </p:cxnSp>
      <p:cxnSp>
        <p:nvCxnSpPr>
          <p:cNvPr id="251" name="Прямая со стрелкой 47"/>
          <p:cNvCxnSpPr/>
          <p:nvPr/>
        </p:nvCxnSpPr>
        <p:spPr>
          <a:xfrm>
            <a:off x="4714920" y="714240"/>
            <a:ext cx="2000880" cy="286560"/>
          </a:xfrm>
          <a:prstGeom prst="straightConnector1">
            <a:avLst/>
          </a:prstGeom>
          <a:ln w="25560">
            <a:solidFill>
              <a:srgbClr val="9999ff"/>
            </a:solidFill>
            <a:miter/>
            <a:tailEnd len="med" type="arrow" w="med"/>
          </a:ln>
        </p:spPr>
      </p:cxnSp>
      <p:cxnSp>
        <p:nvCxnSpPr>
          <p:cNvPr id="252" name="Прямая со стрелкой 53"/>
          <p:cNvCxnSpPr/>
          <p:nvPr/>
        </p:nvCxnSpPr>
        <p:spPr>
          <a:xfrm flipH="1">
            <a:off x="2428200" y="1642680"/>
            <a:ext cx="1080" cy="214920"/>
          </a:xfrm>
          <a:prstGeom prst="straightConnector1">
            <a:avLst/>
          </a:prstGeom>
          <a:ln w="25560">
            <a:solidFill>
              <a:srgbClr val="9999ff"/>
            </a:solidFill>
            <a:miter/>
            <a:tailEnd len="med" type="arrow" w="med"/>
          </a:ln>
        </p:spPr>
      </p:cxnSp>
      <p:cxnSp>
        <p:nvCxnSpPr>
          <p:cNvPr id="253" name="Прямая со стрелкой 57"/>
          <p:cNvCxnSpPr/>
          <p:nvPr/>
        </p:nvCxnSpPr>
        <p:spPr>
          <a:xfrm flipH="1">
            <a:off x="7071480" y="1642680"/>
            <a:ext cx="2520" cy="500760"/>
          </a:xfrm>
          <a:prstGeom prst="straightConnector1">
            <a:avLst/>
          </a:prstGeom>
          <a:ln w="25560">
            <a:solidFill>
              <a:srgbClr val="9999ff"/>
            </a:solidFill>
            <a:miter/>
            <a:tailEnd len="med" type="arrow" w="med"/>
          </a:ln>
        </p:spPr>
      </p:cxnSp>
      <p:sp>
        <p:nvSpPr>
          <p:cNvPr id="254" name="AutoShape 5"/>
          <p:cNvSpPr/>
          <p:nvPr/>
        </p:nvSpPr>
        <p:spPr>
          <a:xfrm>
            <a:off x="5429160" y="2143080"/>
            <a:ext cx="3571920" cy="928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100" spc="-1" strike="noStrike">
                <a:solidFill>
                  <a:srgbClr val="0000ff"/>
                </a:solidFill>
                <a:latin typeface="Times New Roman"/>
              </a:rPr>
              <a:t>Бяззлучнікавыя складаныя сказ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100" spc="-1" strike="noStrike">
                <a:solidFill>
                  <a:srgbClr val="0000ff"/>
                </a:solidFill>
                <a:latin typeface="Times New Roman"/>
              </a:rPr>
              <a:t>з разнатыпнымі часткамі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100" spc="-1" strike="noStrike">
                <a:solidFill>
                  <a:srgbClr val="0000ff"/>
                </a:solidFill>
                <a:latin typeface="Times New Roman"/>
              </a:rPr>
              <a:t>набліжаюцца да складаназалежны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100" spc="-1" strike="noStrike">
                <a:solidFill>
                  <a:srgbClr val="0000ff"/>
                </a:solidFill>
                <a:latin typeface="Times New Roman"/>
              </a:rPr>
              <a:t>сказаў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5" name="Прямая со стрелкой 61"/>
          <p:cNvCxnSpPr/>
          <p:nvPr/>
        </p:nvCxnSpPr>
        <p:spPr>
          <a:xfrm flipH="1">
            <a:off x="7143480" y="3071880"/>
            <a:ext cx="2160" cy="357840"/>
          </a:xfrm>
          <a:prstGeom prst="straightConnector1">
            <a:avLst/>
          </a:prstGeom>
          <a:ln w="25560">
            <a:solidFill>
              <a:srgbClr val="9999ff"/>
            </a:solidFill>
            <a:miter/>
            <a:tailEnd len="med" type="arrow" w="med"/>
          </a:ln>
        </p:spPr>
      </p:cxnSp>
      <p:sp>
        <p:nvSpPr>
          <p:cNvPr id="256" name="AutoShape 5"/>
          <p:cNvSpPr/>
          <p:nvPr/>
        </p:nvSpPr>
        <p:spPr>
          <a:xfrm>
            <a:off x="5429160" y="3500280"/>
            <a:ext cx="3571920" cy="1857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100" spc="-1" strike="noStrike">
                <a:solidFill>
                  <a:srgbClr val="0000ff"/>
                </a:solidFill>
                <a:latin typeface="Times New Roman"/>
              </a:rPr>
              <a:t>Адна сэнсава-граматычная частка патрабуе ад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100" spc="-1" strike="noStrike">
                <a:solidFill>
                  <a:srgbClr val="0000ff"/>
                </a:solidFill>
                <a:latin typeface="Times New Roman"/>
              </a:rPr>
              <a:t>другой  дапаўнення, тлумачэння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100" spc="-1" strike="noStrike">
                <a:solidFill>
                  <a:srgbClr val="0000ff"/>
                </a:solidFill>
                <a:latin typeface="Times New Roman"/>
              </a:rPr>
              <a:t>удакладнення, паяснення, раскрыцц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100" spc="-1" strike="noStrike">
                <a:solidFill>
                  <a:srgbClr val="0000ff"/>
                </a:solidFill>
                <a:latin typeface="Times New Roman"/>
              </a:rPr>
              <a:t>прычыны або выніку дзеяння і інш.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100" spc="-1" strike="noStrike">
                <a:solidFill>
                  <a:srgbClr val="00007d"/>
                </a:solidFill>
                <a:latin typeface="Times New Roman"/>
              </a:rPr>
              <a:t>Сцяжынка збягае ў восень: кароткае лета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100" spc="-1" strike="noStrike">
                <a:solidFill>
                  <a:srgbClr val="00007d"/>
                </a:solidFill>
                <a:latin typeface="Times New Roman"/>
              </a:rPr>
              <a:t>прайшло. (С. Грахоўскі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100" spc="-1" strike="noStrike">
                <a:solidFill>
                  <a:srgbClr val="00007d"/>
                </a:solidFill>
                <a:latin typeface="Times New Roman"/>
              </a:rPr>
              <a:t>Хочаш жыць у святле і цяпле – сам здабывай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1100" spc="-1" strike="noStrike">
                <a:solidFill>
                  <a:srgbClr val="00007d"/>
                </a:solidFill>
                <a:latin typeface="Times New Roman"/>
              </a:rPr>
              <a:t>агонь для сябе.(А. Вярцінскі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3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3000"/>
                            </p:stCondLst>
                            <p:childTnLst>
                              <p:par>
                                <p:cTn id="2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500"/>
                            </p:stCondLst>
                            <p:childTnLst>
                              <p:par>
                                <p:cTn id="2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3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6500"/>
                            </p:stCondLst>
                            <p:childTnLst>
                              <p:par>
                                <p:cTn id="2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7000"/>
                            </p:stCondLst>
                            <p:childTnLst>
                              <p:par>
                                <p:cTn id="2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3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500"/>
                            </p:stCondLst>
                            <p:childTnLst>
                              <p:par>
                                <p:cTn id="2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1000"/>
                            </p:stCondLst>
                            <p:childTnLst>
                              <p:par>
                                <p:cTn id="2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3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4000"/>
                            </p:stCondLst>
                            <p:childTnLst>
                              <p:par>
                                <p:cTn id="2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4500"/>
                            </p:stCondLst>
                            <p:childTnLst>
                              <p:par>
                                <p:cTn id="3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3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7500"/>
                            </p:stCondLst>
                            <p:childTnLst>
                              <p:par>
                                <p:cTn id="3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8000"/>
                            </p:stCondLst>
                            <p:childTnLst>
                              <p:par>
                                <p:cTn id="3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3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1000"/>
                            </p:stCondLst>
                            <p:childTnLst>
                              <p:par>
                                <p:cTn id="3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1500"/>
                            </p:stCondLst>
                            <p:childTnLst>
                              <p:par>
                                <p:cTn id="3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3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4500"/>
                            </p:stCondLst>
                            <p:childTnLst>
                              <p:par>
                                <p:cTn id="3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5000"/>
                            </p:stCondLst>
                            <p:childTnLst>
                              <p:par>
                                <p:cTn id="3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3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8000"/>
                            </p:stCondLst>
                            <p:childTnLst>
                              <p:par>
                                <p:cTn id="3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8500"/>
                            </p:stCondLst>
                            <p:childTnLst>
                              <p:par>
                                <p:cTn id="3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3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40" descr="logo 21"/>
          <p:cNvPicPr/>
          <p:nvPr/>
        </p:nvPicPr>
        <p:blipFill>
          <a:blip r:embed="rId1"/>
          <a:stretch/>
        </p:blipFill>
        <p:spPr>
          <a:xfrm>
            <a:off x="6138720" y="6211800"/>
            <a:ext cx="3011760" cy="6526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grpSp>
        <p:nvGrpSpPr>
          <p:cNvPr id="259" name="Прямоугольник 4"/>
          <p:cNvGrpSpPr/>
          <p:nvPr/>
        </p:nvGrpSpPr>
        <p:grpSpPr>
          <a:xfrm>
            <a:off x="1652760" y="738360"/>
            <a:ext cx="5973480" cy="706320"/>
            <a:chOff x="1652760" y="738360"/>
            <a:chExt cx="5973480" cy="706320"/>
          </a:xfrm>
        </p:grpSpPr>
        <p:pic>
          <p:nvPicPr>
            <p:cNvPr id="260" name="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1652760" y="738360"/>
              <a:ext cx="5973480" cy="70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1714680" y="785880"/>
              <a:ext cx="5857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Парадак сінтаксічнага разбор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бяззлучнікавых складаных сказаў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TextBox 5"/>
          <p:cNvGrpSpPr/>
          <p:nvPr/>
        </p:nvGrpSpPr>
        <p:grpSpPr>
          <a:xfrm>
            <a:off x="1938240" y="1749600"/>
            <a:ext cx="5187960" cy="1927080"/>
            <a:chOff x="1938240" y="1749600"/>
            <a:chExt cx="5187960" cy="1927080"/>
          </a:xfrm>
        </p:grpSpPr>
        <p:pic>
          <p:nvPicPr>
            <p:cNvPr id="263" name="TextBox 5" descr=""/>
            <p:cNvPicPr/>
            <p:nvPr/>
          </p:nvPicPr>
          <p:blipFill>
            <a:blip r:embed="rId4"/>
            <a:stretch/>
          </p:blipFill>
          <p:spPr>
            <a:xfrm>
              <a:off x="1938240" y="1749600"/>
              <a:ext cx="5187960" cy="19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2000160" y="1785960"/>
              <a:ext cx="5072040" cy="17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buClr>
                  <a:srgbClr val="00007d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4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Назваць тып сказа па мэце выказвання і будове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7d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7d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4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Вызначыць межы частак і сэнсава-граматычныя адносіны паміж імі, указаўшы граматычныя асновы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7d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7d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4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Растлумачыць знакі прыпынку на мяжы частак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7d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7d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4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Пабудаваць схему сказа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14:47:04Z</dcterms:created>
  <dc:creator>solahitdinova</dc:creator>
  <dc:description/>
  <dc:language>en-US</dc:language>
  <cp:lastModifiedBy>solahitdinova</cp:lastModifiedBy>
  <dcterms:modified xsi:type="dcterms:W3CDTF">2009-08-11T11:43:07Z</dcterms:modified>
  <cp:revision>24</cp:revision>
  <dc:subject/>
  <dc:title>Слайд 1</dc:title>
</cp:coreProperties>
</file>