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.wmf" ContentType="image/x-wmf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BE69-404E-411B-9BD4-1F058F7A37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6F48-DA21-4A9C-ABAE-EE5CF42FBE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9238-FAE0-4EB9-8102-F5F426CB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54ACE-334D-4C5C-88B1-C2402D7E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BF5C2-AB20-47EE-BE61-58BF7AE4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DBB2-5CEC-4866-883F-9489A2BB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E4A1-7D6F-41DC-865E-C6B404CC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1345-B2A8-42AC-BC37-88098224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4EFC-B508-4C4A-908C-0B7D127B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5742-E353-4A4C-AEA3-3064BB9F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0FD9-F7B0-40E2-B22C-8D056A82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0B38-3BED-47AA-B3CB-E1A0B379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CC4D-D7CC-4E49-8441-25A5F9D0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F7CB-2F10-40F6-8948-BA107D8A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594F-3E82-4D6F-AA66-7632D762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6730-F86C-48D0-857F-D5666B47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5209-C0C1-4E66-9CDC-61DB2D03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2BF2-9D68-4A02-998E-A300D5CB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E56E-1457-41B2-BB9F-6A7EDDAD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C826-9C9A-44E2-941A-5CDCCBAE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7306D-8940-4490-94AB-38CC7D73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E58C-64A0-4401-BA7F-2FD04424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CA50-4F24-440B-95EF-227A0757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B421-B767-4430-BDC6-F99729B0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151F-396D-41CC-9207-57A37CB4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CD724-31C0-40E5-BB6A-38FF298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F5A9-2C9D-428E-AB1E-39B0EFC011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12FE-7C9E-48E2-8854-0656502602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3"/>
          <a:stretch/>
        </p:blipFill>
        <p:spPr>
          <a:xfrm>
            <a:off x="1384200" y="3840120"/>
            <a:ext cx="6357960" cy="16527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5" descr=""/>
          <p:cNvPicPr/>
          <p:nvPr/>
        </p:nvPicPr>
        <p:blipFill>
          <a:blip r:embed="rId4"/>
          <a:stretch/>
        </p:blipFill>
        <p:spPr>
          <a:xfrm>
            <a:off x="2036880" y="628560"/>
            <a:ext cx="426060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225" name="Схема 4" descr=""/>
          <p:cNvPicPr/>
          <p:nvPr/>
        </p:nvPicPr>
        <p:blipFill>
          <a:blip r:embed="rId3"/>
          <a:stretch/>
        </p:blipFill>
        <p:spPr>
          <a:xfrm>
            <a:off x="1494000" y="1341360"/>
            <a:ext cx="6943680" cy="474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28" name="Прямоугольник 4"/>
          <p:cNvGrpSpPr/>
          <p:nvPr/>
        </p:nvGrpSpPr>
        <p:grpSpPr>
          <a:xfrm>
            <a:off x="1652760" y="450720"/>
            <a:ext cx="5973480" cy="708120"/>
            <a:chOff x="1652760" y="450720"/>
            <a:chExt cx="5973480" cy="708120"/>
          </a:xfrm>
        </p:grpSpPr>
        <p:pic>
          <p:nvPicPr>
            <p:cNvPr id="2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52760" y="450720"/>
              <a:ext cx="597348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714680" y="500040"/>
              <a:ext cx="585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інтаксічны разбор ска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 пабочным словам (словазлучэннем, сказам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Прямоугольник 5" descr=""/>
          <p:cNvPicPr/>
          <p:nvPr/>
        </p:nvPicPr>
        <p:blipFill>
          <a:blip r:embed="rId4"/>
          <a:stretch/>
        </p:blipFill>
        <p:spPr>
          <a:xfrm>
            <a:off x="652320" y="1579680"/>
            <a:ext cx="2262240" cy="474480"/>
          </a:xfrm>
          <a:prstGeom prst="rect">
            <a:avLst/>
          </a:prstGeom>
          <a:ln w="0">
            <a:noFill/>
          </a:ln>
        </p:spPr>
      </p:pic>
      <p:grpSp>
        <p:nvGrpSpPr>
          <p:cNvPr id="232" name="TextBox 6"/>
          <p:cNvGrpSpPr/>
          <p:nvPr/>
        </p:nvGrpSpPr>
        <p:grpSpPr>
          <a:xfrm>
            <a:off x="2719440" y="3389400"/>
            <a:ext cx="5338800" cy="2206440"/>
            <a:chOff x="2719440" y="3389400"/>
            <a:chExt cx="5338800" cy="2206440"/>
          </a:xfrm>
        </p:grpSpPr>
        <p:pic>
          <p:nvPicPr>
            <p:cNvPr id="233" name="TextBox 6" descr=""/>
            <p:cNvPicPr/>
            <p:nvPr/>
          </p:nvPicPr>
          <p:blipFill>
            <a:blip r:embed="rId5"/>
            <a:stretch/>
          </p:blipFill>
          <p:spPr>
            <a:xfrm>
              <a:off x="2719440" y="3389400"/>
              <a:ext cx="5338800" cy="22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786040" y="3429000"/>
              <a:ext cx="521496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аз просты, апавядальны, няклічны, двухсастаўны, развіты, ускладнены пабочным словам  </a:t>
              </a: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а </a:t>
              </a: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жаль, 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якое выражае засмучэнн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Хто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сувязны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дзейнік, выражаны назоўнікам у форме Н. скл., адз. л.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сувязны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што зрабіў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заблудзіўся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просты дзеяслоўны выказнік, выражаны дзеясловам абв. ладу, пр.ч., адз. л., 3-й ас.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заблудзіўся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калі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уначы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акалічнасць часу, выражана прыслоўем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бочнае слова  </a:t>
              </a: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а жаль 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е з’яўляецца членам сказа, знаходзіцца ў сярэдзіне сказа, выдзяляецца коскамі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TextBox 7"/>
          <p:cNvGrpSpPr/>
          <p:nvPr/>
        </p:nvGrpSpPr>
        <p:grpSpPr>
          <a:xfrm>
            <a:off x="2865600" y="1951200"/>
            <a:ext cx="4833720" cy="463320"/>
            <a:chOff x="2865600" y="1951200"/>
            <a:chExt cx="4833720" cy="463320"/>
          </a:xfrm>
        </p:grpSpPr>
        <p:pic>
          <p:nvPicPr>
            <p:cNvPr id="236" name="TextBox 7" descr=""/>
            <p:cNvPicPr/>
            <p:nvPr/>
          </p:nvPicPr>
          <p:blipFill>
            <a:blip r:embed="rId6"/>
            <a:stretch/>
          </p:blipFill>
          <p:spPr>
            <a:xfrm>
              <a:off x="2865600" y="1951200"/>
              <a:ext cx="48337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28960" y="2000160"/>
              <a:ext cx="47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Уначы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на жаль,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увязны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заблудзіўся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У. Карпаў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оугольник 8" descr=""/>
          <p:cNvPicPr/>
          <p:nvPr/>
        </p:nvPicPr>
        <p:blipFill>
          <a:blip r:embed="rId7"/>
          <a:stretch/>
        </p:blipFill>
        <p:spPr>
          <a:xfrm>
            <a:off x="652320" y="2724120"/>
            <a:ext cx="226224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19" name="Блок-схема: несколько документов 4"/>
          <p:cNvGrpSpPr/>
          <p:nvPr/>
        </p:nvGrpSpPr>
        <p:grpSpPr>
          <a:xfrm>
            <a:off x="1596960" y="590400"/>
            <a:ext cx="5840640" cy="1695600"/>
            <a:chOff x="1596960" y="590400"/>
            <a:chExt cx="5840640" cy="1695600"/>
          </a:xfrm>
        </p:grpSpPr>
        <p:pic>
          <p:nvPicPr>
            <p:cNvPr id="120" name="Блок-схема: несколько документов 4" descr=""/>
            <p:cNvPicPr/>
            <p:nvPr/>
          </p:nvPicPr>
          <p:blipFill>
            <a:blip r:embed="rId3"/>
            <a:stretch/>
          </p:blipFill>
          <p:spPr>
            <a:xfrm>
              <a:off x="1596960" y="590400"/>
              <a:ext cx="584064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643040" y="861840"/>
              <a:ext cx="46735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варотак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гэта слова ці спалучэнне слоў, што называюць асобу, прадмет, з’яву, да якой (якога) звяртаецца аўтар (субяседнік, прамоўца)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Ты вельмі багатая,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аша зямля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П. Панчан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Прямоугольник 5" descr=""/>
          <p:cNvPicPr/>
          <p:nvPr/>
        </p:nvPicPr>
        <p:blipFill>
          <a:blip r:embed="rId4"/>
          <a:stretch/>
        </p:blipFill>
        <p:spPr>
          <a:xfrm>
            <a:off x="3224160" y="79200"/>
            <a:ext cx="2328840" cy="4748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6" descr=""/>
          <p:cNvPicPr/>
          <p:nvPr/>
        </p:nvPicPr>
        <p:blipFill>
          <a:blip r:embed="rId5"/>
          <a:stretch/>
        </p:blipFill>
        <p:spPr>
          <a:xfrm>
            <a:off x="3224160" y="2152800"/>
            <a:ext cx="3189240" cy="474480"/>
          </a:xfrm>
          <a:prstGeom prst="rect">
            <a:avLst/>
          </a:prstGeom>
          <a:ln w="0">
            <a:noFill/>
          </a:ln>
        </p:spPr>
      </p:pic>
      <p:grpSp>
        <p:nvGrpSpPr>
          <p:cNvPr id="124" name="Блок-схема: несколько документов 7"/>
          <p:cNvGrpSpPr/>
          <p:nvPr/>
        </p:nvGrpSpPr>
        <p:grpSpPr>
          <a:xfrm>
            <a:off x="311040" y="3097080"/>
            <a:ext cx="5840640" cy="1694160"/>
            <a:chOff x="311040" y="3097080"/>
            <a:chExt cx="5840640" cy="1694160"/>
          </a:xfrm>
        </p:grpSpPr>
        <p:pic>
          <p:nvPicPr>
            <p:cNvPr id="125" name="Блок-схема: несколько документов 7" descr=""/>
            <p:cNvPicPr/>
            <p:nvPr/>
          </p:nvPicPr>
          <p:blipFill>
            <a:blip r:embed="rId6"/>
            <a:stretch/>
          </p:blipFill>
          <p:spPr>
            <a:xfrm>
              <a:off x="311040" y="3097080"/>
              <a:ext cx="5840640" cy="16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57120" y="3362400"/>
              <a:ext cx="467352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оўнікам або іншай часцінай мовы ў значэнні назоўніка ў форме назоўнага склону і вымаўляецца з асаблівай, клічнай інтанацыя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еларусь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твой народ дачакаецца залацістага яснага дня. (М. Багдановіч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Блок-схема: несколько документов 8"/>
          <p:cNvGrpSpPr/>
          <p:nvPr/>
        </p:nvGrpSpPr>
        <p:grpSpPr>
          <a:xfrm>
            <a:off x="2876400" y="4309920"/>
            <a:ext cx="5846760" cy="1195560"/>
            <a:chOff x="2876400" y="4309920"/>
            <a:chExt cx="5846760" cy="1195560"/>
          </a:xfrm>
        </p:grpSpPr>
        <p:pic>
          <p:nvPicPr>
            <p:cNvPr id="128" name="Блок-схема: несколько документов 8" descr=""/>
            <p:cNvPicPr/>
            <p:nvPr/>
          </p:nvPicPr>
          <p:blipFill>
            <a:blip r:embed="rId7"/>
            <a:stretch/>
          </p:blipFill>
          <p:spPr>
            <a:xfrm>
              <a:off x="2876400" y="4309920"/>
              <a:ext cx="584676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928960" y="4491000"/>
              <a:ext cx="4673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былой клічнай форма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Спі,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ыночку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спі,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каточку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спі. (П. Глеб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Блок-схема: несколько документов 9"/>
          <p:cNvGrpSpPr/>
          <p:nvPr/>
        </p:nvGrpSpPr>
        <p:grpSpPr>
          <a:xfrm>
            <a:off x="1311120" y="5450040"/>
            <a:ext cx="5838840" cy="1627200"/>
            <a:chOff x="1311120" y="5450040"/>
            <a:chExt cx="5838840" cy="1627200"/>
          </a:xfrm>
        </p:grpSpPr>
        <p:pic>
          <p:nvPicPr>
            <p:cNvPr id="131" name="Блок-схема: несколько документов 9" descr=""/>
            <p:cNvPicPr/>
            <p:nvPr/>
          </p:nvPicPr>
          <p:blipFill>
            <a:blip r:embed="rId8"/>
            <a:stretch/>
          </p:blipFill>
          <p:spPr>
            <a:xfrm>
              <a:off x="1311120" y="5450040"/>
              <a:ext cx="583884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357200" y="5707080"/>
              <a:ext cx="46738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Часцей за ўсё зваротак выкарыстоўваецца ў вусным дыялагічным маўленні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Таварыш Сыцька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думайце, пра што гаворыце і дзе гаворыце! (А.Жук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3" name="Прямая со стрелкой 11"/>
          <p:cNvCxnSpPr/>
          <p:nvPr/>
        </p:nvCxnSpPr>
        <p:spPr>
          <a:xfrm flipH="1">
            <a:off x="3928320" y="2570760"/>
            <a:ext cx="857880" cy="5007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34" name="Прямая со стрелкой 13"/>
          <p:cNvCxnSpPr/>
          <p:nvPr/>
        </p:nvCxnSpPr>
        <p:spPr>
          <a:xfrm>
            <a:off x="4786200" y="2571480"/>
            <a:ext cx="3286800" cy="178668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0" descr="logo 21"/>
          <p:cNvPicPr/>
          <p:nvPr/>
        </p:nvPicPr>
        <p:blipFill>
          <a:blip r:embed="rId1"/>
          <a:stretch/>
        </p:blipFill>
        <p:spPr>
          <a:xfrm>
            <a:off x="6138720" y="6351480"/>
            <a:ext cx="3011760" cy="51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4" descr=""/>
          <p:cNvPicPr/>
          <p:nvPr/>
        </p:nvPicPr>
        <p:blipFill>
          <a:blip r:embed="rId3"/>
          <a:stretch/>
        </p:blipFill>
        <p:spPr>
          <a:xfrm>
            <a:off x="3224160" y="353880"/>
            <a:ext cx="2328840" cy="560520"/>
          </a:xfrm>
          <a:prstGeom prst="rect">
            <a:avLst/>
          </a:prstGeom>
          <a:ln w="0">
            <a:noFill/>
          </a:ln>
        </p:spPr>
      </p:pic>
      <p:grpSp>
        <p:nvGrpSpPr>
          <p:cNvPr id="138" name="TextBox 5"/>
          <p:cNvGrpSpPr/>
          <p:nvPr/>
        </p:nvGrpSpPr>
        <p:grpSpPr>
          <a:xfrm>
            <a:off x="1347840" y="1305000"/>
            <a:ext cx="2297160" cy="480960"/>
            <a:chOff x="1347840" y="1305000"/>
            <a:chExt cx="2297160" cy="480960"/>
          </a:xfrm>
        </p:grpSpPr>
        <p:pic>
          <p:nvPicPr>
            <p:cNvPr id="139" name="TextBox 5" descr=""/>
            <p:cNvPicPr/>
            <p:nvPr/>
          </p:nvPicPr>
          <p:blipFill>
            <a:blip r:embed="rId4"/>
            <a:stretch/>
          </p:blipFill>
          <p:spPr>
            <a:xfrm>
              <a:off x="1347840" y="1305000"/>
              <a:ext cx="22971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28840" y="135720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еразві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TextBox 6"/>
          <p:cNvGrpSpPr/>
          <p:nvPr/>
        </p:nvGrpSpPr>
        <p:grpSpPr>
          <a:xfrm>
            <a:off x="1347840" y="2657520"/>
            <a:ext cx="2297160" cy="487440"/>
            <a:chOff x="1347840" y="2657520"/>
            <a:chExt cx="2297160" cy="487440"/>
          </a:xfrm>
        </p:grpSpPr>
        <p:pic>
          <p:nvPicPr>
            <p:cNvPr id="142" name="TextBox 6" descr=""/>
            <p:cNvPicPr/>
            <p:nvPr/>
          </p:nvPicPr>
          <p:blipFill>
            <a:blip r:embed="rId5"/>
            <a:stretch/>
          </p:blipFill>
          <p:spPr>
            <a:xfrm>
              <a:off x="1347840" y="2657520"/>
              <a:ext cx="22971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428840" y="2714760"/>
              <a:ext cx="214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разві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Прямая соединительная линия 8"/>
          <p:cNvSpPr/>
          <p:nvPr/>
        </p:nvSpPr>
        <p:spPr>
          <a:xfrm flipH="1">
            <a:off x="1141560" y="1000080"/>
            <a:ext cx="1440" cy="192888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Прямая со стрелкой 10"/>
          <p:cNvCxnSpPr/>
          <p:nvPr/>
        </p:nvCxnSpPr>
        <p:spPr>
          <a:xfrm>
            <a:off x="1142640" y="1571760"/>
            <a:ext cx="21492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>
            <a:off x="1142640" y="2928960"/>
            <a:ext cx="21492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>
            <a:off x="3643200" y="1499760"/>
            <a:ext cx="57240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48" name="Прямая со стрелкой 13"/>
          <p:cNvCxnSpPr/>
          <p:nvPr/>
        </p:nvCxnSpPr>
        <p:spPr>
          <a:xfrm>
            <a:off x="3643200" y="2857680"/>
            <a:ext cx="64332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grpSp>
        <p:nvGrpSpPr>
          <p:cNvPr id="149" name="TextBox 14"/>
          <p:cNvGrpSpPr/>
          <p:nvPr/>
        </p:nvGrpSpPr>
        <p:grpSpPr>
          <a:xfrm>
            <a:off x="4280040" y="1231920"/>
            <a:ext cx="4010040" cy="841320"/>
            <a:chOff x="4280040" y="1231920"/>
            <a:chExt cx="4010040" cy="841320"/>
          </a:xfrm>
        </p:grpSpPr>
        <p:pic>
          <p:nvPicPr>
            <p:cNvPr id="150" name="TextBox 14" descr=""/>
            <p:cNvPicPr/>
            <p:nvPr/>
          </p:nvPicPr>
          <p:blipFill>
            <a:blip r:embed="rId6"/>
            <a:stretch/>
          </p:blipFill>
          <p:spPr>
            <a:xfrm>
              <a:off x="4280040" y="1231920"/>
              <a:ext cx="4010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357800" y="1285920"/>
              <a:ext cx="38574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Муляры,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у чэрвеньскай цішыні асцярожна абслухвайце кожную цагліну балючую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Р. Барадулін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TextBox 15"/>
          <p:cNvGrpSpPr/>
          <p:nvPr/>
        </p:nvGrpSpPr>
        <p:grpSpPr>
          <a:xfrm>
            <a:off x="4280040" y="2444760"/>
            <a:ext cx="4010040" cy="639720"/>
            <a:chOff x="4280040" y="2444760"/>
            <a:chExt cx="4010040" cy="639720"/>
          </a:xfrm>
        </p:grpSpPr>
        <p:pic>
          <p:nvPicPr>
            <p:cNvPr id="153" name="TextBox 15" descr=""/>
            <p:cNvPicPr/>
            <p:nvPr/>
          </p:nvPicPr>
          <p:blipFill>
            <a:blip r:embed="rId7"/>
            <a:stretch/>
          </p:blipFill>
          <p:spPr>
            <a:xfrm>
              <a:off x="4280040" y="2444760"/>
              <a:ext cx="4010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357800" y="2500200"/>
              <a:ext cx="3857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 не знаю, дзе вашы магілы, </a:t>
              </a: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ероі народа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Н. Гілевіч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ая соединительная линия 19"/>
          <p:cNvSpPr/>
          <p:nvPr/>
        </p:nvSpPr>
        <p:spPr>
          <a:xfrm>
            <a:off x="1143000" y="1000080"/>
            <a:ext cx="3000240" cy="180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3"/>
          <p:cNvSpPr/>
          <p:nvPr/>
        </p:nvSpPr>
        <p:spPr>
          <a:xfrm flipV="1">
            <a:off x="4141800" y="856800"/>
            <a:ext cx="1440" cy="14292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Прямоугольник 24" descr=""/>
          <p:cNvPicPr/>
          <p:nvPr/>
        </p:nvPicPr>
        <p:blipFill>
          <a:blip r:embed="rId8"/>
          <a:stretch/>
        </p:blipFill>
        <p:spPr>
          <a:xfrm>
            <a:off x="2225520" y="3365640"/>
            <a:ext cx="4546800" cy="474480"/>
          </a:xfrm>
          <a:prstGeom prst="rect">
            <a:avLst/>
          </a:prstGeom>
          <a:ln w="0">
            <a:noFill/>
          </a:ln>
        </p:spPr>
      </p:pic>
      <p:grpSp>
        <p:nvGrpSpPr>
          <p:cNvPr id="158" name="TextBox 25"/>
          <p:cNvGrpSpPr/>
          <p:nvPr/>
        </p:nvGrpSpPr>
        <p:grpSpPr>
          <a:xfrm>
            <a:off x="3206880" y="3943440"/>
            <a:ext cx="2797200" cy="457200"/>
            <a:chOff x="3206880" y="3943440"/>
            <a:chExt cx="2797200" cy="457200"/>
          </a:xfrm>
        </p:grpSpPr>
        <p:pic>
          <p:nvPicPr>
            <p:cNvPr id="159" name="TextBox 25" descr=""/>
            <p:cNvPicPr/>
            <p:nvPr/>
          </p:nvPicPr>
          <p:blipFill>
            <a:blip r:embed="rId9"/>
            <a:stretch/>
          </p:blipFill>
          <p:spPr>
            <a:xfrm>
              <a:off x="3206880" y="3943440"/>
              <a:ext cx="279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286080" y="4000680"/>
              <a:ext cx="264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мове мастацкай літарату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TextBox 26"/>
          <p:cNvGrpSpPr/>
          <p:nvPr/>
        </p:nvGrpSpPr>
        <p:grpSpPr>
          <a:xfrm>
            <a:off x="3206880" y="4591080"/>
            <a:ext cx="2797200" cy="450720"/>
            <a:chOff x="3206880" y="4591080"/>
            <a:chExt cx="2797200" cy="450720"/>
          </a:xfrm>
        </p:grpSpPr>
        <p:pic>
          <p:nvPicPr>
            <p:cNvPr id="162" name="TextBox 26" descr=""/>
            <p:cNvPicPr/>
            <p:nvPr/>
          </p:nvPicPr>
          <p:blipFill>
            <a:blip r:embed="rId10"/>
            <a:stretch/>
          </p:blipFill>
          <p:spPr>
            <a:xfrm>
              <a:off x="3206880" y="4591080"/>
              <a:ext cx="279720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286080" y="4643280"/>
              <a:ext cx="264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публіцыстыц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TextBox 27"/>
          <p:cNvGrpSpPr/>
          <p:nvPr/>
        </p:nvGrpSpPr>
        <p:grpSpPr>
          <a:xfrm>
            <a:off x="3206880" y="5089680"/>
            <a:ext cx="2797200" cy="452160"/>
            <a:chOff x="3206880" y="5089680"/>
            <a:chExt cx="2797200" cy="452160"/>
          </a:xfrm>
        </p:grpSpPr>
        <p:pic>
          <p:nvPicPr>
            <p:cNvPr id="165" name="TextBox 27" descr=""/>
            <p:cNvPicPr/>
            <p:nvPr/>
          </p:nvPicPr>
          <p:blipFill>
            <a:blip r:embed="rId11"/>
            <a:stretch/>
          </p:blipFill>
          <p:spPr>
            <a:xfrm>
              <a:off x="3206880" y="5089680"/>
              <a:ext cx="279720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286080" y="5143680"/>
              <a:ext cx="264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гутарковым стыл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TextBox 28"/>
          <p:cNvGrpSpPr/>
          <p:nvPr/>
        </p:nvGrpSpPr>
        <p:grpSpPr>
          <a:xfrm>
            <a:off x="3206880" y="5516640"/>
            <a:ext cx="2797200" cy="457200"/>
            <a:chOff x="3206880" y="5516640"/>
            <a:chExt cx="2797200" cy="457200"/>
          </a:xfrm>
        </p:grpSpPr>
        <p:pic>
          <p:nvPicPr>
            <p:cNvPr id="168" name="TextBox 28" descr=""/>
            <p:cNvPicPr/>
            <p:nvPr/>
          </p:nvPicPr>
          <p:blipFill>
            <a:blip r:embed="rId12"/>
            <a:stretch/>
          </p:blipFill>
          <p:spPr>
            <a:xfrm>
              <a:off x="3206880" y="5516640"/>
              <a:ext cx="279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3286080" y="5572080"/>
              <a:ext cx="2643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моўным этыкец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Прямая соединительная линия 30"/>
          <p:cNvSpPr/>
          <p:nvPr/>
        </p:nvSpPr>
        <p:spPr>
          <a:xfrm flipH="1">
            <a:off x="2784600" y="3787920"/>
            <a:ext cx="1440" cy="200016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32"/>
          <p:cNvCxnSpPr/>
          <p:nvPr/>
        </p:nvCxnSpPr>
        <p:spPr>
          <a:xfrm>
            <a:off x="2785680" y="4214880"/>
            <a:ext cx="42948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72" name="Прямая со стрелкой 34"/>
          <p:cNvCxnSpPr/>
          <p:nvPr/>
        </p:nvCxnSpPr>
        <p:spPr>
          <a:xfrm>
            <a:off x="2785680" y="4785840"/>
            <a:ext cx="42948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73" name="Прямая со стрелкой 36"/>
          <p:cNvCxnSpPr/>
          <p:nvPr/>
        </p:nvCxnSpPr>
        <p:spPr>
          <a:xfrm>
            <a:off x="2785680" y="5285880"/>
            <a:ext cx="42948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74" name="Прямая со стрелкой 38"/>
          <p:cNvCxnSpPr/>
          <p:nvPr/>
        </p:nvCxnSpPr>
        <p:spPr>
          <a:xfrm>
            <a:off x="2785680" y="5785920"/>
            <a:ext cx="42948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grpSp>
        <p:nvGrpSpPr>
          <p:cNvPr id="175" name="TextBox 39"/>
          <p:cNvGrpSpPr/>
          <p:nvPr/>
        </p:nvGrpSpPr>
        <p:grpSpPr>
          <a:xfrm>
            <a:off x="1706400" y="5943600"/>
            <a:ext cx="5651640" cy="792000"/>
            <a:chOff x="1706400" y="5943600"/>
            <a:chExt cx="5651640" cy="792000"/>
          </a:xfrm>
        </p:grpSpPr>
        <p:pic>
          <p:nvPicPr>
            <p:cNvPr id="176" name="TextBox 39" descr=""/>
            <p:cNvPicPr/>
            <p:nvPr/>
          </p:nvPicPr>
          <p:blipFill>
            <a:blip r:embed="rId13"/>
            <a:stretch/>
          </p:blipFill>
          <p:spPr>
            <a:xfrm>
              <a:off x="1706400" y="5943600"/>
              <a:ext cx="56516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785960" y="6000840"/>
              <a:ext cx="550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паэтычным маўленні зваротак можа быць і неадушаўлёным назоўнікам. Гэта адзін з прыёмаў увасаблення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Ты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ясна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– маладая красуня. (П. Глеб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4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5"/>
          <p:cNvSpPr/>
          <p:nvPr/>
        </p:nvSpPr>
        <p:spPr>
          <a:xfrm>
            <a:off x="1357200" y="642960"/>
            <a:ext cx="635796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Зваротак у сказе выдзяляецца </a:t>
            </a:r>
            <a:r>
              <a:rPr b="1" lang="be-BY" sz="1100" spc="-1" strike="noStrike">
                <a:solidFill>
                  <a:srgbClr val="c00000"/>
                </a:solidFill>
                <a:latin typeface="Times New Roman"/>
              </a:rPr>
              <a:t>коскамі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Дзякуй, </a:t>
            </a:r>
            <a:r>
              <a:rPr b="1" i="1" lang="be-BY" sz="1100" spc="-1" strike="noStrike">
                <a:solidFill>
                  <a:srgbClr val="c00000"/>
                </a:solidFill>
                <a:latin typeface="Times New Roman"/>
              </a:rPr>
              <a:t>маці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, што мне падарыла ты любоў да зямлі маёй роднай. (Е. Лось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1357200" y="1500120"/>
            <a:ext cx="63579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c00000"/>
                </a:solidFill>
                <a:latin typeface="Times New Roman"/>
              </a:rPr>
              <a:t>Знак прыпынку 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ў канцы сказа ставіцца ў адпаведнасці з агульнымі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правіламі, незалежна ад зваротк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Добры дзень вам, </a:t>
            </a:r>
            <a:r>
              <a:rPr b="1" i="1" lang="be-BY" sz="1100" spc="-1" strike="noStrike">
                <a:solidFill>
                  <a:srgbClr val="c00000"/>
                </a:solidFill>
                <a:latin typeface="Times New Roman"/>
              </a:rPr>
              <a:t>лясы і гоні!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(Я. Колас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Што там у цябе, </a:t>
            </a:r>
            <a:r>
              <a:rPr b="1" i="1" lang="be-BY" sz="1100" spc="-1" strike="noStrike">
                <a:solidFill>
                  <a:srgbClr val="c00000"/>
                </a:solidFill>
                <a:latin typeface="Times New Roman"/>
              </a:rPr>
              <a:t>Серада?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(В. Казакевіч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1428840" y="2571840"/>
            <a:ext cx="635796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Калі зваротак </a:t>
            </a:r>
            <a:r>
              <a:rPr b="1" lang="be-BY" sz="1100" spc="-1" strike="noStrike">
                <a:solidFill>
                  <a:srgbClr val="c00000"/>
                </a:solidFill>
                <a:latin typeface="Times New Roman"/>
              </a:rPr>
              <a:t>знаходзіцца перад сказам 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і вымаўляецца з асаблів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пачуццём, то пасля яго ставіцца клічнік, а сказ пачынаецца з вялікай літар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c00000"/>
                </a:solidFill>
                <a:latin typeface="Times New Roman"/>
              </a:rPr>
              <a:t>Лес!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Што шэпчаш, векавы? (Я. Колас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1428840" y="3643200"/>
            <a:ext cx="63579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c00000"/>
                </a:solidFill>
                <a:latin typeface="Times New Roman"/>
              </a:rPr>
              <a:t>Заўвага. 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Перад звароткам можа быць часціца </a:t>
            </a:r>
            <a:r>
              <a:rPr b="1" i="1" lang="be-BY" sz="1100" spc="-1" strike="noStrike">
                <a:solidFill>
                  <a:srgbClr val="c00000"/>
                </a:solidFill>
                <a:latin typeface="Times New Roman"/>
              </a:rPr>
              <a:t>о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якая зліваецца з ім у маўленні і коскай не аддзяляецц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c00000"/>
                </a:solidFill>
                <a:latin typeface="Times New Roman"/>
              </a:rPr>
              <a:t>О мова матчына,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пявучая мая! (Э. Валасевіч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1500120" y="4714920"/>
            <a:ext cx="63579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c00000"/>
                </a:solidFill>
                <a:latin typeface="Times New Roman"/>
              </a:rPr>
              <a:t>Зваротак</a:t>
            </a:r>
            <a:r>
              <a:rPr b="1" lang="be-BY" sz="12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які знаходзіцца </a:t>
            </a:r>
            <a:r>
              <a:rPr b="1" lang="be-BY" sz="1100" spc="-1" strike="noStrike">
                <a:solidFill>
                  <a:srgbClr val="c00000"/>
                </a:solidFill>
                <a:latin typeface="Times New Roman"/>
              </a:rPr>
              <a:t>ў сярэдзіне сказа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, вымаўляецца больш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хутка і з паніжэннем тону. </a:t>
            </a:r>
            <a:r>
              <a:rPr b="1" lang="be-BY" sz="1100" spc="-1" strike="noStrike">
                <a:solidFill>
                  <a:srgbClr val="c00000"/>
                </a:solidFill>
                <a:latin typeface="Times New Roman"/>
              </a:rPr>
              <a:t>У канцы сказа 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зваротак можа  набывац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своеаблівы, выразны націск, а можа вымаўляцца і паніжаным тона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(у апавядальных сказах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4" descr=""/>
          <p:cNvPicPr/>
          <p:nvPr/>
        </p:nvPicPr>
        <p:blipFill>
          <a:blip r:embed="rId3"/>
          <a:stretch/>
        </p:blipFill>
        <p:spPr>
          <a:xfrm>
            <a:off x="1725480" y="365040"/>
            <a:ext cx="5613480" cy="476280"/>
          </a:xfrm>
          <a:prstGeom prst="rect">
            <a:avLst/>
          </a:prstGeom>
          <a:ln w="0">
            <a:noFill/>
          </a:ln>
        </p:spPr>
      </p:pic>
      <p:pic>
        <p:nvPicPr>
          <p:cNvPr id="188" name="Схема 6" descr=""/>
          <p:cNvPicPr/>
          <p:nvPr/>
        </p:nvPicPr>
        <p:blipFill>
          <a:blip r:embed="rId4"/>
          <a:stretch/>
        </p:blipFill>
        <p:spPr>
          <a:xfrm>
            <a:off x="517680" y="1066680"/>
            <a:ext cx="8321400" cy="524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91" name="Схема 4" descr=""/>
          <p:cNvPicPr/>
          <p:nvPr/>
        </p:nvPicPr>
        <p:blipFill>
          <a:blip r:embed="rId3"/>
          <a:stretch/>
        </p:blipFill>
        <p:spPr>
          <a:xfrm>
            <a:off x="353880" y="1066680"/>
            <a:ext cx="8704440" cy="57978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6" descr=""/>
          <p:cNvPicPr/>
          <p:nvPr/>
        </p:nvPicPr>
        <p:blipFill>
          <a:blip r:embed="rId4"/>
          <a:stretch/>
        </p:blipFill>
        <p:spPr>
          <a:xfrm>
            <a:off x="1725480" y="579600"/>
            <a:ext cx="5613480" cy="47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95" name="Схема 4" descr=""/>
          <p:cNvPicPr/>
          <p:nvPr/>
        </p:nvPicPr>
        <p:blipFill>
          <a:blip r:embed="rId3"/>
          <a:stretch/>
        </p:blipFill>
        <p:spPr>
          <a:xfrm>
            <a:off x="281160" y="920880"/>
            <a:ext cx="8704080" cy="444312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5" descr=""/>
          <p:cNvPicPr/>
          <p:nvPr/>
        </p:nvPicPr>
        <p:blipFill>
          <a:blip r:embed="rId4"/>
          <a:stretch/>
        </p:blipFill>
        <p:spPr>
          <a:xfrm>
            <a:off x="1652760" y="291960"/>
            <a:ext cx="5619600" cy="4762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5"/>
          <p:cNvSpPr/>
          <p:nvPr/>
        </p:nvSpPr>
        <p:spPr>
          <a:xfrm>
            <a:off x="785880" y="5214960"/>
            <a:ext cx="77868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7d"/>
                </a:solidFill>
                <a:latin typeface="Times New Roman"/>
              </a:rPr>
              <a:t>Адносіны да выказвання могуць выражацца і пабочнымі сказамі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Адгукнуцца, </a:t>
            </a:r>
            <a:r>
              <a:rPr b="1" i="1" lang="be-BY" sz="1100" spc="-1" strike="noStrike">
                <a:solidFill>
                  <a:srgbClr val="c00000"/>
                </a:solidFill>
                <a:latin typeface="Times New Roman"/>
              </a:rPr>
              <a:t>я ўпэўнены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, дзесяткі людзей, якія дагэтуль маўчалі. (І. Шамякі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428760" y="5929200"/>
            <a:ext cx="850104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7d"/>
                </a:solidFill>
                <a:latin typeface="Times New Roman"/>
              </a:rPr>
              <a:t>Пабочныя сказы, якія выражаюць дадатковыя заўвагі ці паясненні, выдзяляюцца дужкамі ці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7d"/>
                </a:solidFill>
                <a:latin typeface="Times New Roman"/>
              </a:rPr>
              <a:t>працяжнікамі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У летні поўдзень </a:t>
            </a:r>
            <a:r>
              <a:rPr b="1" i="1" lang="be-BY" sz="1100" spc="-1" strike="noStrike">
                <a:solidFill>
                  <a:srgbClr val="c00000"/>
                </a:solidFill>
                <a:latin typeface="Times New Roman"/>
              </a:rPr>
              <a:t>–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 </a:t>
            </a:r>
            <a:r>
              <a:rPr b="1" i="1" lang="be-BY" sz="1100" spc="-1" strike="noStrike">
                <a:solidFill>
                  <a:srgbClr val="c00000"/>
                </a:solidFill>
                <a:latin typeface="Times New Roman"/>
              </a:rPr>
              <a:t>была спёка –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 выходзіць рой, снуе высока. (Я. Колас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201" name="Схема 4" descr=""/>
          <p:cNvPicPr/>
          <p:nvPr/>
        </p:nvPicPr>
        <p:blipFill>
          <a:blip r:embed="rId3"/>
          <a:stretch/>
        </p:blipFill>
        <p:spPr>
          <a:xfrm>
            <a:off x="1463760" y="1384200"/>
            <a:ext cx="622296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04" name="TextBox 11"/>
          <p:cNvGrpSpPr/>
          <p:nvPr/>
        </p:nvGrpSpPr>
        <p:grpSpPr>
          <a:xfrm>
            <a:off x="2225520" y="1390680"/>
            <a:ext cx="5973840" cy="1028520"/>
            <a:chOff x="2225520" y="1390680"/>
            <a:chExt cx="5973840" cy="1028520"/>
          </a:xfrm>
        </p:grpSpPr>
        <p:pic>
          <p:nvPicPr>
            <p:cNvPr id="205" name="TextBox 11" descr=""/>
            <p:cNvPicPr/>
            <p:nvPr/>
          </p:nvPicPr>
          <p:blipFill>
            <a:blip r:embed="rId3"/>
            <a:stretch/>
          </p:blipFill>
          <p:spPr>
            <a:xfrm>
              <a:off x="2225520" y="1390680"/>
              <a:ext cx="5973840" cy="10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330280" y="1473120"/>
              <a:ext cx="576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сля выклічнікаў, якія не з’яўляюцца членамі сказа і знаходзяцца ў пачатку сказа, ставіцца коска, а ў сярэдзіне сказа яны з двух бакоў выдзяляюцца знакамі прыпынку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у, а дзяўчына?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Э, што там! 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Збаю калісь аб ёй потым. (Я. Купал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TextBox 12"/>
          <p:cNvGrpSpPr/>
          <p:nvPr/>
        </p:nvGrpSpPr>
        <p:grpSpPr>
          <a:xfrm>
            <a:off x="2225520" y="2610000"/>
            <a:ext cx="5973840" cy="1023840"/>
            <a:chOff x="2225520" y="2610000"/>
            <a:chExt cx="5973840" cy="1023840"/>
          </a:xfrm>
        </p:grpSpPr>
        <p:pic>
          <p:nvPicPr>
            <p:cNvPr id="208" name="TextBox 12" descr=""/>
            <p:cNvPicPr/>
            <p:nvPr/>
          </p:nvPicPr>
          <p:blipFill>
            <a:blip r:embed="rId4"/>
            <a:stretch/>
          </p:blipFill>
          <p:spPr>
            <a:xfrm>
              <a:off x="2225520" y="2610000"/>
              <a:ext cx="59738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330280" y="2687760"/>
              <a:ext cx="576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выклічнік стаіць у пачатку сказа і вымаўляеййа ўзнёсла, то пасля яго ставіцца клічнік і наступнае слова пішацца з вялікай літары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о! 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Я сеў бы на каня і паказаў бы яшчэ, чаго варты стары Талаш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Я. Колас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TextBox 13"/>
          <p:cNvGrpSpPr/>
          <p:nvPr/>
        </p:nvGrpSpPr>
        <p:grpSpPr>
          <a:xfrm>
            <a:off x="2225520" y="4035600"/>
            <a:ext cx="6046920" cy="822240"/>
            <a:chOff x="2225520" y="4035600"/>
            <a:chExt cx="6046920" cy="822240"/>
          </a:xfrm>
        </p:grpSpPr>
        <p:pic>
          <p:nvPicPr>
            <p:cNvPr id="211" name="TextBox 13" descr=""/>
            <p:cNvPicPr/>
            <p:nvPr/>
          </p:nvPicPr>
          <p:blipFill>
            <a:blip r:embed="rId5"/>
            <a:stretch/>
          </p:blipFill>
          <p:spPr>
            <a:xfrm>
              <a:off x="2225520" y="4035600"/>
              <a:ext cx="60469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320920" y="4106880"/>
              <a:ext cx="5859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ж выклічнік з клічнікам стаіць у сярэдзіне сказа, то наступнае слова звычайна пішацца з малой літары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 во! 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хто ж кнігі так раскідаў?! (Я. Колас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TextBox 17"/>
          <p:cNvGrpSpPr/>
          <p:nvPr/>
        </p:nvGrpSpPr>
        <p:grpSpPr>
          <a:xfrm>
            <a:off x="2298600" y="804960"/>
            <a:ext cx="5686560" cy="463320"/>
            <a:chOff x="2298600" y="804960"/>
            <a:chExt cx="5686560" cy="463320"/>
          </a:xfrm>
        </p:grpSpPr>
        <p:pic>
          <p:nvPicPr>
            <p:cNvPr id="214" name="TextBox 17" descr=""/>
            <p:cNvPicPr/>
            <p:nvPr/>
          </p:nvPicPr>
          <p:blipFill>
            <a:blip r:embed="rId6"/>
            <a:stretch/>
          </p:blipFill>
          <p:spPr>
            <a:xfrm>
              <a:off x="2298600" y="804960"/>
              <a:ext cx="568656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357280" y="857160"/>
              <a:ext cx="557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накі прыпынку пры выклічніках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9"/>
          <p:cNvSpPr/>
          <p:nvPr/>
        </p:nvSpPr>
        <p:spPr>
          <a:xfrm rot="317400">
            <a:off x="742680" y="776160"/>
            <a:ext cx="1404720" cy="1590840"/>
          </a:xfrm>
          <a:custGeom>
            <a:avLst/>
            <a:gdLst>
              <a:gd name="textAreaLeft" fmla="*/ 187920 w 1404720"/>
              <a:gd name="textAreaRight" fmla="*/ 1216800 w 1404720"/>
              <a:gd name="textAreaTop" fmla="*/ 279720 h 1590840"/>
              <a:gd name="textAreaBottom" fmla="*/ 1168920 h 15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98" stAng="-5400000" swAng="-5400000"/>
                <a:lnTo>
                  <a:pt x="0" y="12071"/>
                </a:lnTo>
                <a:arcTo wR="21600" hR="7598" stAng="10800000" swAng="-2691142"/>
                <a:lnTo>
                  <a:pt x="14400" y="21165"/>
                </a:lnTo>
                <a:lnTo>
                  <a:pt x="21600" y="17432"/>
                </a:lnTo>
                <a:lnTo>
                  <a:pt x="14400" y="12828"/>
                </a:lnTo>
                <a:lnTo>
                  <a:pt x="14400" y="14760"/>
                </a:lnTo>
                <a:arcTo wR="21600" hR="7598" stAng="8108858" swAng="2320136"/>
                <a:lnTo>
                  <a:pt x="957" y="9834"/>
                </a:lnTo>
                <a:arcTo wR="21600" hR="7598" stAng="-10428994" swAng="5028994"/>
                <a:close/>
              </a:path>
              <a:path fill="darkenLess" w="21600" h="21600">
                <a:moveTo>
                  <a:pt x="21600" y="0"/>
                </a:moveTo>
                <a:arcTo wR="21600" hR="7598" stAng="-5400000" swAng="-5400000"/>
                <a:lnTo>
                  <a:pt x="0" y="7598"/>
                </a:lnTo>
                <a:arcTo wR="21600" hR="7598" stAng="10800000" swAng="-371006"/>
                <a:lnTo>
                  <a:pt x="957" y="9834"/>
                </a:lnTo>
                <a:arcTo wR="21600" hR="7598" stAng="-10428994" swAng="502899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 rot="317400">
            <a:off x="900000" y="835200"/>
            <a:ext cx="1189080" cy="2544480"/>
          </a:xfrm>
          <a:custGeom>
            <a:avLst/>
            <a:gdLst>
              <a:gd name="textAreaLeft" fmla="*/ 159120 w 1189080"/>
              <a:gd name="textAreaRight" fmla="*/ 1029960 w 1189080"/>
              <a:gd name="textAreaTop" fmla="*/ 542520 h 2544480"/>
              <a:gd name="textAreaBottom" fmla="*/ 1874880 h 25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11" stAng="-5400000" swAng="-5400000"/>
                <a:lnTo>
                  <a:pt x="0" y="11311"/>
                </a:lnTo>
                <a:arcTo wR="21600" hR="9211" stAng="10800000" swAng="-2925272"/>
                <a:lnTo>
                  <a:pt x="14035" y="21017"/>
                </a:lnTo>
                <a:lnTo>
                  <a:pt x="21600" y="19472"/>
                </a:lnTo>
                <a:lnTo>
                  <a:pt x="14035" y="16761"/>
                </a:lnTo>
                <a:lnTo>
                  <a:pt x="14035" y="17839"/>
                </a:lnTo>
                <a:arcTo wR="21600" hR="9211" stAng="7874728" swAng="2757197"/>
                <a:lnTo>
                  <a:pt x="141" y="10261"/>
                </a:lnTo>
                <a:arcTo wR="21600" hR="9211" stAng="-10631925" swAng="5231925"/>
                <a:close/>
              </a:path>
              <a:path fill="darkenLess" w="21600" h="21600">
                <a:moveTo>
                  <a:pt x="21600" y="0"/>
                </a:moveTo>
                <a:arcTo wR="21600" hR="9211" stAng="-5400000" swAng="-5400000"/>
                <a:lnTo>
                  <a:pt x="0" y="9211"/>
                </a:lnTo>
                <a:arcTo wR="21600" hR="9211" stAng="10800000" swAng="-168075"/>
                <a:lnTo>
                  <a:pt x="141" y="10261"/>
                </a:lnTo>
                <a:arcTo wR="21600" hR="9211" stAng="-10631925" swAng="523192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1143000" y="785880"/>
            <a:ext cx="1071720" cy="400032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879480 h 4000320"/>
              <a:gd name="textAreaBottom" fmla="*/ 3016800 h 40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99" stAng="-5400000" swAng="-5400000"/>
                <a:lnTo>
                  <a:pt x="0" y="11540"/>
                </a:lnTo>
                <a:arcTo wR="21600" hR="9499" stAng="10800000" swAng="-3011693"/>
                <a:lnTo>
                  <a:pt x="14168" y="21020"/>
                </a:lnTo>
                <a:lnTo>
                  <a:pt x="21600" y="20018"/>
                </a:lnTo>
                <a:lnTo>
                  <a:pt x="14168" y="17855"/>
                </a:lnTo>
                <a:lnTo>
                  <a:pt x="14168" y="18417"/>
                </a:lnTo>
                <a:arcTo wR="21600" hR="9499" stAng="7788307" swAng="2848453"/>
                <a:lnTo>
                  <a:pt x="125" y="10519"/>
                </a:lnTo>
                <a:arcTo wR="21600" hR="9499" stAng="-10636760" swAng="5236760"/>
                <a:close/>
              </a:path>
              <a:path fill="darkenLess" w="21600" h="21600">
                <a:moveTo>
                  <a:pt x="21600" y="0"/>
                </a:moveTo>
                <a:arcTo wR="21600" hR="9499" stAng="-5400000" swAng="-5400000"/>
                <a:lnTo>
                  <a:pt x="0" y="9499"/>
                </a:lnTo>
                <a:arcTo wR="21600" hR="9499" stAng="10800000" swAng="-163240"/>
                <a:lnTo>
                  <a:pt x="125" y="10519"/>
                </a:lnTo>
                <a:arcTo wR="21600" hR="9499" stAng="-10636760" swAng="5236760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TextBox 10"/>
          <p:cNvGrpSpPr/>
          <p:nvPr/>
        </p:nvGrpSpPr>
        <p:grpSpPr>
          <a:xfrm>
            <a:off x="2225520" y="5108400"/>
            <a:ext cx="6046920" cy="822600"/>
            <a:chOff x="2225520" y="5108400"/>
            <a:chExt cx="6046920" cy="822600"/>
          </a:xfrm>
        </p:grpSpPr>
        <p:pic>
          <p:nvPicPr>
            <p:cNvPr id="220" name="TextBox 10" descr=""/>
            <p:cNvPicPr/>
            <p:nvPr/>
          </p:nvPicPr>
          <p:blipFill>
            <a:blip r:embed="rId7"/>
            <a:stretch/>
          </p:blipFill>
          <p:spPr>
            <a:xfrm>
              <a:off x="2225520" y="5108400"/>
              <a:ext cx="604692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320920" y="5178600"/>
              <a:ext cx="5859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ўвага.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некаторых выпадках выклічнікі выступаюць у ролі ўзмацняльных часціц і тады знакамі прыпынку не выдзяляюцц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у чым я табе замінаю? (М. Паслядовіч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9"/>
          <p:cNvSpPr/>
          <p:nvPr/>
        </p:nvSpPr>
        <p:spPr>
          <a:xfrm>
            <a:off x="1143000" y="928800"/>
            <a:ext cx="1071720" cy="492912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1111680 h 4929120"/>
              <a:gd name="textAreaBottom" fmla="*/ 3713040 h 492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44" stAng="-5400000" swAng="-5400000"/>
                <a:lnTo>
                  <a:pt x="0" y="11399"/>
                </a:lnTo>
                <a:arcTo wR="21600" hR="9744" stAng="10800000" swAng="-3054732"/>
                <a:lnTo>
                  <a:pt x="14168" y="21005"/>
                </a:lnTo>
                <a:lnTo>
                  <a:pt x="21600" y="20316"/>
                </a:lnTo>
                <a:lnTo>
                  <a:pt x="14168" y="18436"/>
                </a:lnTo>
                <a:lnTo>
                  <a:pt x="14168" y="18893"/>
                </a:lnTo>
                <a:arcTo wR="21600" hR="9744" stAng="7745268" swAng="2922619"/>
                <a:lnTo>
                  <a:pt x="78" y="10571"/>
                </a:lnTo>
                <a:arcTo wR="21600" hR="9744" stAng="-10667887" swAng="5267887"/>
                <a:close/>
              </a:path>
              <a:path fill="darkenLess" w="21600" h="21600">
                <a:moveTo>
                  <a:pt x="21600" y="0"/>
                </a:moveTo>
                <a:arcTo wR="21600" hR="9744" stAng="-5400000" swAng="-5400000"/>
                <a:lnTo>
                  <a:pt x="0" y="9744"/>
                </a:lnTo>
                <a:arcTo wR="21600" hR="9744" stAng="10800000" swAng="-132113"/>
                <a:lnTo>
                  <a:pt x="78" y="10571"/>
                </a:lnTo>
                <a:arcTo wR="21600" hR="9744" stAng="-10667887" swAng="5267887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8:47:42Z</dcterms:created>
  <dc:creator>solahitdinova</dc:creator>
  <dc:description/>
  <dc:language>en-US</dc:language>
  <cp:lastModifiedBy>solahitdinova</cp:lastModifiedBy>
  <dcterms:modified xsi:type="dcterms:W3CDTF">2009-08-11T10:57:57Z</dcterms:modified>
  <cp:revision>44</cp:revision>
  <dc:subject/>
  <dc:title>Слайд 1</dc:title>
</cp:coreProperties>
</file>