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6FBF-5A58-45ED-868C-F10EF3C8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72F4-9AC0-4407-8BEB-506E2A4E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A24C-330D-45EE-AD74-FE2621EC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C2AA-4707-4631-86E8-34E7E44B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F481-3BD2-47A0-98B1-0AAE6F95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391E-8BB6-43D2-B5F6-6CE9228B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DEE4-BF1C-47AC-BAA6-C498D39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7CF-9A37-40B5-8F4D-E15219D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2322-BA68-416B-9EB6-07B4A26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8D93-C96B-4820-932A-B5D18B2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483B-7957-462C-8636-ACE5146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3CD09-A47F-4503-9949-81E93B53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FF67-EC75-4448-B833-A8F855F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A4FD-272C-4451-95E2-CCC99FA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BAF9-C521-479B-A66B-83A75470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F79-FA3C-466C-B170-2D4DA890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EBD5-29FB-4E5F-B52D-23A50555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8D92A-16F9-443A-9BBE-1201521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0C0F-F1EB-4FA8-B935-C0B402E0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D89B-2B10-4B59-8604-2331BFB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4543-E713-4158-9D0E-18B9A30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0DD1-E198-4B18-ACC2-95A1E34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EB03-CDE7-49DC-8010-B5C509AB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BBBC-EFE8-4B4D-B52D-7C16393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613-41B9-476C-A86C-4041E49B32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7AE-5EE2-4D14-92E3-9F43297D97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352520" y="3449520"/>
            <a:ext cx="6151680" cy="25369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060640" y="549360"/>
            <a:ext cx="441936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2" name="Схема 4" descr=""/>
          <p:cNvPicPr/>
          <p:nvPr/>
        </p:nvPicPr>
        <p:blipFill>
          <a:blip r:embed="rId3"/>
          <a:stretch/>
        </p:blipFill>
        <p:spPr>
          <a:xfrm>
            <a:off x="1225440" y="603360"/>
            <a:ext cx="7309080" cy="61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0" descr="logo 21"/>
          <p:cNvPicPr/>
          <p:nvPr/>
        </p:nvPicPr>
        <p:blipFill>
          <a:blip r:embed="rId1"/>
          <a:stretch/>
        </p:blipFill>
        <p:spPr>
          <a:xfrm>
            <a:off x="6138720" y="6066000"/>
            <a:ext cx="3011760" cy="798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928800" y="642960"/>
            <a:ext cx="720072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араўнальнымі зваротамі называюцца словы і словазлучэнні, якія шлях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араўнання раскрываюць і ўдакладняюць змест усяго выказвання або пэўн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члена сказа і ўключаюцца ў сказ пры дапамозе злучнікаў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, нібы, бы, быцца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 быццам, што, усё роўна як, усё роўна што, як бы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і інш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000080" y="2071800"/>
            <a:ext cx="720108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склад параўнальных зваротаў можа ўваходзіць адно самастойнае сл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азоўнік, лічэбнік, прыслоўе, дзеяслоў) ці сплучэнне слоў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окры водар белага бэзу, кветкі-гроны, як вінаград, ветрык весні, ветрык-гарэза ўс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трасе і тузае сад. (У. Караткеві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аска, як русалчына луска, на вадзе ад месяца гарыць. (У. Караткеві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І вось на галінках гараць яблыкі, быццам чырвонагрудыя зяблікі. (М. Та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000080" y="3857760"/>
            <a:ext cx="728676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араўнальнымі зваротамі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лічацца фразеалагізмы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якія ў сказе выконваюц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функцыю акалічнасц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[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ўлінка:</a:t>
            </a:r>
            <a:r>
              <a:rPr b="1" i="1" lang="en-US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]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Што ж гэта, пан Адольф, надуўся як мыш на крупы або я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апошняе ў печ усыпаўшы. (Я. Купа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000080" y="5072040"/>
            <a:ext cx="7201080" cy="1079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е з’яўляюцца параўнальнымі зваротамі і словы са злучнікам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што ўваходзяц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склад выказні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гэтыя хвіліны яна для яго як маці. (І. Навумен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6" descr=""/>
          <p:cNvPicPr/>
          <p:nvPr/>
        </p:nvPicPr>
        <p:blipFill>
          <a:blip r:embed="rId3"/>
          <a:stretch/>
        </p:blipFill>
        <p:spPr>
          <a:xfrm>
            <a:off x="2511360" y="517680"/>
            <a:ext cx="3975120" cy="65232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4"/>
          <a:stretch/>
        </p:blipFill>
        <p:spPr>
          <a:xfrm>
            <a:off x="512640" y="1736640"/>
            <a:ext cx="3973680" cy="4334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8" descr=""/>
          <p:cNvPicPr/>
          <p:nvPr/>
        </p:nvPicPr>
        <p:blipFill>
          <a:blip r:embed="rId5"/>
          <a:stretch/>
        </p:blipFill>
        <p:spPr>
          <a:xfrm>
            <a:off x="4511520" y="1736640"/>
            <a:ext cx="3973680" cy="433440"/>
          </a:xfrm>
          <a:prstGeom prst="rect">
            <a:avLst/>
          </a:prstGeom>
          <a:ln w="0">
            <a:noFill/>
          </a:ln>
        </p:spPr>
      </p:pic>
      <p:grpSp>
        <p:nvGrpSpPr>
          <p:cNvPr id="124" name="TextBox 9"/>
          <p:cNvGrpSpPr/>
          <p:nvPr/>
        </p:nvGrpSpPr>
        <p:grpSpPr>
          <a:xfrm>
            <a:off x="725400" y="2676600"/>
            <a:ext cx="3402000" cy="2279520"/>
            <a:chOff x="725400" y="2676600"/>
            <a:chExt cx="3402000" cy="2279520"/>
          </a:xfrm>
        </p:grpSpPr>
        <p:pic>
          <p:nvPicPr>
            <p:cNvPr id="125" name="TextBox 9" descr=""/>
            <p:cNvPicPr/>
            <p:nvPr/>
          </p:nvPicPr>
          <p:blipFill>
            <a:blip r:embed="rId6"/>
            <a:stretch/>
          </p:blipFill>
          <p:spPr>
            <a:xfrm>
              <a:off x="725400" y="2676600"/>
              <a:ext cx="340200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85880" y="2714760"/>
              <a:ext cx="328608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упастаўляюцца два прадметныя паняцці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сновай такіх параўнанняў становяцца падобныя ці блізкія прыметы прадметаў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Такія звароты вельмі часта ўжываюцца ў мове мастацкіх твораў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Бы загарпунены кіт, сейнер кідаецца ў бакі. (Р. Барадулін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нямелы ад страху, бледны як палатно, паплёўся Грыша з салдатам. (Я. Кол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TextBox 10"/>
          <p:cNvGrpSpPr/>
          <p:nvPr/>
        </p:nvGrpSpPr>
        <p:grpSpPr>
          <a:xfrm>
            <a:off x="4797360" y="2676600"/>
            <a:ext cx="3419640" cy="2876400"/>
            <a:chOff x="4797360" y="2676600"/>
            <a:chExt cx="3419640" cy="2876400"/>
          </a:xfrm>
        </p:grpSpPr>
        <p:pic>
          <p:nvPicPr>
            <p:cNvPr id="128" name="TextBox 10" descr=""/>
            <p:cNvPicPr/>
            <p:nvPr/>
          </p:nvPicPr>
          <p:blipFill>
            <a:blip r:embed="rId7"/>
            <a:stretch/>
          </p:blipFill>
          <p:spPr>
            <a:xfrm>
              <a:off x="4797360" y="2676600"/>
              <a:ext cx="341964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857840" y="2714760"/>
              <a:ext cx="3286080" cy="27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 маюць метафарычнасці, падкрэсліваюць адпаведнасць прымет або дзеянняў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ідзе так лёгка не дыхаецца, як у лесе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Я. Маўр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к заўсёды, цягнік прыбыў на станцыю па графіку. (М. Лынько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раўнальна-раўналежныя звароты не могуць звязвацца злучнікам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ібы, бы, нібыта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інш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этыя звароты не могуць мець мадальнага значэння, таму што не выражаюць умоўнасці або меркавання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0" name="Прямая со стрелкой 12"/>
          <p:cNvCxnSpPr/>
          <p:nvPr/>
        </p:nvCxnSpPr>
        <p:spPr>
          <a:xfrm>
            <a:off x="4429080" y="1285560"/>
            <a:ext cx="1929600" cy="4294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1" name="Прямая со стрелкой 15"/>
          <p:cNvCxnSpPr/>
          <p:nvPr/>
        </p:nvCxnSpPr>
        <p:spPr>
          <a:xfrm flipH="1">
            <a:off x="2642400" y="1284840"/>
            <a:ext cx="1786680" cy="4294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2" name="Прямая со стрелкой 17"/>
          <p:cNvCxnSpPr/>
          <p:nvPr/>
        </p:nvCxnSpPr>
        <p:spPr>
          <a:xfrm flipH="1">
            <a:off x="2569320" y="2214360"/>
            <a:ext cx="252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3" name="Прямая со стрелкой 26"/>
          <p:cNvCxnSpPr/>
          <p:nvPr/>
        </p:nvCxnSpPr>
        <p:spPr>
          <a:xfrm flipH="1">
            <a:off x="6357600" y="2214360"/>
            <a:ext cx="216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36" name="TextBox 11"/>
          <p:cNvGrpSpPr/>
          <p:nvPr/>
        </p:nvGrpSpPr>
        <p:grpSpPr>
          <a:xfrm>
            <a:off x="2152800" y="1889280"/>
            <a:ext cx="6046560" cy="622080"/>
            <a:chOff x="2152800" y="1889280"/>
            <a:chExt cx="6046560" cy="622080"/>
          </a:xfrm>
        </p:grpSpPr>
        <p:pic>
          <p:nvPicPr>
            <p:cNvPr id="137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1889280"/>
              <a:ext cx="6046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239920" y="195408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калічнасці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озера невымернай глыбіні, як іртуць, паблісквае ў гарах. (А. Звона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TextBox 12"/>
          <p:cNvGrpSpPr/>
          <p:nvPr/>
        </p:nvGrpSpPr>
        <p:grpSpPr>
          <a:xfrm>
            <a:off x="2152800" y="2676600"/>
            <a:ext cx="6046560" cy="620640"/>
            <a:chOff x="2152800" y="2676600"/>
            <a:chExt cx="6046560" cy="620640"/>
          </a:xfrm>
        </p:grpSpPr>
        <p:pic>
          <p:nvPicPr>
            <p:cNvPr id="140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2676600"/>
              <a:ext cx="60465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239920" y="273996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казнік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очы – нібы дзве чарэшні ў дождж. (А . Карпю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TextBox 14"/>
          <p:cNvGrpSpPr/>
          <p:nvPr/>
        </p:nvGrpSpPr>
        <p:grpSpPr>
          <a:xfrm>
            <a:off x="2152800" y="3462480"/>
            <a:ext cx="6046560" cy="828360"/>
            <a:chOff x="2152800" y="3462480"/>
            <a:chExt cx="6046560" cy="828360"/>
          </a:xfrm>
        </p:grpSpPr>
        <p:pic>
          <p:nvPicPr>
            <p:cNvPr id="143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3462480"/>
              <a:ext cx="60465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49640" y="353520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значэнн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Маладая шышка на елцы зробіцца такой, нібыта грэбень пеўня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А. Бялевіч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TextBox 15"/>
          <p:cNvGrpSpPr/>
          <p:nvPr/>
        </p:nvGrpSpPr>
        <p:grpSpPr>
          <a:xfrm>
            <a:off x="2152800" y="4395960"/>
            <a:ext cx="6046560" cy="614160"/>
            <a:chOff x="2152800" y="4395960"/>
            <a:chExt cx="6046560" cy="614160"/>
          </a:xfrm>
        </p:grpSpPr>
        <p:pic>
          <p:nvPicPr>
            <p:cNvPr id="146" name="TextBox 15" descr=""/>
            <p:cNvPicPr/>
            <p:nvPr/>
          </p:nvPicPr>
          <p:blipFill>
            <a:blip r:embed="rId6"/>
            <a:stretch/>
          </p:blipFill>
          <p:spPr>
            <a:xfrm>
              <a:off x="2152800" y="4395960"/>
              <a:ext cx="60465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239920" y="445464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ыдатк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к пастух, паўночны вецер падганяе ключ гусей. (М. Хведаровіч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TextBox 17"/>
          <p:cNvGrpSpPr/>
          <p:nvPr/>
        </p:nvGrpSpPr>
        <p:grpSpPr>
          <a:xfrm>
            <a:off x="2225520" y="1249200"/>
            <a:ext cx="4827600" cy="603360"/>
            <a:chOff x="2225520" y="1249200"/>
            <a:chExt cx="4827600" cy="603360"/>
          </a:xfrm>
        </p:grpSpPr>
        <p:pic>
          <p:nvPicPr>
            <p:cNvPr id="149" name="TextBox 17" descr=""/>
            <p:cNvPicPr/>
            <p:nvPr/>
          </p:nvPicPr>
          <p:blipFill>
            <a:blip r:embed="rId7"/>
            <a:stretch/>
          </p:blipFill>
          <p:spPr>
            <a:xfrm>
              <a:off x="2225520" y="1249200"/>
              <a:ext cx="48276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286000" y="1285920"/>
              <a:ext cx="4714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раўнальныя звароты могуць выконваць у сказе</a:t>
              </a: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функцыю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9"/>
          <p:cNvSpPr/>
          <p:nvPr/>
        </p:nvSpPr>
        <p:spPr>
          <a:xfrm>
            <a:off x="915840" y="1411200"/>
            <a:ext cx="1227240" cy="266076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57280 h 2660760"/>
              <a:gd name="textAreaBottom" fmla="*/ 1959480 h 266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7" stAng="-5400000" swAng="-5400000"/>
                <a:lnTo>
                  <a:pt x="0" y="11384"/>
                </a:lnTo>
                <a:arcTo wR="21600" hR="9047" stAng="10800000" swAng="-3154455"/>
                <a:lnTo>
                  <a:pt x="15007" y="21168"/>
                </a:lnTo>
                <a:lnTo>
                  <a:pt x="21600" y="19263"/>
                </a:lnTo>
                <a:lnTo>
                  <a:pt x="15007" y="16493"/>
                </a:lnTo>
                <a:lnTo>
                  <a:pt x="15007" y="17662"/>
                </a:lnTo>
                <a:arcTo wR="21600" hR="9047" stAng="7645545" swAng="2967098"/>
                <a:lnTo>
                  <a:pt x="181" y="10216"/>
                </a:lnTo>
                <a:arcTo wR="21600" hR="9047" stAng="-10612642" swAng="5212642"/>
                <a:close/>
              </a:path>
              <a:path fill="darkenLess" w="21600" h="21600">
                <a:moveTo>
                  <a:pt x="21600" y="0"/>
                </a:moveTo>
                <a:arcTo wR="21600" hR="9047" stAng="-5400000" swAng="-5400000"/>
                <a:lnTo>
                  <a:pt x="0" y="9047"/>
                </a:lnTo>
                <a:arcTo wR="21600" hR="9047" stAng="10800000" swAng="-187358"/>
                <a:lnTo>
                  <a:pt x="181" y="10216"/>
                </a:lnTo>
                <a:arcTo wR="21600" hR="9047" stAng="-10612642" swAng="521264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923760" y="1401840"/>
            <a:ext cx="1219320" cy="35272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77960 h 3527280"/>
              <a:gd name="textAreaBottom" fmla="*/ 2620440 h 35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29" stAng="-5400000" swAng="-5400000"/>
                <a:lnTo>
                  <a:pt x="0" y="11282"/>
                </a:lnTo>
                <a:arcTo wR="21600" hR="9529" stAng="10800000" swAng="-3077432"/>
                <a:lnTo>
                  <a:pt x="14400" y="21055"/>
                </a:lnTo>
                <a:lnTo>
                  <a:pt x="21600" y="19935"/>
                </a:lnTo>
                <a:lnTo>
                  <a:pt x="14400" y="17724"/>
                </a:lnTo>
                <a:lnTo>
                  <a:pt x="14400" y="18513"/>
                </a:lnTo>
                <a:arcTo wR="21600" hR="9529" stAng="7722568" swAng="2937416"/>
                <a:lnTo>
                  <a:pt x="92" y="10406"/>
                </a:lnTo>
                <a:arcTo wR="21600" hR="9529" stAng="-10659984" swAng="5259984"/>
                <a:close/>
              </a:path>
              <a:path fill="darkenLess" w="21600" h="21600">
                <a:moveTo>
                  <a:pt x="21600" y="0"/>
                </a:moveTo>
                <a:arcTo wR="21600" hR="9529" stAng="-5400000" swAng="-5400000"/>
                <a:lnTo>
                  <a:pt x="0" y="9529"/>
                </a:lnTo>
                <a:arcTo wR="21600" hR="9529" stAng="10800000" swAng="-140016"/>
                <a:lnTo>
                  <a:pt x="92" y="10406"/>
                </a:lnTo>
                <a:arcTo wR="21600" hR="9529" stAng="-10659984" swAng="525998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317400">
            <a:off x="998280" y="1352160"/>
            <a:ext cx="1125360" cy="109872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82160 h 1098720"/>
              <a:gd name="textAreaBottom" fmla="*/ 80496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641868"/>
                <a:lnTo>
                  <a:pt x="14584" y="21211"/>
                </a:lnTo>
                <a:lnTo>
                  <a:pt x="21600" y="16878"/>
                </a:lnTo>
                <a:lnTo>
                  <a:pt x="14584" y="11766"/>
                </a:lnTo>
                <a:lnTo>
                  <a:pt x="14584" y="13954"/>
                </a:lnTo>
                <a:arcTo wR="21600" hR="7172" stAng="8158132" swAng="2212903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 rot="317400">
            <a:off x="912960" y="1409400"/>
            <a:ext cx="1204920" cy="180180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355320 h 1801800"/>
              <a:gd name="textAreaBottom" fmla="*/ 1317600 h 18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6" stAng="-5400000" swAng="-5400000"/>
                <a:lnTo>
                  <a:pt x="0" y="11533"/>
                </a:lnTo>
                <a:arcTo wR="21600" hR="8526" stAng="10800000" swAng="-2792942"/>
                <a:lnTo>
                  <a:pt x="14035" y="21060"/>
                </a:lnTo>
                <a:lnTo>
                  <a:pt x="21600" y="18555"/>
                </a:lnTo>
                <a:lnTo>
                  <a:pt x="14035" y="14969"/>
                </a:lnTo>
                <a:lnTo>
                  <a:pt x="14035" y="16511"/>
                </a:lnTo>
                <a:arcTo wR="21600" hR="8526" stAng="8007058" swAng="2550246"/>
                <a:lnTo>
                  <a:pt x="339" y="10029"/>
                </a:lnTo>
                <a:arcTo wR="21600" hR="8526" stAng="-10557304" swAng="5157304"/>
                <a:close/>
              </a:path>
              <a:path fill="darkenLess" w="21600" h="21600">
                <a:moveTo>
                  <a:pt x="21600" y="0"/>
                </a:moveTo>
                <a:arcTo wR="21600" hR="8526" stAng="-5400000" swAng="-5400000"/>
                <a:lnTo>
                  <a:pt x="0" y="8526"/>
                </a:lnTo>
                <a:arcTo wR="21600" hR="8526" stAng="10800000" swAng="-242696"/>
                <a:lnTo>
                  <a:pt x="339" y="10029"/>
                </a:lnTo>
                <a:arcTo wR="21600" hR="8526" stAng="-10557304" swAng="515730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4" descr=""/>
          <p:cNvPicPr/>
          <p:nvPr/>
        </p:nvPicPr>
        <p:blipFill>
          <a:blip r:embed="rId3"/>
          <a:stretch/>
        </p:blipFill>
        <p:spPr>
          <a:xfrm>
            <a:off x="2511360" y="365040"/>
            <a:ext cx="354168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5" descr=""/>
          <p:cNvPicPr/>
          <p:nvPr/>
        </p:nvPicPr>
        <p:blipFill>
          <a:blip r:embed="rId4"/>
          <a:stretch/>
        </p:blipFill>
        <p:spPr>
          <a:xfrm>
            <a:off x="365040" y="1225440"/>
            <a:ext cx="2116080" cy="47484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6" descr=""/>
          <p:cNvPicPr/>
          <p:nvPr/>
        </p:nvPicPr>
        <p:blipFill>
          <a:blip r:embed="rId5"/>
          <a:stretch/>
        </p:blipFill>
        <p:spPr>
          <a:xfrm>
            <a:off x="6583320" y="1225440"/>
            <a:ext cx="2116080" cy="474840"/>
          </a:xfrm>
          <a:prstGeom prst="rect">
            <a:avLst/>
          </a:prstGeom>
          <a:ln w="0">
            <a:noFill/>
          </a:ln>
        </p:spPr>
      </p:pic>
      <p:grpSp>
        <p:nvGrpSpPr>
          <p:cNvPr id="160" name="TextBox 7"/>
          <p:cNvGrpSpPr/>
          <p:nvPr/>
        </p:nvGrpSpPr>
        <p:grpSpPr>
          <a:xfrm>
            <a:off x="652320" y="1749600"/>
            <a:ext cx="1762200" cy="426960"/>
            <a:chOff x="652320" y="1749600"/>
            <a:chExt cx="1762200" cy="426960"/>
          </a:xfrm>
        </p:grpSpPr>
        <p:pic>
          <p:nvPicPr>
            <p:cNvPr id="161" name="TextBox 7" descr=""/>
            <p:cNvPicPr/>
            <p:nvPr/>
          </p:nvPicPr>
          <p:blipFill>
            <a:blip r:embed="rId6"/>
            <a:stretch/>
          </p:blipFill>
          <p:spPr>
            <a:xfrm>
              <a:off x="652320" y="1749600"/>
              <a:ext cx="17622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14240" y="178596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оўні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TextBox 8"/>
          <p:cNvGrpSpPr/>
          <p:nvPr/>
        </p:nvGrpSpPr>
        <p:grpSpPr>
          <a:xfrm>
            <a:off x="652320" y="2462040"/>
            <a:ext cx="1762200" cy="433440"/>
            <a:chOff x="652320" y="2462040"/>
            <a:chExt cx="1762200" cy="433440"/>
          </a:xfrm>
        </p:grpSpPr>
        <p:pic>
          <p:nvPicPr>
            <p:cNvPr id="164" name="TextBox 8" descr=""/>
            <p:cNvPicPr/>
            <p:nvPr/>
          </p:nvPicPr>
          <p:blipFill>
            <a:blip r:embed="rId7"/>
            <a:stretch/>
          </p:blipFill>
          <p:spPr>
            <a:xfrm>
              <a:off x="652320" y="2462040"/>
              <a:ext cx="17622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714240" y="250020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метні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TextBox 9"/>
          <p:cNvGrpSpPr/>
          <p:nvPr/>
        </p:nvGrpSpPr>
        <p:grpSpPr>
          <a:xfrm>
            <a:off x="652320" y="3176640"/>
            <a:ext cx="1762200" cy="431640"/>
            <a:chOff x="652320" y="3176640"/>
            <a:chExt cx="1762200" cy="431640"/>
          </a:xfrm>
        </p:grpSpPr>
        <p:pic>
          <p:nvPicPr>
            <p:cNvPr id="167" name="TextBox 9" descr=""/>
            <p:cNvPicPr/>
            <p:nvPr/>
          </p:nvPicPr>
          <p:blipFill>
            <a:blip r:embed="rId8"/>
            <a:stretch/>
          </p:blipFill>
          <p:spPr>
            <a:xfrm>
              <a:off x="652320" y="3176640"/>
              <a:ext cx="17622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14240" y="321480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айменні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TextBox 10"/>
          <p:cNvGrpSpPr/>
          <p:nvPr/>
        </p:nvGrpSpPr>
        <p:grpSpPr>
          <a:xfrm>
            <a:off x="652320" y="3889440"/>
            <a:ext cx="1762200" cy="433440"/>
            <a:chOff x="652320" y="3889440"/>
            <a:chExt cx="1762200" cy="433440"/>
          </a:xfrm>
        </p:grpSpPr>
        <p:pic>
          <p:nvPicPr>
            <p:cNvPr id="170" name="TextBox 10" descr=""/>
            <p:cNvPicPr/>
            <p:nvPr/>
          </p:nvPicPr>
          <p:blipFill>
            <a:blip r:embed="rId9"/>
            <a:stretch/>
          </p:blipFill>
          <p:spPr>
            <a:xfrm>
              <a:off x="652320" y="3889440"/>
              <a:ext cx="17622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14240" y="392904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зеясло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TextBox 11"/>
          <p:cNvGrpSpPr/>
          <p:nvPr/>
        </p:nvGrpSpPr>
        <p:grpSpPr>
          <a:xfrm>
            <a:off x="652320" y="4675320"/>
            <a:ext cx="1762200" cy="433080"/>
            <a:chOff x="652320" y="4675320"/>
            <a:chExt cx="1762200" cy="433080"/>
          </a:xfrm>
        </p:grpSpPr>
        <p:pic>
          <p:nvPicPr>
            <p:cNvPr id="173" name="TextBox 11" descr=""/>
            <p:cNvPicPr/>
            <p:nvPr/>
          </p:nvPicPr>
          <p:blipFill>
            <a:blip r:embed="rId10"/>
            <a:stretch/>
          </p:blipFill>
          <p:spPr>
            <a:xfrm>
              <a:off x="652320" y="4675320"/>
              <a:ext cx="176220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14240" y="471492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слоў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Прямоугольник с двумя вырезанными противолежащими углами 12"/>
          <p:cNvGrpSpPr/>
          <p:nvPr/>
        </p:nvGrpSpPr>
        <p:grpSpPr>
          <a:xfrm>
            <a:off x="2651040" y="1676520"/>
            <a:ext cx="3262320" cy="622080"/>
            <a:chOff x="2651040" y="1676520"/>
            <a:chExt cx="3262320" cy="622080"/>
          </a:xfrm>
        </p:grpSpPr>
        <p:pic>
          <p:nvPicPr>
            <p:cNvPr id="176" name="Прямоугольник с двумя вырезанными противолежащими углами 12" descr=""/>
            <p:cNvPicPr/>
            <p:nvPr/>
          </p:nvPicPr>
          <p:blipFill>
            <a:blip r:embed="rId11"/>
            <a:stretch/>
          </p:blipFill>
          <p:spPr>
            <a:xfrm>
              <a:off x="2651040" y="1676520"/>
              <a:ext cx="32623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755800" y="1755720"/>
              <a:ext cx="30607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Каля гумна стаяць, як вежы, стагі саломы і кармоў. (Я. Кол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Прямоугольник с двумя вырезанными противолежащими углами 13"/>
          <p:cNvGrpSpPr/>
          <p:nvPr/>
        </p:nvGrpSpPr>
        <p:grpSpPr>
          <a:xfrm>
            <a:off x="2651040" y="2389320"/>
            <a:ext cx="3262320" cy="622080"/>
            <a:chOff x="2651040" y="2389320"/>
            <a:chExt cx="3262320" cy="622080"/>
          </a:xfrm>
        </p:grpSpPr>
        <p:pic>
          <p:nvPicPr>
            <p:cNvPr id="179" name="Прямоугольник с двумя вырезанными противолежащими углами 13" descr=""/>
            <p:cNvPicPr/>
            <p:nvPr/>
          </p:nvPicPr>
          <p:blipFill>
            <a:blip r:embed="rId12"/>
            <a:stretch/>
          </p:blipFill>
          <p:spPr>
            <a:xfrm>
              <a:off x="2651040" y="2389320"/>
              <a:ext cx="32623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755800" y="2470320"/>
              <a:ext cx="3060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Снег пад нагамі скрыпіць, як жывы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(З. Бядуля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Прямоугольник с двумя вырезанными противолежащими углами 14"/>
          <p:cNvGrpSpPr/>
          <p:nvPr/>
        </p:nvGrpSpPr>
        <p:grpSpPr>
          <a:xfrm>
            <a:off x="2651040" y="3108240"/>
            <a:ext cx="3262320" cy="622440"/>
            <a:chOff x="2651040" y="3108240"/>
            <a:chExt cx="3262320" cy="622440"/>
          </a:xfrm>
        </p:grpSpPr>
        <p:pic>
          <p:nvPicPr>
            <p:cNvPr id="182" name="Прямоугольник с двумя вырезанными противолежащими углами 14" descr=""/>
            <p:cNvPicPr/>
            <p:nvPr/>
          </p:nvPicPr>
          <p:blipFill>
            <a:blip r:embed="rId13"/>
            <a:stretch/>
          </p:blipFill>
          <p:spPr>
            <a:xfrm>
              <a:off x="2651040" y="3108240"/>
              <a:ext cx="32623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755800" y="3184560"/>
              <a:ext cx="30607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Асцярога і асцярожнасць ужо іх прытаміла, як і мяне. (Ф. Янкоўс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Прямоугольник с двумя вырезанными противолежащими углами 15"/>
          <p:cNvGrpSpPr/>
          <p:nvPr/>
        </p:nvGrpSpPr>
        <p:grpSpPr>
          <a:xfrm>
            <a:off x="2651040" y="3822840"/>
            <a:ext cx="3262320" cy="620640"/>
            <a:chOff x="2651040" y="3822840"/>
            <a:chExt cx="3262320" cy="620640"/>
          </a:xfrm>
        </p:grpSpPr>
        <p:pic>
          <p:nvPicPr>
            <p:cNvPr id="185" name="Прямоугольник с двумя вырезанными противолежащими углами 15" descr=""/>
            <p:cNvPicPr/>
            <p:nvPr/>
          </p:nvPicPr>
          <p:blipFill>
            <a:blip r:embed="rId14"/>
            <a:stretch/>
          </p:blipFill>
          <p:spPr>
            <a:xfrm>
              <a:off x="2651040" y="3822840"/>
              <a:ext cx="326232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755800" y="3898800"/>
              <a:ext cx="30607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Мы свае ім пелі песні, як маглі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(П. Пан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Прямоугольник с двумя вырезанными противолежащими углами 16"/>
          <p:cNvGrpSpPr/>
          <p:nvPr/>
        </p:nvGrpSpPr>
        <p:grpSpPr>
          <a:xfrm>
            <a:off x="2651040" y="4535640"/>
            <a:ext cx="3262320" cy="761760"/>
            <a:chOff x="2651040" y="4535640"/>
            <a:chExt cx="3262320" cy="761760"/>
          </a:xfrm>
        </p:grpSpPr>
        <p:pic>
          <p:nvPicPr>
            <p:cNvPr id="188" name="Прямоугольник с двумя вырезанными противолежащими углами 16" descr=""/>
            <p:cNvPicPr/>
            <p:nvPr/>
          </p:nvPicPr>
          <p:blipFill>
            <a:blip r:embed="rId15"/>
            <a:stretch/>
          </p:blipFill>
          <p:spPr>
            <a:xfrm>
              <a:off x="2651040" y="4535640"/>
              <a:ext cx="32623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768760" y="4626000"/>
              <a:ext cx="30351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Ён хутка, нібы спалохана, абапіраецца рукамі на голле і ўстае. (А. Кулакоўс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TextBox 17"/>
          <p:cNvGrpSpPr/>
          <p:nvPr/>
        </p:nvGrpSpPr>
        <p:grpSpPr>
          <a:xfrm>
            <a:off x="6797520" y="2036880"/>
            <a:ext cx="1760760" cy="950760"/>
            <a:chOff x="6797520" y="2036880"/>
            <a:chExt cx="1760760" cy="950760"/>
          </a:xfrm>
        </p:grpSpPr>
        <p:pic>
          <p:nvPicPr>
            <p:cNvPr id="191" name="TextBox 17" descr=""/>
            <p:cNvPicPr/>
            <p:nvPr/>
          </p:nvPicPr>
          <p:blipFill>
            <a:blip r:embed="rId16"/>
            <a:stretch/>
          </p:blipFill>
          <p:spPr>
            <a:xfrm>
              <a:off x="6797520" y="2036880"/>
              <a:ext cx="176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858000" y="2071800"/>
              <a:ext cx="1643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оўні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залежныя ад яго слоў іншых часцін мов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Прямоугольник с двумя вырезанными противолежащими углами 18"/>
          <p:cNvGrpSpPr/>
          <p:nvPr/>
        </p:nvGrpSpPr>
        <p:grpSpPr>
          <a:xfrm>
            <a:off x="6083280" y="3535200"/>
            <a:ext cx="2975040" cy="1335240"/>
            <a:chOff x="6083280" y="3535200"/>
            <a:chExt cx="2975040" cy="1335240"/>
          </a:xfrm>
        </p:grpSpPr>
        <p:pic>
          <p:nvPicPr>
            <p:cNvPr id="194" name="Прямоугольник с двумя вырезанными противолежащими углами 18" descr=""/>
            <p:cNvPicPr/>
            <p:nvPr/>
          </p:nvPicPr>
          <p:blipFill>
            <a:blip r:embed="rId17"/>
            <a:stretch/>
          </p:blipFill>
          <p:spPr>
            <a:xfrm>
              <a:off x="6083280" y="3535200"/>
              <a:ext cx="29750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6245280" y="3673440"/>
              <a:ext cx="26542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льны такія белыя –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 лебядзіны пух.</a:t>
              </a: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М. Калачынс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елыя бярозы дымяцца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 няцэджаны сырадой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Р. Барадулін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TextBox 19"/>
          <p:cNvGrpSpPr/>
          <p:nvPr/>
        </p:nvGrpSpPr>
        <p:grpSpPr>
          <a:xfrm>
            <a:off x="1152360" y="5535720"/>
            <a:ext cx="6759720" cy="1073160"/>
            <a:chOff x="1152360" y="5535720"/>
            <a:chExt cx="6759720" cy="1073160"/>
          </a:xfrm>
        </p:grpSpPr>
        <p:pic>
          <p:nvPicPr>
            <p:cNvPr id="197" name="TextBox 19" descr=""/>
            <p:cNvPicPr/>
            <p:nvPr/>
          </p:nvPicPr>
          <p:blipFill>
            <a:blip r:embed="rId18"/>
            <a:stretch/>
          </p:blipFill>
          <p:spPr>
            <a:xfrm>
              <a:off x="1152360" y="5535720"/>
              <a:ext cx="67597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1260360" y="5618160"/>
              <a:ext cx="655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раўнальныя звароты могуць паясняць любы член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 памяць сваю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ібы кнігу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гартаю. (А Астрэйка) (выказні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ніцамі вясна  сее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 брыльянт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росы. (Я. Купала) (дапаўненн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Прямая со стрелкой 21"/>
          <p:cNvCxnSpPr/>
          <p:nvPr/>
        </p:nvCxnSpPr>
        <p:spPr>
          <a:xfrm flipH="1">
            <a:off x="2071800" y="857160"/>
            <a:ext cx="207180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0" name="Прямая со стрелкой 23"/>
          <p:cNvCxnSpPr/>
          <p:nvPr/>
        </p:nvCxnSpPr>
        <p:spPr>
          <a:xfrm>
            <a:off x="4143240" y="857160"/>
            <a:ext cx="292968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201" name="Прямая соединительная линия 25"/>
          <p:cNvSpPr/>
          <p:nvPr/>
        </p:nvSpPr>
        <p:spPr>
          <a:xfrm flipH="1">
            <a:off x="428760" y="1500120"/>
            <a:ext cx="1440" cy="342900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27"/>
          <p:cNvCxnSpPr/>
          <p:nvPr/>
        </p:nvCxnSpPr>
        <p:spPr>
          <a:xfrm>
            <a:off x="428400" y="192888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3" name="Прямая со стрелкой 30"/>
          <p:cNvCxnSpPr/>
          <p:nvPr/>
        </p:nvCxnSpPr>
        <p:spPr>
          <a:xfrm>
            <a:off x="428400" y="2642760"/>
            <a:ext cx="21492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4" name="Прямая со стрелкой 34"/>
          <p:cNvCxnSpPr/>
          <p:nvPr/>
        </p:nvCxnSpPr>
        <p:spPr>
          <a:xfrm>
            <a:off x="428400" y="342900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5" name="Прямая со стрелкой 37"/>
          <p:cNvCxnSpPr/>
          <p:nvPr/>
        </p:nvCxnSpPr>
        <p:spPr>
          <a:xfrm>
            <a:off x="428400" y="4142880"/>
            <a:ext cx="21492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6" name="Прямая со стрелкой 39"/>
          <p:cNvCxnSpPr/>
          <p:nvPr/>
        </p:nvCxnSpPr>
        <p:spPr>
          <a:xfrm>
            <a:off x="428400" y="4928760"/>
            <a:ext cx="21492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7" name="Прямая со стрелкой 42"/>
          <p:cNvCxnSpPr/>
          <p:nvPr/>
        </p:nvCxnSpPr>
        <p:spPr>
          <a:xfrm>
            <a:off x="2428560" y="1999800"/>
            <a:ext cx="21492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8" name="Прямая со стрелкой 44"/>
          <p:cNvCxnSpPr/>
          <p:nvPr/>
        </p:nvCxnSpPr>
        <p:spPr>
          <a:xfrm>
            <a:off x="2428560" y="2642760"/>
            <a:ext cx="21492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9" name="Прямая со стрелкой 57"/>
          <p:cNvCxnSpPr/>
          <p:nvPr/>
        </p:nvCxnSpPr>
        <p:spPr>
          <a:xfrm>
            <a:off x="2428560" y="342900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0" name="Прямая со стрелкой 59"/>
          <p:cNvCxnSpPr/>
          <p:nvPr/>
        </p:nvCxnSpPr>
        <p:spPr>
          <a:xfrm>
            <a:off x="2428560" y="407196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1" name="Прямая со стрелкой 61"/>
          <p:cNvCxnSpPr/>
          <p:nvPr/>
        </p:nvCxnSpPr>
        <p:spPr>
          <a:xfrm>
            <a:off x="2428560" y="485784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2" name="Прямая со стрелкой 63"/>
          <p:cNvCxnSpPr/>
          <p:nvPr/>
        </p:nvCxnSpPr>
        <p:spPr>
          <a:xfrm flipH="1">
            <a:off x="7571520" y="1642680"/>
            <a:ext cx="2520" cy="4294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3" name="Прямая со стрелкой 69"/>
          <p:cNvCxnSpPr/>
          <p:nvPr/>
        </p:nvCxnSpPr>
        <p:spPr>
          <a:xfrm flipH="1">
            <a:off x="7643520" y="3000240"/>
            <a:ext cx="2160" cy="573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9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3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9"/>
          <p:cNvSpPr/>
          <p:nvPr/>
        </p:nvSpPr>
        <p:spPr>
          <a:xfrm>
            <a:off x="714240" y="2071800"/>
            <a:ext cx="1428840" cy="4357440"/>
          </a:xfrm>
          <a:custGeom>
            <a:avLst/>
            <a:gdLst>
              <a:gd name="textAreaLeft" fmla="*/ 191160 w 1428840"/>
              <a:gd name="textAreaRight" fmla="*/ 1237680 w 1428840"/>
              <a:gd name="textAreaTop" fmla="*/ 951120 h 4357440"/>
              <a:gd name="textAreaBottom" fmla="*/ 3188880 h 43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31" stAng="-5400000" swAng="-5400000"/>
                <a:lnTo>
                  <a:pt x="0" y="11092"/>
                </a:lnTo>
                <a:arcTo wR="21600" hR="9431" stAng="10800000" swAng="-3060070"/>
                <a:lnTo>
                  <a:pt x="14400" y="21061"/>
                </a:lnTo>
                <a:lnTo>
                  <a:pt x="21600" y="19693"/>
                </a:lnTo>
                <a:lnTo>
                  <a:pt x="14400" y="17246"/>
                </a:lnTo>
                <a:lnTo>
                  <a:pt x="14400" y="18323"/>
                </a:lnTo>
                <a:arcTo wR="21600" hR="9431" stAng="7739930" swAng="2927443"/>
                <a:lnTo>
                  <a:pt x="84" y="10261"/>
                </a:lnTo>
                <a:arcTo wR="21600" hR="9431" stAng="-10667372" swAng="5267372"/>
                <a:close/>
              </a:path>
              <a:path fill="darkenLess" w="21600" h="21600">
                <a:moveTo>
                  <a:pt x="21600" y="0"/>
                </a:moveTo>
                <a:arcTo wR="21600" hR="9431" stAng="-5400000" swAng="-5400000"/>
                <a:lnTo>
                  <a:pt x="0" y="9431"/>
                </a:lnTo>
                <a:arcTo wR="21600" hR="9431" stAng="10800000" swAng="-132628"/>
                <a:lnTo>
                  <a:pt x="84" y="10261"/>
                </a:lnTo>
                <a:arcTo wR="21600" hR="9431" stAng="-10667372" swAng="526737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TextBox 11"/>
          <p:cNvGrpSpPr/>
          <p:nvPr/>
        </p:nvGrpSpPr>
        <p:grpSpPr>
          <a:xfrm>
            <a:off x="2152800" y="2249640"/>
            <a:ext cx="6046560" cy="585720"/>
            <a:chOff x="2152800" y="2249640"/>
            <a:chExt cx="6046560" cy="585720"/>
          </a:xfrm>
        </p:grpSpPr>
        <p:pic>
          <p:nvPicPr>
            <p:cNvPr id="218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2249640"/>
              <a:ext cx="60465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238480" y="2309760"/>
              <a:ext cx="588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яны з’яўляюцца выказнікам або ўваходзяць у склад выказніка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ада ў рацэ нібы набрыняла свінцом. (Т. Хадке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TextBox 12"/>
          <p:cNvGrpSpPr/>
          <p:nvPr/>
        </p:nvGrpSpPr>
        <p:grpSpPr>
          <a:xfrm>
            <a:off x="2152800" y="3035160"/>
            <a:ext cx="6046560" cy="586080"/>
            <a:chOff x="2152800" y="3035160"/>
            <a:chExt cx="6046560" cy="586080"/>
          </a:xfrm>
        </p:grpSpPr>
        <p:pic>
          <p:nvPicPr>
            <p:cNvPr id="221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3035160"/>
              <a:ext cx="604656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238480" y="3095640"/>
              <a:ext cx="588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яны ўваходзяць у склад устойлівых (фразеалагічных) словазлучэнняў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н маўчаў. Сядзеў як аршын праглынуўшы. (Л. Арабей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TextBox 14"/>
          <p:cNvGrpSpPr/>
          <p:nvPr/>
        </p:nvGrpSpPr>
        <p:grpSpPr>
          <a:xfrm>
            <a:off x="2152800" y="3895560"/>
            <a:ext cx="6046560" cy="584280"/>
            <a:chOff x="2152800" y="3895560"/>
            <a:chExt cx="6046560" cy="584280"/>
          </a:xfrm>
        </p:grpSpPr>
        <p:pic>
          <p:nvPicPr>
            <p:cNvPr id="224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3895560"/>
              <a:ext cx="60465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38480" y="3952800"/>
              <a:ext cx="588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бедзве часткі параўнання выражаны адным і тым жа словам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уб стаіць як і стаяў. (В. Воль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TextBox 15"/>
          <p:cNvGrpSpPr/>
          <p:nvPr/>
        </p:nvGrpSpPr>
        <p:grpSpPr>
          <a:xfrm>
            <a:off x="2152800" y="4675320"/>
            <a:ext cx="6046560" cy="963360"/>
            <a:chOff x="2152800" y="4675320"/>
            <a:chExt cx="6046560" cy="963360"/>
          </a:xfrm>
        </p:grpSpPr>
        <p:pic>
          <p:nvPicPr>
            <p:cNvPr id="227" name="TextBox 15" descr=""/>
            <p:cNvPicPr/>
            <p:nvPr/>
          </p:nvPicPr>
          <p:blipFill>
            <a:blip r:embed="rId6"/>
            <a:stretch/>
          </p:blipFill>
          <p:spPr>
            <a:xfrm>
              <a:off x="2152800" y="4675320"/>
              <a:ext cx="60465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255760" y="4756320"/>
              <a:ext cx="58467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злучнік як звязвае неадасоблены прыдатак з паясняемым назоўнікам ці займеннікам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Чмаруцьку ведалі ўсе як чалавека з вялікай фантазіяй. (М. Лынько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раўнальны зварот тут ужыты са значэннем “у якасці”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TextBox 16"/>
          <p:cNvGrpSpPr/>
          <p:nvPr/>
        </p:nvGrpSpPr>
        <p:grpSpPr>
          <a:xfrm>
            <a:off x="2152800" y="5821200"/>
            <a:ext cx="5973480" cy="774720"/>
            <a:chOff x="2152800" y="5821200"/>
            <a:chExt cx="5973480" cy="774720"/>
          </a:xfrm>
        </p:grpSpPr>
        <p:pic>
          <p:nvPicPr>
            <p:cNvPr id="230" name="TextBox 16" descr=""/>
            <p:cNvPicPr/>
            <p:nvPr/>
          </p:nvPicPr>
          <p:blipFill>
            <a:blip r:embed="rId7"/>
            <a:stretch/>
          </p:blipFill>
          <p:spPr>
            <a:xfrm>
              <a:off x="2152800" y="5821200"/>
              <a:ext cx="59734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246400" y="5889600"/>
              <a:ext cx="5794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перад параўнальным зваротам стаяць часціцы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 (ні), амаль,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прыслоўе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усім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некаторыя размеркавальныя злучнік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ада была зусім як летняя. (В. Воль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TextBox 17"/>
          <p:cNvGrpSpPr/>
          <p:nvPr/>
        </p:nvGrpSpPr>
        <p:grpSpPr>
          <a:xfrm>
            <a:off x="2225520" y="1676520"/>
            <a:ext cx="4827600" cy="420480"/>
            <a:chOff x="2225520" y="1676520"/>
            <a:chExt cx="4827600" cy="420480"/>
          </a:xfrm>
        </p:grpSpPr>
        <p:pic>
          <p:nvPicPr>
            <p:cNvPr id="233" name="TextBox 17" descr=""/>
            <p:cNvPicPr/>
            <p:nvPr/>
          </p:nvPicPr>
          <p:blipFill>
            <a:blip r:embed="rId8"/>
            <a:stretch/>
          </p:blipFill>
          <p:spPr>
            <a:xfrm>
              <a:off x="2225520" y="1676520"/>
              <a:ext cx="48276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286000" y="1714680"/>
              <a:ext cx="47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ўнальныя звароты не адасабляюцц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AutoShape 9"/>
          <p:cNvSpPr/>
          <p:nvPr/>
        </p:nvSpPr>
        <p:spPr>
          <a:xfrm>
            <a:off x="915840" y="1982880"/>
            <a:ext cx="1227240" cy="251784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21280 h 2517840"/>
              <a:gd name="textAreaBottom" fmla="*/ 1852560 h 251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48" stAng="-5400000" swAng="-5400000"/>
                <a:lnTo>
                  <a:pt x="0" y="11418"/>
                </a:lnTo>
                <a:arcTo wR="21600" hR="8948" stAng="10800000" swAng="-3136081"/>
                <a:lnTo>
                  <a:pt x="15007" y="21173"/>
                </a:lnTo>
                <a:lnTo>
                  <a:pt x="21600" y="19130"/>
                </a:lnTo>
                <a:lnTo>
                  <a:pt x="15007" y="16233"/>
                </a:lnTo>
                <a:lnTo>
                  <a:pt x="15007" y="17468"/>
                </a:lnTo>
                <a:arcTo wR="21600" hR="8948" stAng="7663919" swAng="2937845"/>
                <a:lnTo>
                  <a:pt x="207" y="10182"/>
                </a:lnTo>
                <a:arcTo wR="21600" hR="8948" stAng="-10601764" swAng="5201764"/>
                <a:close/>
              </a:path>
              <a:path fill="darkenLess" w="21600" h="21600">
                <a:moveTo>
                  <a:pt x="21600" y="0"/>
                </a:moveTo>
                <a:arcTo wR="21600" hR="8948" stAng="-5400000" swAng="-5400000"/>
                <a:lnTo>
                  <a:pt x="0" y="8948"/>
                </a:lnTo>
                <a:arcTo wR="21600" hR="8948" stAng="10800000" swAng="-198236"/>
                <a:lnTo>
                  <a:pt x="207" y="10182"/>
                </a:lnTo>
                <a:arcTo wR="21600" hR="8948" stAng="-10601764" swAng="520176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923760" y="1973160"/>
            <a:ext cx="1219320" cy="35276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77960 h 3527640"/>
              <a:gd name="textAreaBottom" fmla="*/ 2620800 h 35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29" stAng="-5400000" swAng="-5400000"/>
                <a:lnTo>
                  <a:pt x="0" y="11282"/>
                </a:lnTo>
                <a:arcTo wR="21600" hR="9529" stAng="10800000" swAng="-3077432"/>
                <a:lnTo>
                  <a:pt x="14400" y="21055"/>
                </a:lnTo>
                <a:lnTo>
                  <a:pt x="21600" y="19935"/>
                </a:lnTo>
                <a:lnTo>
                  <a:pt x="14400" y="17724"/>
                </a:lnTo>
                <a:lnTo>
                  <a:pt x="14400" y="18513"/>
                </a:lnTo>
                <a:arcTo wR="21600" hR="9529" stAng="7722568" swAng="2937416"/>
                <a:lnTo>
                  <a:pt x="92" y="10406"/>
                </a:lnTo>
                <a:arcTo wR="21600" hR="9529" stAng="-10659984" swAng="5259984"/>
                <a:close/>
              </a:path>
              <a:path fill="darkenLess" w="21600" h="21600">
                <a:moveTo>
                  <a:pt x="21600" y="0"/>
                </a:moveTo>
                <a:arcTo wR="21600" hR="9529" stAng="-5400000" swAng="-5400000"/>
                <a:lnTo>
                  <a:pt x="0" y="9529"/>
                </a:lnTo>
                <a:arcTo wR="21600" hR="9529" stAng="10800000" swAng="-140016"/>
                <a:lnTo>
                  <a:pt x="92" y="10406"/>
                </a:lnTo>
                <a:arcTo wR="21600" hR="9529" stAng="-10659984" swAng="525998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 rot="317400">
            <a:off x="820440" y="1917360"/>
            <a:ext cx="1349280" cy="807840"/>
          </a:xfrm>
          <a:custGeom>
            <a:avLst/>
            <a:gdLst>
              <a:gd name="textAreaLeft" fmla="*/ 180720 w 1349280"/>
              <a:gd name="textAreaRight" fmla="*/ 1168560 w 1349280"/>
              <a:gd name="textAreaTop" fmla="*/ 133920 h 807840"/>
              <a:gd name="textAreaBottom" fmla="*/ 591840 h 80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509434"/>
                <a:lnTo>
                  <a:pt x="17292" y="21456"/>
                </a:lnTo>
                <a:lnTo>
                  <a:pt x="21600" y="16878"/>
                </a:lnTo>
                <a:lnTo>
                  <a:pt x="17292" y="12011"/>
                </a:lnTo>
                <a:lnTo>
                  <a:pt x="17292" y="14199"/>
                </a:lnTo>
                <a:arcTo wR="21600" hR="7172" stAng="7290566" swAng="308046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 rot="317400">
            <a:off x="925200" y="1981080"/>
            <a:ext cx="1204920" cy="15382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289440 h 1538280"/>
              <a:gd name="textAreaBottom" fmla="*/ 1119960 h 15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35" stAng="-5400000" swAng="-5400000"/>
                <a:lnTo>
                  <a:pt x="0" y="11658"/>
                </a:lnTo>
                <a:arcTo wR="21600" hR="8135" stAng="10800000" swAng="-2712291"/>
                <a:lnTo>
                  <a:pt x="14035" y="21085"/>
                </a:lnTo>
                <a:lnTo>
                  <a:pt x="21600" y="18031"/>
                </a:lnTo>
                <a:lnTo>
                  <a:pt x="14035" y="13946"/>
                </a:lnTo>
                <a:lnTo>
                  <a:pt x="14035" y="15754"/>
                </a:lnTo>
                <a:arcTo wR="21600" hR="8135" stAng="8087709" swAng="2425790"/>
                <a:lnTo>
                  <a:pt x="513" y="9896"/>
                </a:lnTo>
                <a:arcTo wR="21600" hR="8135" stAng="-10513500" swAng="5113500"/>
                <a:close/>
              </a:path>
              <a:path fill="darkenLess" w="21600" h="21600">
                <a:moveTo>
                  <a:pt x="21600" y="0"/>
                </a:moveTo>
                <a:arcTo wR="21600" hR="8135" stAng="-5400000" swAng="-5400000"/>
                <a:lnTo>
                  <a:pt x="0" y="8135"/>
                </a:lnTo>
                <a:arcTo wR="21600" hR="8135" stAng="10800000" swAng="-286500"/>
                <a:lnTo>
                  <a:pt x="513" y="9896"/>
                </a:lnTo>
                <a:arcTo wR="21600" hR="8135" stAng="-10513500" swAng="511350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TextBox 18"/>
          <p:cNvGrpSpPr/>
          <p:nvPr/>
        </p:nvGrpSpPr>
        <p:grpSpPr>
          <a:xfrm>
            <a:off x="1511280" y="463680"/>
            <a:ext cx="6761160" cy="1109520"/>
            <a:chOff x="1511280" y="463680"/>
            <a:chExt cx="6761160" cy="1109520"/>
          </a:xfrm>
        </p:grpSpPr>
        <p:pic>
          <p:nvPicPr>
            <p:cNvPr id="240" name="TextBox 18" descr=""/>
            <p:cNvPicPr/>
            <p:nvPr/>
          </p:nvPicPr>
          <p:blipFill>
            <a:blip r:embed="rId9"/>
            <a:stretch/>
          </p:blipFill>
          <p:spPr>
            <a:xfrm>
              <a:off x="1511280" y="463680"/>
              <a:ext cx="67611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619280" y="547560"/>
              <a:ext cx="654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 пісьме </a:t>
              </a: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ўнальныя звароты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вычайна выдзяляюцца коскамі. Зрэдку параўнальныя звароты могуць аддзяляцца працяжнікамі для таго, каб больш выразна паказаць, да якой часткі сказа яны адносяцца, ці з асаблівай сілай падкрэсліць характар параўнанн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8:47:22Z</dcterms:created>
  <dc:creator>solahitdinova</dc:creator>
  <dc:description/>
  <dc:language>en-US</dc:language>
  <cp:lastModifiedBy>solahitdinova</cp:lastModifiedBy>
  <dcterms:modified xsi:type="dcterms:W3CDTF">2009-08-11T11:04:05Z</dcterms:modified>
  <cp:revision>22</cp:revision>
  <dc:subject/>
  <dc:title>Слайд 1</dc:title>
</cp:coreProperties>
</file>