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CD9E-3C06-4ADD-95DF-8B1271A2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F45D-065E-4D0E-BF5F-A4C74E6A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5565-6355-494C-9223-FA2E7099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03ED-FB3B-4ADC-A72C-9D63DDAB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FEC5-A09B-41C6-B478-5455A9FD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8AAF-0F79-4D89-BC63-3E1BEF15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4F8B-AE3C-4858-BB84-2C58084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3B80-AABD-4290-84EA-6C178475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ED00-32E5-4C86-8748-3B7D15D3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DE52-D751-4023-90BA-24174A62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E68E-8552-407A-8D4E-6BD4596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1FAE-F6E7-4DBF-BA8B-3197B13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C4CA-7906-4781-9A31-ADEB3F8D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D714-4003-4509-AE6C-D03EB57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4CA5-BB47-41BB-9D1F-5D3011EA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AA6-EAE8-4DB2-AAC5-2BF487D8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5DF9-8DF3-4BA8-804A-BBF21CAE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D063-89C1-4E1D-A2D4-F9A6B28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FA15-C62F-416B-86BF-3138179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773D-1769-4BEF-BEA9-76052246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3F3B-87BC-4927-8347-F052F6BF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08B4-FF00-4B4E-9057-A60B544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2007-A2A0-44D8-8E3E-2AF248C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7C25-2BFF-4F66-AF41-84A1301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33E4-71C0-4621-9759-218E05C3B8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CA8-02CC-482B-AD48-2443897A87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566720" y="579600"/>
            <a:ext cx="5212080" cy="22730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1785960" y="3627360"/>
            <a:ext cx="5254560" cy="16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4" descr=""/>
          <p:cNvPicPr/>
          <p:nvPr/>
        </p:nvPicPr>
        <p:blipFill>
          <a:blip r:embed="rId3"/>
          <a:stretch/>
        </p:blipFill>
        <p:spPr>
          <a:xfrm>
            <a:off x="2346480" y="-85680"/>
            <a:ext cx="3273120" cy="62208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3071880" y="571680"/>
            <a:ext cx="5715000" cy="111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днасастаўныя сказы, якія сцвярджаюць наяўнасць,  існаванне прадметаў, з’яў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алоўны член іх выражаецца назоўнікам у назоўным скло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эп.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Зорная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ч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Я. Бры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оз. Зіма. Сняг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акол. (Я. Кола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Прямоугольник 6" descr=""/>
          <p:cNvPicPr/>
          <p:nvPr/>
        </p:nvPicPr>
        <p:blipFill>
          <a:blip r:embed="rId4"/>
          <a:stretch/>
        </p:blipFill>
        <p:spPr>
          <a:xfrm>
            <a:off x="298440" y="725400"/>
            <a:ext cx="2328840" cy="47484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ая соединительная линия 8"/>
          <p:cNvSpPr/>
          <p:nvPr/>
        </p:nvSpPr>
        <p:spPr>
          <a:xfrm>
            <a:off x="2714760" y="1000080"/>
            <a:ext cx="214200" cy="1800"/>
          </a:xfrm>
          <a:prstGeom prst="line">
            <a:avLst/>
          </a:prstGeom>
          <a:ln w="381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1"/>
          <p:cNvSpPr/>
          <p:nvPr/>
        </p:nvSpPr>
        <p:spPr>
          <a:xfrm>
            <a:off x="1428840" y="2214720"/>
            <a:ext cx="70009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Часціцы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ь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ь і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),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унь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надаюць назыўным сказам указальнае значэнн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ь  </a:t>
            </a:r>
            <a:r>
              <a:rPr b="1" i="1" lang="be-BY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ой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ом</a:t>
            </a:r>
            <a:r>
              <a:rPr b="1" i="1" lang="be-BY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М. Лужані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Прямоугольник 12" descr=""/>
          <p:cNvPicPr/>
          <p:nvPr/>
        </p:nvPicPr>
        <p:blipFill>
          <a:blip r:embed="rId5"/>
          <a:stretch/>
        </p:blipFill>
        <p:spPr>
          <a:xfrm>
            <a:off x="1011240" y="3011400"/>
            <a:ext cx="2328840" cy="47484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Box 13"/>
          <p:cNvGrpSpPr/>
          <p:nvPr/>
        </p:nvGrpSpPr>
        <p:grpSpPr>
          <a:xfrm>
            <a:off x="152280" y="3664080"/>
            <a:ext cx="2114640" cy="463320"/>
            <a:chOff x="152280" y="3664080"/>
            <a:chExt cx="2114640" cy="463320"/>
          </a:xfrm>
        </p:grpSpPr>
        <p:pic>
          <p:nvPicPr>
            <p:cNvPr id="186" name="TextBox 13" descr=""/>
            <p:cNvPicPr/>
            <p:nvPr/>
          </p:nvPicPr>
          <p:blipFill>
            <a:blip r:embed="rId6"/>
            <a:stretch/>
          </p:blipFill>
          <p:spPr>
            <a:xfrm>
              <a:off x="152280" y="3664080"/>
              <a:ext cx="21146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14200" y="3714840"/>
              <a:ext cx="200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павядальн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6"/>
          <p:cNvGrpSpPr/>
          <p:nvPr/>
        </p:nvGrpSpPr>
        <p:grpSpPr>
          <a:xfrm>
            <a:off x="2365200" y="3664080"/>
            <a:ext cx="2121120" cy="463320"/>
            <a:chOff x="2365200" y="3664080"/>
            <a:chExt cx="2121120" cy="463320"/>
          </a:xfrm>
        </p:grpSpPr>
        <p:pic>
          <p:nvPicPr>
            <p:cNvPr id="189" name="TextBox 16" descr=""/>
            <p:cNvPicPr/>
            <p:nvPr/>
          </p:nvPicPr>
          <p:blipFill>
            <a:blip r:embed="rId7"/>
            <a:stretch/>
          </p:blipFill>
          <p:spPr>
            <a:xfrm>
              <a:off x="2365200" y="3664080"/>
              <a:ext cx="21211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428920" y="371484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лічн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TextBox 17"/>
          <p:cNvGrpSpPr/>
          <p:nvPr/>
        </p:nvGrpSpPr>
        <p:grpSpPr>
          <a:xfrm>
            <a:off x="225360" y="4462560"/>
            <a:ext cx="4041720" cy="633240"/>
            <a:chOff x="225360" y="4462560"/>
            <a:chExt cx="4041720" cy="633240"/>
          </a:xfrm>
        </p:grpSpPr>
        <p:pic>
          <p:nvPicPr>
            <p:cNvPr id="192" name="TextBox 17" descr=""/>
            <p:cNvPicPr/>
            <p:nvPr/>
          </p:nvPicPr>
          <p:blipFill>
            <a:blip r:embed="rId8"/>
            <a:stretch/>
          </p:blipFill>
          <p:spPr>
            <a:xfrm>
              <a:off x="225360" y="4462560"/>
              <a:ext cx="4041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85840" y="4500720"/>
              <a:ext cx="3929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ясна. 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кое </a:t>
              </a: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хараство!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Якая </a:t>
              </a: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паркасць!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К. Крапів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4" name="Прямая со стрелкой 19"/>
          <p:cNvCxnSpPr/>
          <p:nvPr/>
        </p:nvCxnSpPr>
        <p:spPr>
          <a:xfrm flipH="1">
            <a:off x="1142640" y="3427920"/>
            <a:ext cx="1000800" cy="2149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95" name="Прямая со стрелкой 21"/>
          <p:cNvCxnSpPr/>
          <p:nvPr/>
        </p:nvCxnSpPr>
        <p:spPr>
          <a:xfrm>
            <a:off x="2142720" y="3428640"/>
            <a:ext cx="1143720" cy="2149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96" name="Прямая со стрелкой 23"/>
          <p:cNvCxnSpPr/>
          <p:nvPr/>
        </p:nvCxnSpPr>
        <p:spPr>
          <a:xfrm flipH="1" flipV="1">
            <a:off x="1071360" y="4285800"/>
            <a:ext cx="1178640" cy="21528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97" name="Прямая со стрелкой 25"/>
          <p:cNvCxnSpPr/>
          <p:nvPr/>
        </p:nvCxnSpPr>
        <p:spPr>
          <a:xfrm flipV="1">
            <a:off x="2249640" y="4214520"/>
            <a:ext cx="1251360" cy="2865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pic>
        <p:nvPicPr>
          <p:cNvPr id="198" name="Прямоугольник 27" descr=""/>
          <p:cNvPicPr/>
          <p:nvPr/>
        </p:nvPicPr>
        <p:blipFill>
          <a:blip r:embed="rId9"/>
          <a:stretch/>
        </p:blipFill>
        <p:spPr>
          <a:xfrm>
            <a:off x="5583240" y="3224160"/>
            <a:ext cx="2328840" cy="476280"/>
          </a:xfrm>
          <a:prstGeom prst="rect">
            <a:avLst/>
          </a:prstGeom>
          <a:ln w="0">
            <a:noFill/>
          </a:ln>
        </p:spPr>
      </p:pic>
      <p:grpSp>
        <p:nvGrpSpPr>
          <p:cNvPr id="199" name="TextBox 30"/>
          <p:cNvGrpSpPr/>
          <p:nvPr/>
        </p:nvGrpSpPr>
        <p:grpSpPr>
          <a:xfrm>
            <a:off x="4797360" y="4022640"/>
            <a:ext cx="2116080" cy="463680"/>
            <a:chOff x="4797360" y="4022640"/>
            <a:chExt cx="2116080" cy="463680"/>
          </a:xfrm>
        </p:grpSpPr>
        <p:pic>
          <p:nvPicPr>
            <p:cNvPr id="200" name="TextBox 30" descr=""/>
            <p:cNvPicPr/>
            <p:nvPr/>
          </p:nvPicPr>
          <p:blipFill>
            <a:blip r:embed="rId10"/>
            <a:stretch/>
          </p:blipFill>
          <p:spPr>
            <a:xfrm>
              <a:off x="4797360" y="4022640"/>
              <a:ext cx="21160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7840" y="4071960"/>
              <a:ext cx="200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звіт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TextBox 31"/>
          <p:cNvGrpSpPr/>
          <p:nvPr/>
        </p:nvGrpSpPr>
        <p:grpSpPr>
          <a:xfrm>
            <a:off x="6870600" y="4022640"/>
            <a:ext cx="2114640" cy="463680"/>
            <a:chOff x="6870600" y="4022640"/>
            <a:chExt cx="2114640" cy="463680"/>
          </a:xfrm>
        </p:grpSpPr>
        <p:pic>
          <p:nvPicPr>
            <p:cNvPr id="203" name="TextBox 31" descr=""/>
            <p:cNvPicPr/>
            <p:nvPr/>
          </p:nvPicPr>
          <p:blipFill>
            <a:blip r:embed="rId11"/>
            <a:stretch/>
          </p:blipFill>
          <p:spPr>
            <a:xfrm>
              <a:off x="6870600" y="4022640"/>
              <a:ext cx="21146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929280" y="4071960"/>
              <a:ext cx="200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развіт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TextBox 32"/>
          <p:cNvGrpSpPr/>
          <p:nvPr/>
        </p:nvGrpSpPr>
        <p:grpSpPr>
          <a:xfrm>
            <a:off x="5010120" y="4889520"/>
            <a:ext cx="4048200" cy="420840"/>
            <a:chOff x="5010120" y="4889520"/>
            <a:chExt cx="4048200" cy="420840"/>
          </a:xfrm>
        </p:grpSpPr>
        <p:pic>
          <p:nvPicPr>
            <p:cNvPr id="206" name="TextBox 32" descr=""/>
            <p:cNvPicPr/>
            <p:nvPr/>
          </p:nvPicPr>
          <p:blipFill>
            <a:blip r:embed="rId12"/>
            <a:stretch/>
          </p:blipFill>
          <p:spPr>
            <a:xfrm>
              <a:off x="5010120" y="4889520"/>
              <a:ext cx="40482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072040" y="4929120"/>
              <a:ext cx="392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ветлы</a:t>
              </a: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дзень. Цішыня. 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В. Хомчан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8" name="Прямая со стрелкой 33"/>
          <p:cNvCxnSpPr/>
          <p:nvPr/>
        </p:nvCxnSpPr>
        <p:spPr>
          <a:xfrm flipH="1" flipV="1">
            <a:off x="5714640" y="4500360"/>
            <a:ext cx="1180080" cy="4291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209" name="Прямая со стрелкой 34"/>
          <p:cNvCxnSpPr/>
          <p:nvPr/>
        </p:nvCxnSpPr>
        <p:spPr>
          <a:xfrm flipV="1">
            <a:off x="6928920" y="4428360"/>
            <a:ext cx="1143720" cy="5007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210" name="Прямая со стрелкой 37"/>
          <p:cNvCxnSpPr/>
          <p:nvPr/>
        </p:nvCxnSpPr>
        <p:spPr>
          <a:xfrm>
            <a:off x="6786720" y="3642840"/>
            <a:ext cx="1072080" cy="3582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211" name="Прямая со стрелкой 40"/>
          <p:cNvCxnSpPr/>
          <p:nvPr/>
        </p:nvCxnSpPr>
        <p:spPr>
          <a:xfrm flipH="1">
            <a:off x="5857560" y="3642120"/>
            <a:ext cx="929520" cy="3582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4" descr=""/>
          <p:cNvPicPr/>
          <p:nvPr/>
        </p:nvPicPr>
        <p:blipFill>
          <a:blip r:embed="rId3"/>
          <a:stretch/>
        </p:blipFill>
        <p:spPr>
          <a:xfrm>
            <a:off x="2206800" y="517680"/>
            <a:ext cx="51940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Прямоугольник 5" descr=""/>
          <p:cNvPicPr/>
          <p:nvPr/>
        </p:nvPicPr>
        <p:blipFill>
          <a:blip r:embed="rId4"/>
          <a:stretch/>
        </p:blipFill>
        <p:spPr>
          <a:xfrm>
            <a:off x="438120" y="1438200"/>
            <a:ext cx="1976400" cy="476280"/>
          </a:xfrm>
          <a:prstGeom prst="rect">
            <a:avLst/>
          </a:prstGeom>
          <a:ln w="0">
            <a:noFill/>
          </a:ln>
        </p:spPr>
      </p:pic>
      <p:grpSp>
        <p:nvGrpSpPr>
          <p:cNvPr id="216" name="TextBox 6"/>
          <p:cNvGrpSpPr/>
          <p:nvPr/>
        </p:nvGrpSpPr>
        <p:grpSpPr>
          <a:xfrm>
            <a:off x="1079640" y="1962000"/>
            <a:ext cx="4046400" cy="420840"/>
            <a:chOff x="1079640" y="1962000"/>
            <a:chExt cx="4046400" cy="420840"/>
          </a:xfrm>
        </p:grpSpPr>
        <p:pic>
          <p:nvPicPr>
            <p:cNvPr id="217" name="TextBox 6" descr=""/>
            <p:cNvPicPr/>
            <p:nvPr/>
          </p:nvPicPr>
          <p:blipFill>
            <a:blip r:embed="rId5"/>
            <a:stretch/>
          </p:blipFill>
          <p:spPr>
            <a:xfrm>
              <a:off x="1079640" y="1962000"/>
              <a:ext cx="40464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143000" y="2000160"/>
              <a:ext cx="392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ернага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руга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е страціш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Я. Скрыга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Прямоугольник 7" descr=""/>
          <p:cNvPicPr/>
          <p:nvPr/>
        </p:nvPicPr>
        <p:blipFill>
          <a:blip r:embed="rId6"/>
          <a:stretch/>
        </p:blipFill>
        <p:spPr>
          <a:xfrm>
            <a:off x="438120" y="2438280"/>
            <a:ext cx="1976400" cy="47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TextBox 8"/>
          <p:cNvGrpSpPr/>
          <p:nvPr/>
        </p:nvGrpSpPr>
        <p:grpSpPr>
          <a:xfrm>
            <a:off x="1152360" y="3035160"/>
            <a:ext cx="5705640" cy="1805040"/>
            <a:chOff x="1152360" y="3035160"/>
            <a:chExt cx="5705640" cy="1805040"/>
          </a:xfrm>
        </p:grpSpPr>
        <p:pic>
          <p:nvPicPr>
            <p:cNvPr id="221" name="TextBox 8" descr=""/>
            <p:cNvPicPr/>
            <p:nvPr/>
          </p:nvPicPr>
          <p:blipFill>
            <a:blip r:embed="rId7"/>
            <a:stretch/>
          </p:blipFill>
          <p:spPr>
            <a:xfrm>
              <a:off x="1152360" y="3035160"/>
              <a:ext cx="570564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214280" y="3071880"/>
              <a:ext cx="557244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каз просты, апавядальны, няклічны, аднасастаўны з галоўным членам выказнікам, абагульнена-асабовы, развіты, поўн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Што зробіш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 страціш 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– просты выказнік, выражаны дзеясловам у форме 2-й асобы абвеснага ладу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 страціш 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каго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руг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– прамое дапаўненне, выражана назоўнікам у форме Р. скл., адз. л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руг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(якога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ернаг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– дапасаванае азначэнне, выражана прыметнікам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2" name="TextBox 4"/>
          <p:cNvGrpSpPr/>
          <p:nvPr/>
        </p:nvGrpSpPr>
        <p:grpSpPr>
          <a:xfrm>
            <a:off x="2724120" y="506520"/>
            <a:ext cx="3402000" cy="504720"/>
            <a:chOff x="2724120" y="506520"/>
            <a:chExt cx="3402000" cy="504720"/>
          </a:xfrm>
        </p:grpSpPr>
        <p:pic>
          <p:nvPicPr>
            <p:cNvPr id="113" name="TextBox 4" descr=""/>
            <p:cNvPicPr/>
            <p:nvPr/>
          </p:nvPicPr>
          <p:blipFill>
            <a:blip r:embed="rId3"/>
            <a:stretch/>
          </p:blipFill>
          <p:spPr>
            <a:xfrm>
              <a:off x="2724120" y="506520"/>
              <a:ext cx="3402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786040" y="571680"/>
              <a:ext cx="32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насастаўныя ска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TextBox 5"/>
          <p:cNvGrpSpPr/>
          <p:nvPr/>
        </p:nvGrpSpPr>
        <p:grpSpPr>
          <a:xfrm>
            <a:off x="438120" y="1603440"/>
            <a:ext cx="3402000" cy="633240"/>
            <a:chOff x="438120" y="1603440"/>
            <a:chExt cx="3402000" cy="633240"/>
          </a:xfrm>
        </p:grpSpPr>
        <p:pic>
          <p:nvPicPr>
            <p:cNvPr id="116" name="TextBox 5" descr=""/>
            <p:cNvPicPr/>
            <p:nvPr/>
          </p:nvPicPr>
          <p:blipFill>
            <a:blip r:embed="rId4"/>
            <a:stretch/>
          </p:blipFill>
          <p:spPr>
            <a:xfrm>
              <a:off x="438120" y="1603440"/>
              <a:ext cx="3402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00040" y="164304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галоўным член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казні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6"/>
          <p:cNvGrpSpPr/>
          <p:nvPr/>
        </p:nvGrpSpPr>
        <p:grpSpPr>
          <a:xfrm>
            <a:off x="4511520" y="1603440"/>
            <a:ext cx="3400560" cy="633240"/>
            <a:chOff x="4511520" y="1603440"/>
            <a:chExt cx="3400560" cy="633240"/>
          </a:xfrm>
        </p:grpSpPr>
        <p:pic>
          <p:nvPicPr>
            <p:cNvPr id="119" name="TextBox 6" descr=""/>
            <p:cNvPicPr/>
            <p:nvPr/>
          </p:nvPicPr>
          <p:blipFill>
            <a:blip r:embed="rId5"/>
            <a:stretch/>
          </p:blipFill>
          <p:spPr>
            <a:xfrm>
              <a:off x="4511520" y="1603440"/>
              <a:ext cx="3400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72000" y="164304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 галоўным члена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зейніка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Box 7"/>
          <p:cNvGrpSpPr/>
          <p:nvPr/>
        </p:nvGrpSpPr>
        <p:grpSpPr>
          <a:xfrm>
            <a:off x="4511520" y="2962440"/>
            <a:ext cx="3400560" cy="634680"/>
            <a:chOff x="4511520" y="2962440"/>
            <a:chExt cx="3400560" cy="634680"/>
          </a:xfrm>
        </p:grpSpPr>
        <p:pic>
          <p:nvPicPr>
            <p:cNvPr id="122" name="TextBox 7" descr=""/>
            <p:cNvPicPr/>
            <p:nvPr/>
          </p:nvPicPr>
          <p:blipFill>
            <a:blip r:embed="rId6"/>
            <a:stretch/>
          </p:blipFill>
          <p:spPr>
            <a:xfrm>
              <a:off x="4511520" y="2962440"/>
              <a:ext cx="340056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0" y="300024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зыў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TextBox 8"/>
          <p:cNvGrpSpPr/>
          <p:nvPr/>
        </p:nvGrpSpPr>
        <p:grpSpPr>
          <a:xfrm>
            <a:off x="438120" y="2962440"/>
            <a:ext cx="3402000" cy="634680"/>
            <a:chOff x="438120" y="2962440"/>
            <a:chExt cx="3402000" cy="634680"/>
          </a:xfrm>
        </p:grpSpPr>
        <p:pic>
          <p:nvPicPr>
            <p:cNvPr id="125" name="TextBox 8" descr=""/>
            <p:cNvPicPr/>
            <p:nvPr/>
          </p:nvPicPr>
          <p:blipFill>
            <a:blip r:embed="rId7"/>
            <a:stretch/>
          </p:blipFill>
          <p:spPr>
            <a:xfrm>
              <a:off x="438120" y="2962440"/>
              <a:ext cx="34020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00040" y="300024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эўна-асабов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TextBox 9"/>
          <p:cNvGrpSpPr/>
          <p:nvPr/>
        </p:nvGrpSpPr>
        <p:grpSpPr>
          <a:xfrm>
            <a:off x="512640" y="3962520"/>
            <a:ext cx="3400560" cy="633240"/>
            <a:chOff x="512640" y="3962520"/>
            <a:chExt cx="3400560" cy="633240"/>
          </a:xfrm>
        </p:grpSpPr>
        <p:pic>
          <p:nvPicPr>
            <p:cNvPr id="128" name="TextBox 9" descr=""/>
            <p:cNvPicPr/>
            <p:nvPr/>
          </p:nvPicPr>
          <p:blipFill>
            <a:blip r:embed="rId8"/>
            <a:stretch/>
          </p:blipFill>
          <p:spPr>
            <a:xfrm>
              <a:off x="512640" y="3962520"/>
              <a:ext cx="3400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71680" y="400068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япэўна-асабовыя 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багульнена-асабов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TextBox 10"/>
          <p:cNvGrpSpPr/>
          <p:nvPr/>
        </p:nvGrpSpPr>
        <p:grpSpPr>
          <a:xfrm>
            <a:off x="512640" y="5175360"/>
            <a:ext cx="3400560" cy="635040"/>
            <a:chOff x="512640" y="5175360"/>
            <a:chExt cx="3400560" cy="635040"/>
          </a:xfrm>
        </p:grpSpPr>
        <p:pic>
          <p:nvPicPr>
            <p:cNvPr id="131" name="TextBox 10" descr=""/>
            <p:cNvPicPr/>
            <p:nvPr/>
          </p:nvPicPr>
          <p:blipFill>
            <a:blip r:embed="rId9"/>
            <a:stretch/>
          </p:blipFill>
          <p:spPr>
            <a:xfrm>
              <a:off x="512640" y="5175360"/>
              <a:ext cx="3400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680" y="521496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езасабов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3" name="Прямая со стрелкой 13"/>
          <p:cNvCxnSpPr/>
          <p:nvPr/>
        </p:nvCxnSpPr>
        <p:spPr>
          <a:xfrm flipH="1">
            <a:off x="2356560" y="1000080"/>
            <a:ext cx="2001240" cy="5724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34" name="Прямая со стрелкой 15"/>
          <p:cNvCxnSpPr/>
          <p:nvPr/>
        </p:nvCxnSpPr>
        <p:spPr>
          <a:xfrm>
            <a:off x="4357440" y="1000080"/>
            <a:ext cx="1786680" cy="5724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17"/>
          <p:cNvSpPr/>
          <p:nvPr/>
        </p:nvSpPr>
        <p:spPr>
          <a:xfrm flipH="1">
            <a:off x="2069640" y="2214720"/>
            <a:ext cx="1800" cy="78552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9"/>
          <p:cNvSpPr/>
          <p:nvPr/>
        </p:nvSpPr>
        <p:spPr>
          <a:xfrm flipH="1">
            <a:off x="2069640" y="3500280"/>
            <a:ext cx="1800" cy="50184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21"/>
          <p:cNvSpPr/>
          <p:nvPr/>
        </p:nvSpPr>
        <p:spPr>
          <a:xfrm flipH="1">
            <a:off x="2069640" y="4500720"/>
            <a:ext cx="1800" cy="71568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23"/>
          <p:cNvSpPr/>
          <p:nvPr/>
        </p:nvSpPr>
        <p:spPr>
          <a:xfrm flipH="1">
            <a:off x="6215040" y="2166840"/>
            <a:ext cx="1440" cy="83340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Схема 4" descr=""/>
          <p:cNvPicPr/>
          <p:nvPr/>
        </p:nvPicPr>
        <p:blipFill>
          <a:blip r:embed="rId3"/>
          <a:stretch/>
        </p:blipFill>
        <p:spPr>
          <a:xfrm>
            <a:off x="1504800" y="1822320"/>
            <a:ext cx="66945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42" name="TextBox 5"/>
          <p:cNvGrpSpPr/>
          <p:nvPr/>
        </p:nvGrpSpPr>
        <p:grpSpPr>
          <a:xfrm>
            <a:off x="1152360" y="463680"/>
            <a:ext cx="6712200" cy="804600"/>
            <a:chOff x="1152360" y="463680"/>
            <a:chExt cx="6712200" cy="804600"/>
          </a:xfrm>
        </p:grpSpPr>
        <p:pic>
          <p:nvPicPr>
            <p:cNvPr id="143" name="TextBox 5" descr=""/>
            <p:cNvPicPr/>
            <p:nvPr/>
          </p:nvPicPr>
          <p:blipFill>
            <a:blip r:embed="rId4"/>
            <a:stretch/>
          </p:blipFill>
          <p:spPr>
            <a:xfrm>
              <a:off x="1152360" y="463680"/>
              <a:ext cx="67122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14280" y="500040"/>
              <a:ext cx="65725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раматычную аснову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састаўных сказаў утварае адзін галоўны член, другога ў іх не можа быць або ён не патрэбен для разумення сэнсу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іма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вітае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Холадна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аджуся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за стол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TextBox 6"/>
          <p:cNvGrpSpPr/>
          <p:nvPr/>
        </p:nvGrpSpPr>
        <p:grpSpPr>
          <a:xfrm>
            <a:off x="1365120" y="5748480"/>
            <a:ext cx="6693120" cy="804600"/>
            <a:chOff x="1365120" y="5748480"/>
            <a:chExt cx="6693120" cy="804600"/>
          </a:xfrm>
        </p:grpSpPr>
        <p:pic>
          <p:nvPicPr>
            <p:cNvPr id="146" name="TextBox 6" descr=""/>
            <p:cNvPicPr/>
            <p:nvPr/>
          </p:nvPicPr>
          <p:blipFill>
            <a:blip r:embed="rId5"/>
            <a:stretch/>
          </p:blipFill>
          <p:spPr>
            <a:xfrm>
              <a:off x="1365120" y="5748480"/>
              <a:ext cx="669312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428840" y="5786280"/>
              <a:ext cx="65721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састаўныя сказы бываюць 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развітыя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ождж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ечарэе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азвітыя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робны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ождж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рыкметна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ечарэе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0" descr="logo 21"/>
          <p:cNvPicPr/>
          <p:nvPr/>
        </p:nvPicPr>
        <p:blipFill>
          <a:blip r:embed="rId1"/>
          <a:stretch/>
        </p:blipFill>
        <p:spPr>
          <a:xfrm>
            <a:off x="6138720" y="5492880"/>
            <a:ext cx="301176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4" descr=""/>
          <p:cNvPicPr/>
          <p:nvPr/>
        </p:nvPicPr>
        <p:blipFill>
          <a:blip r:embed="rId3"/>
          <a:stretch/>
        </p:blipFill>
        <p:spPr>
          <a:xfrm>
            <a:off x="1847880" y="1725480"/>
            <a:ext cx="504036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3090960" y="1384200"/>
            <a:ext cx="3035160" cy="7002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500120" y="2714760"/>
            <a:ext cx="6072120" cy="142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эўна-асабовымі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называюцца такія сказы, у якіх галоўны член абазначае дзеянне пэўнай асобы (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, мы, ты, вы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) і выражаецца дзеясловам першай ці другой асобы цяперашняга, прошлага і будучага простага часу абвеснага ладу, а таксама дзеясловамі другой асобы загаднага ладу.  Канчаткі дзеясловаў канкрэтна ўказваюць на дзейнік, таму ён тут неабавязков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блю</a:t>
            </a: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вясновую раніцу.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абміні </a:t>
            </a: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яне, шчас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4" descr=""/>
          <p:cNvPicPr/>
          <p:nvPr/>
        </p:nvPicPr>
        <p:blipFill>
          <a:blip r:embed="rId3"/>
          <a:stretch/>
        </p:blipFill>
        <p:spPr>
          <a:xfrm>
            <a:off x="2992320" y="811080"/>
            <a:ext cx="3152880" cy="7066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642960" y="1857240"/>
            <a:ext cx="6500880" cy="1721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япэўна-асабовымі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з’яўляюцца аднасастаўныя сказы, галоўны член якіх выражаецца дзеясловамі 3-й асобы множнага ліку цяперашнага ці будучага часу, а таксама дзеясловамі прошлага часу множнага лі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этыя сказы ўказваюць на дзеянне, якое выконваюць няпэўныя асоб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 Бушмара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клал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вялікі штраф. (Э. Самуйлён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япэўна-асабовыя сказы пашыраны ў гутарковай мове. Асноўная ўвага ў іх надаецца дзеянн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олькі разоў цябе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ішчыл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Крычаў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акідал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 камені камень. (У. Дамашэві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1643040" y="4214880"/>
            <a:ext cx="6500880" cy="111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агульнена-асабовыя ск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зеянне ў іх абмяжоўваецца пэўным часам і адносіцца да любой асобы. Галоўны член гэтых сказаў звычайна выражаецца дзеясловамі 2-й асобы абвеснага ці загаднага ла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б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ліхога і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бойся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ікога. (Прыказ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Адразу ўсяго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раскажаш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К. Чор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3"/>
          <a:stretch/>
        </p:blipFill>
        <p:spPr>
          <a:xfrm>
            <a:off x="3090960" y="109440"/>
            <a:ext cx="2071440" cy="37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3071880" y="571680"/>
            <a:ext cx="5715000" cy="71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днасастаўныя сказы, галоўны член якіх абазначае стан або дзеянне, што не залежыць ад якой-небудзь асобы, суб’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ітае. Шарэе. Становіцца млосн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6" descr=""/>
          <p:cNvPicPr/>
          <p:nvPr/>
        </p:nvPicPr>
        <p:blipFill>
          <a:blip r:embed="rId4"/>
          <a:stretch/>
        </p:blipFill>
        <p:spPr>
          <a:xfrm>
            <a:off x="298440" y="725400"/>
            <a:ext cx="2328840" cy="474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8"/>
          <p:cNvSpPr/>
          <p:nvPr/>
        </p:nvSpPr>
        <p:spPr>
          <a:xfrm>
            <a:off x="2714760" y="1000080"/>
            <a:ext cx="214200" cy="1800"/>
          </a:xfrm>
          <a:prstGeom prst="line">
            <a:avLst/>
          </a:prstGeom>
          <a:ln w="3816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1428840" y="1571760"/>
            <a:ext cx="592920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алоўны член у такіх сказах выражаецца безасабовымі дзеясловамі, безасабовымі формамі асабовых дзеясловаў, словамі катэгорыі стану (прэдыкатыўнымі прыслоўямі), інфінітывам або спалучэннем яго з іншымі словамі, дзеепрыметнікамі залежнага ста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11"/>
          <p:cNvSpPr/>
          <p:nvPr/>
        </p:nvSpPr>
        <p:spPr>
          <a:xfrm>
            <a:off x="1785960" y="2714760"/>
            <a:ext cx="507204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Безасабовыя сказы не маюць дзейніка, але сэнсавы суб’ект можа быць выражаны дапаўненнем у форме давальнага ці творнага склону назоўніка (займеннік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ярдзіць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едкім чадам. (М. Маш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14"/>
          <p:cNvSpPr/>
          <p:nvPr/>
        </p:nvSpPr>
        <p:spPr>
          <a:xfrm>
            <a:off x="2143080" y="3929040"/>
            <a:ext cx="492912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Безасабовыя сказы могуць абазначаць стан як вынік дзеяння або адмаўляюць наяўнасць чагосьц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суседзяў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роблен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лепш. (У. Карп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 было іншага занятку, як шчыраваць пры вогнішчы, (У. Карп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15"/>
          <p:cNvSpPr/>
          <p:nvPr/>
        </p:nvSpPr>
        <p:spPr>
          <a:xfrm>
            <a:off x="2357280" y="5357880"/>
            <a:ext cx="5000760" cy="91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Галоўны член у такіх выпадках можа выражацца дзеепрыметнікамі залежнага стану, дзеясловамі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ыць</a:t>
            </a: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ць</a:t>
            </a: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 адмоўем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бо словам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яма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ям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на свеце чарадзеяў.  (М. Маш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72" name="Скругленный прямоугольник 11"/>
          <p:cNvSpPr/>
          <p:nvPr/>
        </p:nvSpPr>
        <p:spPr>
          <a:xfrm>
            <a:off x="1500120" y="1857240"/>
            <a:ext cx="6143760" cy="54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 маюць дзейніка і так званыя </a:t>
            </a:r>
            <a:r>
              <a:rPr b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нфінітыўныя сказы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Яны выражаюць магчымае, немагчымае, неабходнае ці пажаданае дзеян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4"/>
          <p:cNvSpPr/>
          <p:nvPr/>
        </p:nvSpPr>
        <p:spPr>
          <a:xfrm>
            <a:off x="1571760" y="3286080"/>
            <a:ext cx="6072120" cy="185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адрозненне ад безасабовых, у інфінітыўных сказах неазначальная форма дзеяслова не залежыць ад іншых слоў. Усе значэнні тут выражаюцца самім інфінітывам і інтанацыяй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ічым нас не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страшыць, не здзівіць</a:t>
            </a: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П. Панчанк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інфінітыўны сказ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Хлопчыку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целася вырвацца </a:t>
            </a: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з рук стоража. (У. Карпаў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безасабовы сказ;  інфінітыў тут прымыкае да безасабова-прэдэкатыўнага слов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" descr=""/>
          <p:cNvPicPr/>
          <p:nvPr/>
        </p:nvPicPr>
        <p:blipFill>
          <a:blip r:embed="rId3"/>
          <a:stretch/>
        </p:blipFill>
        <p:spPr>
          <a:xfrm>
            <a:off x="1847880" y="1725480"/>
            <a:ext cx="5040360" cy="246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4:35:17Z</dcterms:created>
  <dc:creator>solahitdinova</dc:creator>
  <dc:description/>
  <dc:language>en-US</dc:language>
  <cp:lastModifiedBy>solahitdinova</cp:lastModifiedBy>
  <dcterms:modified xsi:type="dcterms:W3CDTF">2009-08-11T10:45:10Z</dcterms:modified>
  <cp:revision>57</cp:revision>
  <dc:subject/>
  <dc:title>Слайд 1</dc:title>
</cp:coreProperties>
</file>