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1CA2-99E7-4334-9C55-D4D41C78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45BE-B6F1-44F4-A874-0FE201EE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517C-B928-4A35-92C6-1748ACD8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1AB7-05E2-4644-82F2-2690B082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903-4820-4316-AD8F-D0C1B045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B94C-00F9-4429-9F58-0911835F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2C0F-DA0B-4858-9133-F6F32B53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6445-4DE3-4B54-9ED9-14AEDF13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DDB6-E256-4ACD-A7B4-6AC524FE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E785-93F2-49DE-A110-732F6CC3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733F-119F-4C5B-856F-8A1DE03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D511-A804-49B6-9D45-AF7D6887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8133-6435-47F1-8855-59781E61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614B-D412-4409-A502-DFA64BA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1EBE-72C2-478F-929F-07D90356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A4D9-9A8F-478A-B54B-0A61F07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2E8-715A-46F5-BC91-59084942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8C6F-B3BF-4D2C-9679-D12DDFE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7942-AF01-4112-8188-D51400A4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DBB2-000E-47F8-83D9-B47732D5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9D1C-BB50-4960-871A-A8B3A6E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0DD4-4F6D-4519-B581-CDAD8E5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C03F-2A47-463E-A15F-503DCF2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7156-B0F9-48E2-A0E4-B2F944F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4433-9AF3-42B7-82DA-3902D2AD75E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25A9-524E-419F-926F-9ADF827E3B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352520" y="3449520"/>
            <a:ext cx="6151680" cy="253692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127240" y="476280"/>
            <a:ext cx="441972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928800" y="2214720"/>
            <a:ext cx="7000920" cy="21430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сабляюцца і іншыя члены сказа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, якія маюць удакладняльнае значэн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Каля лесу танцавалі  яны 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ураўлі.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(В. Вольс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Удакладняльны дзейні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 левы бок шашы ўзведзены Курган Славы 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ік нашай гісторы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С. Грахоўс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Удакладняльны прыдата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Ахоўнікі рэгулярна праходжваліся каля багажа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чыл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за яго захаванасцю. (Б. Сачан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Удакладняльны выказні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Хлопец купіў сіне-белую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палоску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кашулю-безрукаўку… (С. Баранав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Удакладняльнае азначэнн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5" descr=""/>
          <p:cNvPicPr/>
          <p:nvPr/>
        </p:nvPicPr>
        <p:blipFill>
          <a:blip r:embed="rId3"/>
          <a:stretch/>
        </p:blipFill>
        <p:spPr>
          <a:xfrm>
            <a:off x="1365120" y="865080"/>
            <a:ext cx="633420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85" name="Прямоугольник 4"/>
          <p:cNvGrpSpPr/>
          <p:nvPr/>
        </p:nvGrpSpPr>
        <p:grpSpPr>
          <a:xfrm>
            <a:off x="2225520" y="450720"/>
            <a:ext cx="4473720" cy="708120"/>
            <a:chOff x="2225520" y="450720"/>
            <a:chExt cx="4473720" cy="708120"/>
          </a:xfrm>
        </p:grpSpPr>
        <p:pic>
          <p:nvPicPr>
            <p:cNvPr id="186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225520" y="450720"/>
              <a:ext cx="447372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86000" y="500040"/>
              <a:ext cx="435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інтаксічны разбор ск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адасобленымі членам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Прямоугольник 5" descr=""/>
          <p:cNvPicPr/>
          <p:nvPr/>
        </p:nvPicPr>
        <p:blipFill>
          <a:blip r:embed="rId4"/>
          <a:stretch/>
        </p:blipFill>
        <p:spPr>
          <a:xfrm>
            <a:off x="652320" y="1579680"/>
            <a:ext cx="2262240" cy="474480"/>
          </a:xfrm>
          <a:prstGeom prst="rect">
            <a:avLst/>
          </a:prstGeom>
          <a:ln w="0">
            <a:noFill/>
          </a:ln>
        </p:spPr>
      </p:pic>
      <p:grpSp>
        <p:nvGrpSpPr>
          <p:cNvPr id="189" name="TextBox 6"/>
          <p:cNvGrpSpPr/>
          <p:nvPr/>
        </p:nvGrpSpPr>
        <p:grpSpPr>
          <a:xfrm>
            <a:off x="2719440" y="3389400"/>
            <a:ext cx="5338800" cy="2603520"/>
            <a:chOff x="2719440" y="3389400"/>
            <a:chExt cx="5338800" cy="2603520"/>
          </a:xfrm>
        </p:grpSpPr>
        <p:pic>
          <p:nvPicPr>
            <p:cNvPr id="190" name="TextBox 6" descr=""/>
            <p:cNvPicPr/>
            <p:nvPr/>
          </p:nvPicPr>
          <p:blipFill>
            <a:blip r:embed="rId5"/>
            <a:stretch/>
          </p:blipFill>
          <p:spPr>
            <a:xfrm>
              <a:off x="2719440" y="3389400"/>
              <a:ext cx="533880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86040" y="3429000"/>
              <a:ext cx="5214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просты, апавядальны, няклічны, двухсастаўны, развіты, ускладнены адасобленым азначэннем, поўн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ба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дзейнік, выражаны назоўнікам у форме Н. скл., адз. л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ба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 зрабіла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вісла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просты выказнік, выражаны дзеясловам абв. ладу, пр.ч., адз. л., 3-й ас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еба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якое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цягнутае шэрымі хвалямі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дасобленае азначэнне, выражана дзеепрыметнікавым зваротам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вісла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як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ізка –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ь спосабу дзеяння, выражана прыслоўем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асобленае азначэнне стаіць у сярэдзіне сказа, з двух бакоў выдзяляецца коскамі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TextBox 7"/>
          <p:cNvGrpSpPr/>
          <p:nvPr/>
        </p:nvGrpSpPr>
        <p:grpSpPr>
          <a:xfrm>
            <a:off x="2865600" y="1951200"/>
            <a:ext cx="4833720" cy="706320"/>
            <a:chOff x="2865600" y="1951200"/>
            <a:chExt cx="4833720" cy="706320"/>
          </a:xfrm>
        </p:grpSpPr>
        <p:pic>
          <p:nvPicPr>
            <p:cNvPr id="193" name="TextBox 7" descr=""/>
            <p:cNvPicPr/>
            <p:nvPr/>
          </p:nvPicPr>
          <p:blipFill>
            <a:blip r:embed="rId6"/>
            <a:stretch/>
          </p:blipFill>
          <p:spPr>
            <a:xfrm>
              <a:off x="2865600" y="1951200"/>
              <a:ext cx="48337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928960" y="2000160"/>
              <a:ext cx="471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еб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ацягнутае шэрымі хмарамі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ізк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авісл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над лесам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У. Карпаў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Прямоугольник 8" descr=""/>
          <p:cNvPicPr/>
          <p:nvPr/>
        </p:nvPicPr>
        <p:blipFill>
          <a:blip r:embed="rId7"/>
          <a:stretch/>
        </p:blipFill>
        <p:spPr>
          <a:xfrm>
            <a:off x="652320" y="2724120"/>
            <a:ext cx="22622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2" name="AutoShape 5"/>
          <p:cNvGrpSpPr/>
          <p:nvPr/>
        </p:nvGrpSpPr>
        <p:grpSpPr>
          <a:xfrm>
            <a:off x="2438280" y="749160"/>
            <a:ext cx="5187960" cy="1403640"/>
            <a:chOff x="2438280" y="749160"/>
            <a:chExt cx="5187960" cy="1403640"/>
          </a:xfrm>
        </p:grpSpPr>
        <p:pic>
          <p:nvPicPr>
            <p:cNvPr id="113" name="AutoShape 5" descr=""/>
            <p:cNvPicPr/>
            <p:nvPr/>
          </p:nvPicPr>
          <p:blipFill>
            <a:blip r:embed="rId3"/>
            <a:stretch/>
          </p:blipFill>
          <p:spPr>
            <a:xfrm>
              <a:off x="2438280" y="749160"/>
              <a:ext cx="518796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500200" y="1004760"/>
              <a:ext cx="436716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ru-RU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ru-RU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лены сказа, выдзеленыя па сэнсе і інтанацыйна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ываюцца 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дасобленымі</a:t>
              </a:r>
              <a:r>
                <a:rPr b="1" lang="ru-RU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 пісьме яны выдзяляюцца коскамі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дзей – працяжнікамі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TextBox 9"/>
          <p:cNvGrpSpPr/>
          <p:nvPr/>
        </p:nvGrpSpPr>
        <p:grpSpPr>
          <a:xfrm>
            <a:off x="2152800" y="3322800"/>
            <a:ext cx="5973480" cy="822240"/>
            <a:chOff x="2152800" y="3322800"/>
            <a:chExt cx="5973480" cy="822240"/>
          </a:xfrm>
        </p:grpSpPr>
        <p:pic>
          <p:nvPicPr>
            <p:cNvPr id="116" name="TextBox 9" descr=""/>
            <p:cNvPicPr/>
            <p:nvPr/>
          </p:nvPicPr>
          <p:blipFill>
            <a:blip r:embed="rId4"/>
            <a:stretch/>
          </p:blipFill>
          <p:spPr>
            <a:xfrm>
              <a:off x="2152800" y="3322800"/>
              <a:ext cx="59734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249640" y="3392640"/>
              <a:ext cx="5787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любыя адасабленні,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яны адносяцца да асабовага займеннік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кароткім кажушку, са стрэльбай за плячыма,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ён абыходзіць калгасны табун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З. Бядуля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TextBox 10"/>
          <p:cNvGrpSpPr/>
          <p:nvPr/>
        </p:nvGrpSpPr>
        <p:grpSpPr>
          <a:xfrm>
            <a:off x="2152800" y="4322880"/>
            <a:ext cx="5973480" cy="1639800"/>
            <a:chOff x="2152800" y="4322880"/>
            <a:chExt cx="5973480" cy="1639800"/>
          </a:xfrm>
        </p:grpSpPr>
        <p:pic>
          <p:nvPicPr>
            <p:cNvPr id="119" name="TextBox 10" descr=""/>
            <p:cNvPicPr/>
            <p:nvPr/>
          </p:nvPicPr>
          <p:blipFill>
            <a:blip r:embed="rId5"/>
            <a:stretch/>
          </p:blipFill>
          <p:spPr>
            <a:xfrm>
              <a:off x="2152800" y="4322880"/>
              <a:ext cx="597348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2289240" y="4432320"/>
              <a:ext cx="5708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значэнні,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ражаныя дзеепрыметнікавымі ці прыметнікавымі зваротамі, і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народныя азначэнні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дапасаваныя і недапасаваныя), калі яны стаяць пасля назоўніка, які паясняюць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шчэ не апаў шчэбень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кінуты першым выбухам,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к на насыпе грымнула зноў. (І. Мележ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мораны чорны конь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весь мокры ад поту,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ішоў ледзь перастаўляючы ногі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І. Пташніка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TextBox 11"/>
          <p:cNvGrpSpPr/>
          <p:nvPr/>
        </p:nvGrpSpPr>
        <p:grpSpPr>
          <a:xfrm>
            <a:off x="2225520" y="2389320"/>
            <a:ext cx="5686560" cy="420480"/>
            <a:chOff x="2225520" y="2389320"/>
            <a:chExt cx="5686560" cy="420480"/>
          </a:xfrm>
        </p:grpSpPr>
        <p:pic>
          <p:nvPicPr>
            <p:cNvPr id="122" name="TextBox 11" descr=""/>
            <p:cNvPicPr/>
            <p:nvPr/>
          </p:nvPicPr>
          <p:blipFill>
            <a:blip r:embed="rId6"/>
            <a:stretch/>
          </p:blipFill>
          <p:spPr>
            <a:xfrm>
              <a:off x="2225520" y="2389320"/>
              <a:ext cx="56865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286000" y="2428920"/>
              <a:ext cx="557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асабляюцца і выдзяляюцца коскамі на пісьме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AutoShape 9"/>
          <p:cNvSpPr/>
          <p:nvPr/>
        </p:nvSpPr>
        <p:spPr>
          <a:xfrm rot="317400">
            <a:off x="671040" y="2347920"/>
            <a:ext cx="1405080" cy="1590840"/>
          </a:xfrm>
          <a:custGeom>
            <a:avLst/>
            <a:gdLst>
              <a:gd name="textAreaLeft" fmla="*/ 188280 w 1405080"/>
              <a:gd name="textAreaRight" fmla="*/ 1216800 w 140508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21404400">
            <a:off x="588600" y="2398320"/>
            <a:ext cx="1569960" cy="3156120"/>
          </a:xfrm>
          <a:custGeom>
            <a:avLst/>
            <a:gdLst>
              <a:gd name="textAreaLeft" fmla="*/ 210240 w 1569960"/>
              <a:gd name="textAreaRight" fmla="*/ 1359720 w 1569960"/>
              <a:gd name="textAreaTop" fmla="*/ 661680 h 3156120"/>
              <a:gd name="textAreaBottom" fmla="*/ 2312280 h 315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57" stAng="-5400000" swAng="-5400000"/>
                <a:lnTo>
                  <a:pt x="0" y="11296"/>
                </a:lnTo>
                <a:arcTo wR="21600" hR="9057" stAng="10800000" swAng="-2942010"/>
                <a:lnTo>
                  <a:pt x="14211" y="21054"/>
                </a:lnTo>
                <a:lnTo>
                  <a:pt x="21600" y="19233"/>
                </a:lnTo>
                <a:lnTo>
                  <a:pt x="14211" y="16319"/>
                </a:lnTo>
                <a:lnTo>
                  <a:pt x="14211" y="17567"/>
                </a:lnTo>
                <a:arcTo wR="21600" hR="9057" stAng="7857990" swAng="2762622"/>
                <a:lnTo>
                  <a:pt x="166" y="10176"/>
                </a:lnTo>
                <a:arcTo wR="21600" hR="9057" stAng="-10620612" swAng="5220612"/>
                <a:close/>
              </a:path>
              <a:path fill="darkenLess" w="21600" h="21600">
                <a:moveTo>
                  <a:pt x="21600" y="0"/>
                </a:moveTo>
                <a:arcTo wR="21600" hR="9057" stAng="-5400000" swAng="-5400000"/>
                <a:lnTo>
                  <a:pt x="0" y="9057"/>
                </a:lnTo>
                <a:arcTo wR="21600" hR="9057" stAng="10800000" swAng="-179388"/>
                <a:lnTo>
                  <a:pt x="166" y="10176"/>
                </a:lnTo>
                <a:arcTo wR="21600" hR="9057" stAng="-10620612" swAng="522061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598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28" name="TextBox 9"/>
          <p:cNvGrpSpPr/>
          <p:nvPr/>
        </p:nvGrpSpPr>
        <p:grpSpPr>
          <a:xfrm>
            <a:off x="2084400" y="2176560"/>
            <a:ext cx="5973840" cy="1030320"/>
            <a:chOff x="2084400" y="2176560"/>
            <a:chExt cx="5973840" cy="1030320"/>
          </a:xfrm>
        </p:grpSpPr>
        <p:pic>
          <p:nvPicPr>
            <p:cNvPr id="129" name="TextBox 9" descr=""/>
            <p:cNvPicPr/>
            <p:nvPr/>
          </p:nvPicPr>
          <p:blipFill>
            <a:blip r:embed="rId3"/>
            <a:stretch/>
          </p:blipFill>
          <p:spPr>
            <a:xfrm>
              <a:off x="2084400" y="2176560"/>
              <a:ext cx="5973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187720" y="2259000"/>
              <a:ext cx="576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таяць перад назоўнікам і маюць дадатковае акалічнаснае значэнне прычыны, умовы ці ўступк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усім непісьменная,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ці мела практычны розум і нядрэнна спраўлялася з гаспадаркай. (Ю. Гаўру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TextBox 10"/>
          <p:cNvGrpSpPr/>
          <p:nvPr/>
        </p:nvGrpSpPr>
        <p:grpSpPr>
          <a:xfrm>
            <a:off x="2011320" y="3676680"/>
            <a:ext cx="5973840" cy="828720"/>
            <a:chOff x="2011320" y="3676680"/>
            <a:chExt cx="5973840" cy="828720"/>
          </a:xfrm>
        </p:grpSpPr>
        <p:pic>
          <p:nvPicPr>
            <p:cNvPr id="132" name="TextBox 10" descr=""/>
            <p:cNvPicPr/>
            <p:nvPr/>
          </p:nvPicPr>
          <p:blipFill>
            <a:blip r:embed="rId4"/>
            <a:stretch/>
          </p:blipFill>
          <p:spPr>
            <a:xfrm>
              <a:off x="2011320" y="3676680"/>
              <a:ext cx="59738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06720" y="3749760"/>
              <a:ext cx="578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між азначэннем, якое паясняе дзейнік, і гэтым дзейнікам стаіць выказнік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омлены дарогай,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прысеў Іван на прыступкі ганка. (М. Гарэц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ысушаныя гарачым сонцам,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аніклі кветкі і травы. (Б. Мікул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TextBox 11"/>
          <p:cNvGrpSpPr/>
          <p:nvPr/>
        </p:nvGrpSpPr>
        <p:grpSpPr>
          <a:xfrm>
            <a:off x="2152800" y="1463760"/>
            <a:ext cx="5686200" cy="420480"/>
            <a:chOff x="2152800" y="1463760"/>
            <a:chExt cx="5686200" cy="420480"/>
          </a:xfrm>
        </p:grpSpPr>
        <p:pic>
          <p:nvPicPr>
            <p:cNvPr id="135" name="TextBox 11" descr=""/>
            <p:cNvPicPr/>
            <p:nvPr/>
          </p:nvPicPr>
          <p:blipFill>
            <a:blip r:embed="rId5"/>
            <a:stretch/>
          </p:blipFill>
          <p:spPr>
            <a:xfrm>
              <a:off x="2152800" y="1463760"/>
              <a:ext cx="56862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214720" y="1500120"/>
              <a:ext cx="557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а.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огуць адасабляцца азначэнні, калі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9"/>
          <p:cNvSpPr/>
          <p:nvPr/>
        </p:nvSpPr>
        <p:spPr>
          <a:xfrm rot="317400">
            <a:off x="599760" y="141912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 rot="363600">
            <a:off x="204480" y="1441080"/>
            <a:ext cx="1738440" cy="2987640"/>
          </a:xfrm>
          <a:custGeom>
            <a:avLst/>
            <a:gdLst>
              <a:gd name="textAreaLeft" fmla="*/ 232920 w 1738440"/>
              <a:gd name="textAreaRight" fmla="*/ 1505520 w 1738440"/>
              <a:gd name="textAreaTop" fmla="*/ 605880 h 2987640"/>
              <a:gd name="textAreaBottom" fmla="*/ 2180160 h 29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65" stAng="-5400000" swAng="-5400000"/>
                <a:lnTo>
                  <a:pt x="0" y="11381"/>
                </a:lnTo>
                <a:arcTo wR="21600" hR="8765" stAng="10800000" swAng="-2886116"/>
                <a:lnTo>
                  <a:pt x="14211" y="21071"/>
                </a:lnTo>
                <a:lnTo>
                  <a:pt x="21600" y="18837"/>
                </a:lnTo>
                <a:lnTo>
                  <a:pt x="14211" y="15545"/>
                </a:lnTo>
                <a:lnTo>
                  <a:pt x="14211" y="17000"/>
                </a:lnTo>
                <a:arcTo wR="21600" hR="8765" stAng="7913884" swAng="2675846"/>
                <a:lnTo>
                  <a:pt x="242" y="10072"/>
                </a:lnTo>
                <a:arcTo wR="21600" hR="8765" stAng="-10589730" swAng="5189730"/>
                <a:close/>
              </a:path>
              <a:path fill="darkenLess" w="21600" h="21600">
                <a:moveTo>
                  <a:pt x="21600" y="0"/>
                </a:moveTo>
                <a:arcTo wR="21600" hR="8765" stAng="-5400000" swAng="-5400000"/>
                <a:lnTo>
                  <a:pt x="0" y="8765"/>
                </a:lnTo>
                <a:arcTo wR="21600" hR="8765" stAng="10800000" swAng="-210270"/>
                <a:lnTo>
                  <a:pt x="242" y="10072"/>
                </a:lnTo>
                <a:arcTo wR="21600" hR="8765" stAng="-10589730" swAng="518973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34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4" descr=""/>
          <p:cNvPicPr/>
          <p:nvPr/>
        </p:nvPicPr>
        <p:blipFill>
          <a:blip r:embed="rId3"/>
          <a:stretch/>
        </p:blipFill>
        <p:spPr>
          <a:xfrm>
            <a:off x="3084480" y="493560"/>
            <a:ext cx="3402000" cy="567000"/>
          </a:xfrm>
          <a:prstGeom prst="rect">
            <a:avLst/>
          </a:prstGeom>
          <a:ln w="0">
            <a:noFill/>
          </a:ln>
        </p:spPr>
      </p:pic>
      <p:pic>
        <p:nvPicPr>
          <p:cNvPr id="142" name="Схема 5" descr=""/>
          <p:cNvPicPr/>
          <p:nvPr/>
        </p:nvPicPr>
        <p:blipFill>
          <a:blip r:embed="rId4"/>
          <a:stretch/>
        </p:blipFill>
        <p:spPr>
          <a:xfrm>
            <a:off x="554040" y="1359000"/>
            <a:ext cx="8182080" cy="49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5" name="Схема 4" descr=""/>
          <p:cNvPicPr/>
          <p:nvPr/>
        </p:nvPicPr>
        <p:blipFill>
          <a:blip r:embed="rId3"/>
          <a:stretch/>
        </p:blipFill>
        <p:spPr>
          <a:xfrm>
            <a:off x="1438200" y="1036800"/>
            <a:ext cx="7334280" cy="44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0" descr="logo 21"/>
          <p:cNvPicPr/>
          <p:nvPr/>
        </p:nvPicPr>
        <p:blipFill>
          <a:blip r:embed="rId1"/>
          <a:stretch/>
        </p:blipFill>
        <p:spPr>
          <a:xfrm>
            <a:off x="6138720" y="6066000"/>
            <a:ext cx="3011760" cy="79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928800" y="642960"/>
            <a:ext cx="720072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рыдаткі са словамі 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 імені, па мянушцы 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дасабляюцца раз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 гэтымі словам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суседа была карова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 мянушцы Ланя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. (Б. Сачан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000080" y="1857240"/>
            <a:ext cx="7201080" cy="865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рыдаткі са злучнікам як адасабляюцца ў тым выпадк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алі маюць адценне прычы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аля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 самая лепшая вучаніца клас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рэкамендавана да ўдзелу ў алімпіядз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000080" y="3286080"/>
            <a:ext cx="728676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алі злучнік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ужываецца са значэннем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у якасці”, “у ролі”,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то назоўні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а злучнікам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не з’яўляецца прыдаткам і на пісьме коскамі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выдзяляецца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У вёсцы Васіля ведалі як цудоўнага выдумшчыка. (М. Маш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071720" y="4572000"/>
            <a:ext cx="7200720" cy="1079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Прыдаткі са злучнікам ці, або адкасабляюцца,  калі маюц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дакладняльнае значэн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Хроніка Быхаўца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 летапіс Быхаўца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, найбольш поўны са спіса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старажытных беларуска-літоўскіх летапісаў. (А. Жураўс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54" name="AutoShape 5"/>
          <p:cNvGrpSpPr/>
          <p:nvPr/>
        </p:nvGrpSpPr>
        <p:grpSpPr>
          <a:xfrm>
            <a:off x="225360" y="603360"/>
            <a:ext cx="4827600" cy="1401480"/>
            <a:chOff x="225360" y="603360"/>
            <a:chExt cx="4827600" cy="1401480"/>
          </a:xfrm>
        </p:grpSpPr>
        <p:pic>
          <p:nvPicPr>
            <p:cNvPr id="155" name="AutoShape 5" descr=""/>
            <p:cNvPicPr/>
            <p:nvPr/>
          </p:nvPicPr>
          <p:blipFill>
            <a:blip r:embed="rId3"/>
            <a:stretch/>
          </p:blipFill>
          <p:spPr>
            <a:xfrm>
              <a:off x="225360" y="603360"/>
              <a:ext cx="48276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85840" y="861840"/>
              <a:ext cx="405900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калічнасці, выражаныя дзеепрыслоўямі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       </a:t>
              </a: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дзеепрыслоўнымі зваротамі, адасабляюцца і на пісьм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дзяляюцца коскам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быўшыся пра ўсё на свеце,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я ўважліва разглядаў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ураўлёў з надзейнага сховішча. (В. Воль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AutoShape 5"/>
          <p:cNvGrpSpPr/>
          <p:nvPr/>
        </p:nvGrpSpPr>
        <p:grpSpPr>
          <a:xfrm>
            <a:off x="3870360" y="1609560"/>
            <a:ext cx="4829040" cy="1395720"/>
            <a:chOff x="3870360" y="1609560"/>
            <a:chExt cx="4829040" cy="1395720"/>
          </a:xfrm>
        </p:grpSpPr>
        <p:pic>
          <p:nvPicPr>
            <p:cNvPr id="158" name="AutoShape 5" descr=""/>
            <p:cNvPicPr/>
            <p:nvPr/>
          </p:nvPicPr>
          <p:blipFill>
            <a:blip r:embed="rId4"/>
            <a:stretch/>
          </p:blipFill>
          <p:spPr>
            <a:xfrm>
              <a:off x="3870360" y="1609560"/>
              <a:ext cx="482904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929040" y="1862280"/>
              <a:ext cx="4059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аўсёды адасабляюцца акалічнасці з прыназоўнікам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ягледзячы н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якія маюць значэнне ўступ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ягледзячы на сваё недамаганне, 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ці сабралас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 дарогу да дачкі. (Б. Са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AutoShape 5"/>
          <p:cNvGrpSpPr/>
          <p:nvPr/>
        </p:nvGrpSpPr>
        <p:grpSpPr>
          <a:xfrm>
            <a:off x="79200" y="2962440"/>
            <a:ext cx="4834080" cy="2152440"/>
            <a:chOff x="79200" y="2962440"/>
            <a:chExt cx="4834080" cy="2152440"/>
          </a:xfrm>
        </p:grpSpPr>
        <p:pic>
          <p:nvPicPr>
            <p:cNvPr id="161" name="AutoShape 5" descr=""/>
            <p:cNvPicPr/>
            <p:nvPr/>
          </p:nvPicPr>
          <p:blipFill>
            <a:blip r:embed="rId5"/>
            <a:stretch/>
          </p:blipFill>
          <p:spPr>
            <a:xfrm>
              <a:off x="79200" y="2962440"/>
              <a:ext cx="483408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2920" y="3279600"/>
              <a:ext cx="405936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і.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 адасабляюцца і не выдзяляюцца коскам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фразеалагізмы тапу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ўшы рукі, нясолана хлябаўшы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                  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нач гледзячы, на лес гледзячы, заплюшчыўшы вочы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вету не бачачы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інш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лопец мужнее і расце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лес гледзячы.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(М. Зарэцкі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AutoShape 5"/>
          <p:cNvGrpSpPr/>
          <p:nvPr/>
        </p:nvGrpSpPr>
        <p:grpSpPr>
          <a:xfrm>
            <a:off x="4224240" y="4035600"/>
            <a:ext cx="4834080" cy="1542960"/>
            <a:chOff x="4224240" y="4035600"/>
            <a:chExt cx="4834080" cy="1542960"/>
          </a:xfrm>
        </p:grpSpPr>
        <p:pic>
          <p:nvPicPr>
            <p:cNvPr id="164" name="AutoShape 5" descr=""/>
            <p:cNvPicPr/>
            <p:nvPr/>
          </p:nvPicPr>
          <p:blipFill>
            <a:blip r:embed="rId6"/>
            <a:stretch/>
          </p:blipFill>
          <p:spPr>
            <a:xfrm>
              <a:off x="4224240" y="4035600"/>
              <a:ext cx="483408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286160" y="4314960"/>
              <a:ext cx="405936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 выдзяляюцца коскамі два сумежныя адасоблены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зеепрыслоўі (дзеепрыслоўныя словазлучэнні)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вязаныя злучнікамі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, ды, ц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ахнач стаяў каля сцірты саломы, як заўсёды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таропіўшы 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чы ў зямлю і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шчапіўшы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рукі на жываце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І. Шамяк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AutoShape 5"/>
          <p:cNvGrpSpPr/>
          <p:nvPr/>
        </p:nvGrpSpPr>
        <p:grpSpPr>
          <a:xfrm>
            <a:off x="438120" y="5535720"/>
            <a:ext cx="5688000" cy="1401480"/>
            <a:chOff x="438120" y="5535720"/>
            <a:chExt cx="5688000" cy="1401480"/>
          </a:xfrm>
        </p:grpSpPr>
        <p:pic>
          <p:nvPicPr>
            <p:cNvPr id="167" name="AutoShape 5" descr=""/>
            <p:cNvPicPr/>
            <p:nvPr/>
          </p:nvPicPr>
          <p:blipFill>
            <a:blip r:embed="rId7"/>
            <a:stretch/>
          </p:blipFill>
          <p:spPr>
            <a:xfrm>
              <a:off x="438120" y="5535720"/>
              <a:ext cx="56880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00040" y="5791320"/>
              <a:ext cx="4797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 адасобленых дзеепрыслоўяў трэба адрозніваць слов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тыпу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оячы, лежачы, седзячы, спяшаючыся, гуляючы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і інш.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якія маюць прыслоўнае значэнне. Звычайна яны стаяц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сля выказніка, часцей у канцы сказа і коскамі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е выдзяляю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лопчык спаў седзяч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Прямоугольник 13" descr=""/>
          <p:cNvPicPr/>
          <p:nvPr/>
        </p:nvPicPr>
        <p:blipFill>
          <a:blip r:embed="rId8"/>
          <a:stretch/>
        </p:blipFill>
        <p:spPr>
          <a:xfrm>
            <a:off x="2865600" y="79200"/>
            <a:ext cx="3973320" cy="4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4" descr=""/>
          <p:cNvPicPr/>
          <p:nvPr/>
        </p:nvPicPr>
        <p:blipFill>
          <a:blip r:embed="rId3"/>
          <a:stretch/>
        </p:blipFill>
        <p:spPr>
          <a:xfrm>
            <a:off x="1365120" y="438120"/>
            <a:ext cx="6334200" cy="476280"/>
          </a:xfrm>
          <a:prstGeom prst="rect">
            <a:avLst/>
          </a:prstGeom>
          <a:ln w="0">
            <a:noFill/>
          </a:ln>
        </p:spPr>
      </p:pic>
      <p:pic>
        <p:nvPicPr>
          <p:cNvPr id="173" name="Схема 6" descr=""/>
          <p:cNvPicPr/>
          <p:nvPr/>
        </p:nvPicPr>
        <p:blipFill>
          <a:blip r:embed="rId4"/>
          <a:stretch/>
        </p:blipFill>
        <p:spPr>
          <a:xfrm>
            <a:off x="1206360" y="1268280"/>
            <a:ext cx="694404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0" descr="logo 21"/>
          <p:cNvPicPr/>
          <p:nvPr/>
        </p:nvPicPr>
        <p:blipFill>
          <a:blip r:embed="rId1"/>
          <a:stretch/>
        </p:blipFill>
        <p:spPr>
          <a:xfrm>
            <a:off x="6138720" y="6066000"/>
            <a:ext cx="301176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4" descr=""/>
          <p:cNvPicPr/>
          <p:nvPr/>
        </p:nvPicPr>
        <p:blipFill>
          <a:blip r:embed="rId3"/>
          <a:stretch/>
        </p:blipFill>
        <p:spPr>
          <a:xfrm>
            <a:off x="1365120" y="79200"/>
            <a:ext cx="6334200" cy="719280"/>
          </a:xfrm>
          <a:prstGeom prst="rect">
            <a:avLst/>
          </a:prstGeom>
          <a:ln w="0">
            <a:noFill/>
          </a:ln>
        </p:spPr>
      </p:pic>
      <p:pic>
        <p:nvPicPr>
          <p:cNvPr id="177" name="Схема 5" descr=""/>
          <p:cNvPicPr/>
          <p:nvPr/>
        </p:nvPicPr>
        <p:blipFill>
          <a:blip r:embed="rId4"/>
          <a:stretch/>
        </p:blipFill>
        <p:spPr>
          <a:xfrm>
            <a:off x="725400" y="963720"/>
            <a:ext cx="7900920" cy="44672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143000" y="5643720"/>
            <a:ext cx="7000920" cy="9284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ўвага.  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Словы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абліва, нават, пераважна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могуць і не мец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дакладняльнага значэння. Тады перад імі </a:t>
            </a:r>
            <a:r>
              <a:rPr b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ска не ставіцца</a:t>
            </a:r>
            <a:r>
              <a:rPr b="1" lang="be-BY" sz="1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Работа не спынялася нават у дождж. (І. Навумен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3:31:35Z</dcterms:created>
  <dc:creator>solahitdinova</dc:creator>
  <dc:description/>
  <dc:language>en-US</dc:language>
  <cp:lastModifiedBy>solahitdinova</cp:lastModifiedBy>
  <dcterms:modified xsi:type="dcterms:W3CDTF">2009-08-11T11:00:22Z</dcterms:modified>
  <cp:revision>26</cp:revision>
  <dc:subject/>
  <dc:title>Слайд 1</dc:title>
</cp:coreProperties>
</file>