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731A-5B0E-4F91-978B-9C25370FE1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B40-5920-4151-876C-6E75A472D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1D70-2305-4035-8D30-C32063E3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164D-BA0C-4816-9F6C-2CDD9B07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0E83-B36F-4756-83F1-01E4951D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90CF-80C8-4DF0-9F59-331B8CF9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3B45-0876-4C25-AB4B-2085BBCD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CFD0-7D79-42E4-BEC0-BDD43612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64E5-D672-45A8-B231-2C8F2BC5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52D9-265E-45CE-AA6C-8F7190C0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6445-2BEB-4F6D-BA57-8A3AD23B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DF63-1945-43A9-946A-6DC5DDFB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A4AC-4467-4B59-8F4A-D836C1A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1BB3-23C8-4331-92A7-165BFDDF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0765-81A3-4408-BDC7-87C950D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557B-F9D8-48F7-BE73-35646FC1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74E1-262E-4BB2-9052-24B7F989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6A33-55DA-49AD-AC28-F93B67C8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8613-1118-4758-98CA-5B52EE12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AF06-7E7B-42FB-8B1E-E72FF835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590A-4BA6-499A-9D30-0AFA2CF3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56AC-3AB1-4896-8681-573CB8D5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CC4C-BF21-4952-A6AF-1542554A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0987-97E3-4603-BD77-BDF813E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B7A1-F036-4771-ADD8-4C4274E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5FE9-792D-4B48-BE39-8DBA282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5C11-CEC4-45B6-90D3-3FB5DEC673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BFE6-FBFE-4425-8533-54A6C20538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3"/>
          <a:stretch/>
        </p:blipFill>
        <p:spPr>
          <a:xfrm>
            <a:off x="1054080" y="3449520"/>
            <a:ext cx="6919920" cy="180504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5" descr=""/>
          <p:cNvPicPr/>
          <p:nvPr/>
        </p:nvPicPr>
        <p:blipFill>
          <a:blip r:embed="rId4"/>
          <a:stretch/>
        </p:blipFill>
        <p:spPr>
          <a:xfrm>
            <a:off x="2060640" y="549360"/>
            <a:ext cx="441936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3571920" y="785880"/>
            <a:ext cx="4857840" cy="150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кладаныя сказы, у якіх сэнсава-граматычныя адносі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аміж часткамі афармляюцца з дапамогай інтанацы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і злучальных злучнікаў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луч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праціў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еркав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TextBox 5"/>
          <p:cNvGrpSpPr/>
          <p:nvPr/>
        </p:nvGrpSpPr>
        <p:grpSpPr>
          <a:xfrm>
            <a:off x="438120" y="890640"/>
            <a:ext cx="2689200" cy="633240"/>
            <a:chOff x="438120" y="890640"/>
            <a:chExt cx="2689200" cy="633240"/>
          </a:xfrm>
        </p:grpSpPr>
        <p:pic>
          <p:nvPicPr>
            <p:cNvPr id="121" name="TextBox 5" descr=""/>
            <p:cNvPicPr/>
            <p:nvPr/>
          </p:nvPicPr>
          <p:blipFill>
            <a:blip r:embed="rId3"/>
            <a:stretch/>
          </p:blipFill>
          <p:spPr>
            <a:xfrm>
              <a:off x="438120" y="890640"/>
              <a:ext cx="26892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00040" y="928800"/>
              <a:ext cx="257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лучан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Прямая соединительная линия 7"/>
          <p:cNvSpPr/>
          <p:nvPr/>
        </p:nvSpPr>
        <p:spPr>
          <a:xfrm>
            <a:off x="3214800" y="1214280"/>
            <a:ext cx="214200" cy="180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Группа 11"/>
          <p:cNvGrpSpPr/>
          <p:nvPr/>
        </p:nvGrpSpPr>
        <p:grpSpPr>
          <a:xfrm>
            <a:off x="4572000" y="2857680"/>
            <a:ext cx="3714840" cy="416160"/>
            <a:chOff x="4572000" y="2857680"/>
            <a:chExt cx="3714840" cy="416160"/>
          </a:xfrm>
        </p:grpSpPr>
        <p:grpSp>
          <p:nvGrpSpPr>
            <p:cNvPr id="125" name="TextBox 8"/>
            <p:cNvGrpSpPr/>
            <p:nvPr/>
          </p:nvGrpSpPr>
          <p:grpSpPr>
            <a:xfrm>
              <a:off x="4572000" y="2857680"/>
              <a:ext cx="3714840" cy="416160"/>
              <a:chOff x="4572000" y="2857680"/>
              <a:chExt cx="3714840" cy="416160"/>
            </a:xfrm>
          </p:grpSpPr>
          <p:pic>
            <p:nvPicPr>
              <p:cNvPr id="126" name="TextBox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2857680"/>
                <a:ext cx="3714840" cy="36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4677120" y="2905560"/>
                <a:ext cx="355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[    ],   </a:t>
                </a:r>
                <a:r>
                  <a:rPr b="1" lang="be-BY" sz="18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 а,  ці, то-то     </a:t>
                </a:r>
                <a:r>
                  <a:rPr b="1" lang="en-US" sz="18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[    ]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Прямоугольник 9"/>
            <p:cNvSpPr/>
            <p:nvPr/>
          </p:nvSpPr>
          <p:spPr>
            <a:xfrm>
              <a:off x="5361480" y="2957760"/>
              <a:ext cx="1163520" cy="156600"/>
            </a:xfrm>
            <a:prstGeom prst="rect">
              <a:avLst/>
            </a:prstGeom>
            <a:noFill/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8"/>
          <p:cNvSpPr/>
          <p:nvPr/>
        </p:nvSpPr>
        <p:spPr>
          <a:xfrm>
            <a:off x="3643200" y="3714840"/>
            <a:ext cx="4357800" cy="185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складаназлучаным ска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можа быць </a:t>
            </a: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зве</a:t>
            </a:r>
            <a:r>
              <a:rPr b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сэнсава-граматычныя часткі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ы і больш</a:t>
            </a:r>
            <a:r>
              <a:rPr b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язюля век людзям лічыла, а сонца цешылася з ніў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Я. Купа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іхто рэдактару не дапамагаў, і яму прыходзіла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ельмі цяжка, але ён гнуў сваю лінію і ні на які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кампрамісы не ішоў. (Я. Кола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9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32" name="Прямоугольник с двумя вырезанными противолежащими углами 4"/>
          <p:cNvGrpSpPr/>
          <p:nvPr/>
        </p:nvGrpSpPr>
        <p:grpSpPr>
          <a:xfrm>
            <a:off x="938160" y="1822320"/>
            <a:ext cx="3902040" cy="1049400"/>
            <a:chOff x="938160" y="1822320"/>
            <a:chExt cx="3902040" cy="1049400"/>
          </a:xfrm>
        </p:grpSpPr>
        <p:pic>
          <p:nvPicPr>
            <p:cNvPr id="133" name="Прямоугольник с двумя выреза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938160" y="1822320"/>
              <a:ext cx="39020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077840" y="1935000"/>
              <a:ext cx="363060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палучальныя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дначасовасць ці паслядоўнасць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ычына ці вынік падзей, фактаў, з’я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Прямоугольник 6"/>
          <p:cNvGrpSpPr/>
          <p:nvPr/>
        </p:nvGrpSpPr>
        <p:grpSpPr>
          <a:xfrm>
            <a:off x="438120" y="804960"/>
            <a:ext cx="3548160" cy="463320"/>
            <a:chOff x="438120" y="804960"/>
            <a:chExt cx="3548160" cy="463320"/>
          </a:xfrm>
        </p:grpSpPr>
        <p:pic>
          <p:nvPicPr>
            <p:cNvPr id="13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38120" y="804960"/>
              <a:ext cx="354816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0040" y="85716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энсавыя адносі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оугольник 7"/>
          <p:cNvGrpSpPr/>
          <p:nvPr/>
        </p:nvGrpSpPr>
        <p:grpSpPr>
          <a:xfrm>
            <a:off x="5010120" y="676440"/>
            <a:ext cx="3402000" cy="634680"/>
            <a:chOff x="5010120" y="676440"/>
            <a:chExt cx="3402000" cy="634680"/>
          </a:xfrm>
        </p:grpSpPr>
        <p:pic>
          <p:nvPicPr>
            <p:cNvPr id="139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5010120" y="676440"/>
              <a:ext cx="340200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072040" y="714240"/>
              <a:ext cx="32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лучнікі, што садзейнічаюц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х выражэнню, схемы сказа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оугольник с двумя вырезанными противолежащими углами 8"/>
          <p:cNvGrpSpPr/>
          <p:nvPr/>
        </p:nvGrpSpPr>
        <p:grpSpPr>
          <a:xfrm>
            <a:off x="938160" y="3322800"/>
            <a:ext cx="3902040" cy="1193760"/>
            <a:chOff x="938160" y="3322800"/>
            <a:chExt cx="3902040" cy="1193760"/>
          </a:xfrm>
        </p:grpSpPr>
        <p:pic>
          <p:nvPicPr>
            <p:cNvPr id="142" name="Прямоугольник с двумя вырезанными противолежащими углами 8" descr=""/>
            <p:cNvPicPr/>
            <p:nvPr/>
          </p:nvPicPr>
          <p:blipFill>
            <a:blip r:embed="rId6"/>
            <a:stretch/>
          </p:blipFill>
          <p:spPr>
            <a:xfrm>
              <a:off x="938160" y="3322800"/>
              <a:ext cx="39020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089000" y="3446640"/>
              <a:ext cx="360828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упраціўныя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пастаўленне ці супрацьпастаўленн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бмежаванне падзей, фактаў, з’я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Прямоугольник с двумя вырезанными противолежащими углами 10"/>
          <p:cNvGrpSpPr/>
          <p:nvPr/>
        </p:nvGrpSpPr>
        <p:grpSpPr>
          <a:xfrm>
            <a:off x="938160" y="4896000"/>
            <a:ext cx="3828960" cy="1120680"/>
            <a:chOff x="938160" y="4896000"/>
            <a:chExt cx="3828960" cy="1120680"/>
          </a:xfrm>
        </p:grpSpPr>
        <p:pic>
          <p:nvPicPr>
            <p:cNvPr id="145" name="Прямоугольник с двумя вырезанными противолежащими углами 10" descr=""/>
            <p:cNvPicPr/>
            <p:nvPr/>
          </p:nvPicPr>
          <p:blipFill>
            <a:blip r:embed="rId7"/>
            <a:stretch/>
          </p:blipFill>
          <p:spPr>
            <a:xfrm>
              <a:off x="938160" y="4896000"/>
              <a:ext cx="38289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082520" y="5013360"/>
              <a:ext cx="354816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азмеркавальныя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чаргаванн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гчымасць аднаго факта ці з’явы з ліку назва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Группа 16"/>
          <p:cNvGrpSpPr/>
          <p:nvPr/>
        </p:nvGrpSpPr>
        <p:grpSpPr>
          <a:xfrm>
            <a:off x="5286240" y="1857240"/>
            <a:ext cx="2857680" cy="785880"/>
            <a:chOff x="5286240" y="1857240"/>
            <a:chExt cx="2857680" cy="785880"/>
          </a:xfrm>
        </p:grpSpPr>
        <p:grpSp>
          <p:nvGrpSpPr>
            <p:cNvPr id="148" name="Прямоугольник с двумя вырезанными противолежащими углами 5"/>
            <p:cNvGrpSpPr/>
            <p:nvPr/>
          </p:nvGrpSpPr>
          <p:grpSpPr>
            <a:xfrm>
              <a:off x="5286240" y="1857240"/>
              <a:ext cx="2857680" cy="785880"/>
              <a:chOff x="5286240" y="1857240"/>
              <a:chExt cx="2857680" cy="785880"/>
            </a:xfrm>
          </p:grpSpPr>
          <p:pic>
            <p:nvPicPr>
              <p:cNvPr id="149" name="Прямоугольник с двумя вырезанными противолежащими углами 5" descr=""/>
              <p:cNvPicPr/>
              <p:nvPr/>
            </p:nvPicPr>
            <p:blipFill>
              <a:blip r:embed="rId8"/>
              <a:stretch/>
            </p:blipFill>
            <p:spPr>
              <a:xfrm>
                <a:off x="5286240" y="1857240"/>
                <a:ext cx="285768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408640" y="1943640"/>
                <a:ext cx="2619360" cy="56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і, ды (у значэнні і), ні-ні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[   ],    </a:t>
                </a:r>
                <a:r>
                  <a:rPr b="1" lang="be-BY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і   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 [   ]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Прямоугольник 12"/>
            <p:cNvSpPr/>
            <p:nvPr/>
          </p:nvSpPr>
          <p:spPr>
            <a:xfrm>
              <a:off x="6581160" y="2257920"/>
              <a:ext cx="274320" cy="185400"/>
            </a:xfrm>
            <a:prstGeom prst="rect">
              <a:avLst/>
            </a:prstGeom>
            <a:noFill/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17"/>
          <p:cNvGrpSpPr/>
          <p:nvPr/>
        </p:nvGrpSpPr>
        <p:grpSpPr>
          <a:xfrm>
            <a:off x="5429160" y="3357720"/>
            <a:ext cx="2857680" cy="928440"/>
            <a:chOff x="5429160" y="3357720"/>
            <a:chExt cx="2857680" cy="928440"/>
          </a:xfrm>
        </p:grpSpPr>
        <p:grpSp>
          <p:nvGrpSpPr>
            <p:cNvPr id="153" name="Прямоугольник с двумя вырезанными противолежащими углами 9"/>
            <p:cNvGrpSpPr/>
            <p:nvPr/>
          </p:nvGrpSpPr>
          <p:grpSpPr>
            <a:xfrm>
              <a:off x="5429160" y="3357720"/>
              <a:ext cx="2857680" cy="928440"/>
              <a:chOff x="5429160" y="3357720"/>
              <a:chExt cx="2857680" cy="928440"/>
            </a:xfrm>
          </p:grpSpPr>
          <p:pic>
            <p:nvPicPr>
              <p:cNvPr id="154" name="Прямоугольник с двумя вырезанными противолежащими углами 9" descr=""/>
              <p:cNvPicPr/>
              <p:nvPr/>
            </p:nvPicPr>
            <p:blipFill>
              <a:blip r:embed="rId9"/>
              <a:stretch/>
            </p:blipFill>
            <p:spPr>
              <a:xfrm>
                <a:off x="5429160" y="3357720"/>
                <a:ext cx="2857680" cy="92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559840" y="3457440"/>
                <a:ext cx="2601720" cy="68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а, але, ды (у значэнні але)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аднак, зато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[   ],</a:t>
                </a:r>
                <a:r>
                  <a:rPr b="1" lang="be-BY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be-BY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а    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[   ].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Прямоугольник 13"/>
            <p:cNvSpPr/>
            <p:nvPr/>
          </p:nvSpPr>
          <p:spPr>
            <a:xfrm>
              <a:off x="6723360" y="3894840"/>
              <a:ext cx="275040" cy="189720"/>
            </a:xfrm>
            <a:prstGeom prst="rect">
              <a:avLst/>
            </a:prstGeom>
            <a:noFill/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18"/>
          <p:cNvGrpSpPr/>
          <p:nvPr/>
        </p:nvGrpSpPr>
        <p:grpSpPr>
          <a:xfrm>
            <a:off x="5429160" y="4929120"/>
            <a:ext cx="2857680" cy="1000080"/>
            <a:chOff x="5429160" y="4929120"/>
            <a:chExt cx="2857680" cy="1000080"/>
          </a:xfrm>
        </p:grpSpPr>
        <p:grpSp>
          <p:nvGrpSpPr>
            <p:cNvPr id="158" name="Прямоугольник с двумя вырезанными противолежащими углами 11"/>
            <p:cNvGrpSpPr/>
            <p:nvPr/>
          </p:nvGrpSpPr>
          <p:grpSpPr>
            <a:xfrm>
              <a:off x="5429160" y="4929120"/>
              <a:ext cx="2857680" cy="1000080"/>
              <a:chOff x="5429160" y="4929120"/>
              <a:chExt cx="2857680" cy="1000080"/>
            </a:xfrm>
          </p:grpSpPr>
          <p:pic>
            <p:nvPicPr>
              <p:cNvPr id="159" name="Прямоугольник с двумя вырезанными противолежащими углами 11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29160" y="4929120"/>
                <a:ext cx="28576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5565600" y="5033520"/>
                <a:ext cx="2590200" cy="7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be-BY" sz="12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ці-ці, або-або, то-то, не то- не то, ці то ці т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be-BY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то    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[   ],  </a:t>
                </a:r>
                <a:r>
                  <a:rPr b="1" lang="be-BY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то   </a:t>
                </a:r>
                <a:r>
                  <a:rPr b="1" lang="en-US" sz="1600" spc="-1" strike="noStrike">
                    <a:solidFill>
                      <a:srgbClr val="00007d"/>
                    </a:solidFill>
                    <a:latin typeface="Times New Roman"/>
                    <a:ea typeface="Times New Roman"/>
                  </a:rPr>
                  <a:t>[   ]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Прямоугольник 14"/>
            <p:cNvSpPr/>
            <p:nvPr/>
          </p:nvSpPr>
          <p:spPr>
            <a:xfrm>
              <a:off x="6035760" y="5405400"/>
              <a:ext cx="343800" cy="190800"/>
            </a:xfrm>
            <a:prstGeom prst="rect">
              <a:avLst/>
            </a:prstGeom>
            <a:noFill/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15"/>
            <p:cNvSpPr/>
            <p:nvPr/>
          </p:nvSpPr>
          <p:spPr>
            <a:xfrm>
              <a:off x="6860880" y="5405400"/>
              <a:ext cx="343800" cy="190800"/>
            </a:xfrm>
            <a:prstGeom prst="rect">
              <a:avLst/>
            </a:prstGeom>
            <a:noFill/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Прямая соединительная линия 20"/>
          <p:cNvSpPr/>
          <p:nvPr/>
        </p:nvSpPr>
        <p:spPr>
          <a:xfrm flipH="1">
            <a:off x="641520" y="1214280"/>
            <a:ext cx="1440" cy="414504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22"/>
          <p:cNvCxnSpPr/>
          <p:nvPr/>
        </p:nvCxnSpPr>
        <p:spPr>
          <a:xfrm>
            <a:off x="642960" y="2286000"/>
            <a:ext cx="28656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5" name="Прямая со стрелкой 24"/>
          <p:cNvCxnSpPr/>
          <p:nvPr/>
        </p:nvCxnSpPr>
        <p:spPr>
          <a:xfrm>
            <a:off x="642960" y="3929040"/>
            <a:ext cx="28656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6" name="Прямая со стрелкой 26"/>
          <p:cNvCxnSpPr/>
          <p:nvPr/>
        </p:nvCxnSpPr>
        <p:spPr>
          <a:xfrm>
            <a:off x="642960" y="5357880"/>
            <a:ext cx="28656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7" name="Прямая со стрелкой 29"/>
          <p:cNvCxnSpPr/>
          <p:nvPr/>
        </p:nvCxnSpPr>
        <p:spPr>
          <a:xfrm>
            <a:off x="4785840" y="2286000"/>
            <a:ext cx="42948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8" name="Прямая со стрелкой 31"/>
          <p:cNvCxnSpPr/>
          <p:nvPr/>
        </p:nvCxnSpPr>
        <p:spPr>
          <a:xfrm>
            <a:off x="4785840" y="3857760"/>
            <a:ext cx="50076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9" name="Прямая со стрелкой 33"/>
          <p:cNvCxnSpPr/>
          <p:nvPr/>
        </p:nvCxnSpPr>
        <p:spPr>
          <a:xfrm>
            <a:off x="4714560" y="5500800"/>
            <a:ext cx="57204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72" name="TextBox 11"/>
          <p:cNvGrpSpPr/>
          <p:nvPr/>
        </p:nvGrpSpPr>
        <p:grpSpPr>
          <a:xfrm>
            <a:off x="2152800" y="676440"/>
            <a:ext cx="6046560" cy="774360"/>
            <a:chOff x="2152800" y="676440"/>
            <a:chExt cx="6046560" cy="774360"/>
          </a:xfrm>
        </p:grpSpPr>
        <p:pic>
          <p:nvPicPr>
            <p:cNvPr id="173" name="TextBox 11" descr=""/>
            <p:cNvPicPr/>
            <p:nvPr/>
          </p:nvPicPr>
          <p:blipFill>
            <a:blip r:embed="rId3"/>
            <a:stretch/>
          </p:blipFill>
          <p:spPr>
            <a:xfrm>
              <a:off x="2152800" y="676440"/>
              <a:ext cx="604656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246400" y="746280"/>
              <a:ext cx="58658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энсава-граматычныя часткі ў складаназлучаным сказе аддзяляюцца адна ад другой 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оскай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За акном над хутарамі ноч, і маўчаць за возерам таполі. (П. Трус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TextBox 12"/>
          <p:cNvGrpSpPr/>
          <p:nvPr/>
        </p:nvGrpSpPr>
        <p:grpSpPr>
          <a:xfrm>
            <a:off x="2152800" y="1536840"/>
            <a:ext cx="6046560" cy="1145880"/>
            <a:chOff x="2152800" y="1536840"/>
            <a:chExt cx="6046560" cy="1145880"/>
          </a:xfrm>
        </p:grpSpPr>
        <p:pic>
          <p:nvPicPr>
            <p:cNvPr id="176" name="TextBox 12" descr=""/>
            <p:cNvPicPr/>
            <p:nvPr/>
          </p:nvPicPr>
          <p:blipFill>
            <a:blip r:embed="rId4"/>
            <a:stretch/>
          </p:blipFill>
          <p:spPr>
            <a:xfrm>
              <a:off x="2152800" y="1536840"/>
              <a:ext cx="604656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265480" y="1622520"/>
              <a:ext cx="58276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другая частка складаназлучанага сказа паказвае вынік, супрацьпастаўленне, хуткую змену падзей, тады на мяжы частак перад злучнікам замест коскі ставіцца 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ацяжнік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Прайшло некалькі хвілін – і ў начным паветры пачуўся гучны трэск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В. Воль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TextBox 14"/>
          <p:cNvGrpSpPr/>
          <p:nvPr/>
        </p:nvGrpSpPr>
        <p:grpSpPr>
          <a:xfrm>
            <a:off x="2152800" y="2822400"/>
            <a:ext cx="6046560" cy="957600"/>
            <a:chOff x="2152800" y="2822400"/>
            <a:chExt cx="6046560" cy="957600"/>
          </a:xfrm>
        </p:grpSpPr>
        <p:pic>
          <p:nvPicPr>
            <p:cNvPr id="179" name="TextBox 14" descr=""/>
            <p:cNvPicPr/>
            <p:nvPr/>
          </p:nvPicPr>
          <p:blipFill>
            <a:blip r:embed="rId5"/>
            <a:stretch/>
          </p:blipFill>
          <p:spPr>
            <a:xfrm>
              <a:off x="2152800" y="2822400"/>
              <a:ext cx="6046560" cy="9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255760" y="2898720"/>
              <a:ext cx="58467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сэнсава-граматычныя часткі складаназлучанага сказа знаходзяцца ў цеснай узаемасувязі, тады на мяжы частак можа ставіцца 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оска або працяжнік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Дыхнула вясна, і зямля стала вясёлая. (К. Чорны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Дыхнула вясна – і зямля стала вясёла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TextBox 15"/>
          <p:cNvGrpSpPr/>
          <p:nvPr/>
        </p:nvGrpSpPr>
        <p:grpSpPr>
          <a:xfrm>
            <a:off x="2152800" y="3962520"/>
            <a:ext cx="6046560" cy="1182600"/>
            <a:chOff x="2152800" y="3962520"/>
            <a:chExt cx="6046560" cy="1182600"/>
          </a:xfrm>
        </p:grpSpPr>
        <p:pic>
          <p:nvPicPr>
            <p:cNvPr id="182" name="TextBox 15" descr=""/>
            <p:cNvPicPr/>
            <p:nvPr/>
          </p:nvPicPr>
          <p:blipFill>
            <a:blip r:embed="rId6"/>
            <a:stretch/>
          </p:blipFill>
          <p:spPr>
            <a:xfrm>
              <a:off x="2152800" y="3962520"/>
              <a:ext cx="60465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266920" y="4052880"/>
              <a:ext cx="58244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часткі маюць ускладненую будову і свае знакі прыпынку, а сэнсавая сувязь паміж імі аслаблена, яны раздзяляюцца 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ропкай з коскай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ечарам, перад самым заходам сонца, над зямлёй быццам навісаў невідочны цяжар; і павевы ветру, насычаныя пахамі расцвіўшай грэчкі і свежаскошанага сена, былі густыя, цягучыя. (Т. Хадкевіч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TextBox 17"/>
          <p:cNvGrpSpPr/>
          <p:nvPr/>
        </p:nvGrpSpPr>
        <p:grpSpPr>
          <a:xfrm>
            <a:off x="2225520" y="249120"/>
            <a:ext cx="4827600" cy="416160"/>
            <a:chOff x="2225520" y="249120"/>
            <a:chExt cx="4827600" cy="416160"/>
          </a:xfrm>
        </p:grpSpPr>
        <p:pic>
          <p:nvPicPr>
            <p:cNvPr id="185" name="TextBox 17" descr=""/>
            <p:cNvPicPr/>
            <p:nvPr/>
          </p:nvPicPr>
          <p:blipFill>
            <a:blip r:embed="rId7"/>
            <a:stretch/>
          </p:blipFill>
          <p:spPr>
            <a:xfrm>
              <a:off x="2225520" y="249120"/>
              <a:ext cx="4827600" cy="4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286000" y="285840"/>
              <a:ext cx="47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накі прыпынку ў складаназлучаных сказ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AutoShape 9"/>
          <p:cNvSpPr/>
          <p:nvPr/>
        </p:nvSpPr>
        <p:spPr>
          <a:xfrm>
            <a:off x="915840" y="268200"/>
            <a:ext cx="1227240" cy="330372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717840 h 3303720"/>
              <a:gd name="textAreaBottom" fmla="*/ 2441880 h 330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88" stAng="-5400000" swAng="-5400000"/>
                <a:lnTo>
                  <a:pt x="0" y="11271"/>
                </a:lnTo>
                <a:arcTo wR="21600" hR="9388" stAng="10800000" swAng="-3215534"/>
                <a:lnTo>
                  <a:pt x="15007" y="21152"/>
                </a:lnTo>
                <a:lnTo>
                  <a:pt x="21600" y="19718"/>
                </a:lnTo>
                <a:lnTo>
                  <a:pt x="15007" y="17387"/>
                </a:lnTo>
                <a:lnTo>
                  <a:pt x="15007" y="18328"/>
                </a:lnTo>
                <a:arcTo wR="21600" hR="9388" stAng="7584466" swAng="3065026"/>
                <a:lnTo>
                  <a:pt x="109" y="10330"/>
                </a:lnTo>
                <a:arcTo wR="21600" hR="9388" stAng="-10649493" swAng="5249493"/>
                <a:close/>
              </a:path>
              <a:path fill="darkenLess" w="21600" h="21600">
                <a:moveTo>
                  <a:pt x="21600" y="0"/>
                </a:moveTo>
                <a:arcTo wR="21600" hR="9388" stAng="-5400000" swAng="-5400000"/>
                <a:lnTo>
                  <a:pt x="0" y="9388"/>
                </a:lnTo>
                <a:arcTo wR="21600" hR="9388" stAng="10800000" swAng="-150507"/>
                <a:lnTo>
                  <a:pt x="109" y="10330"/>
                </a:lnTo>
                <a:arcTo wR="21600" hR="9388" stAng="-10649493" swAng="5249493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923760" y="258840"/>
            <a:ext cx="1219320" cy="481320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1099440 h 4813200"/>
              <a:gd name="textAreaBottom" fmla="*/ 3584880 h 481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69" stAng="-5400000" swAng="-5400000"/>
                <a:lnTo>
                  <a:pt x="0" y="11154"/>
                </a:lnTo>
                <a:arcTo wR="21600" hR="9869" stAng="10800000" swAng="-3135927"/>
                <a:lnTo>
                  <a:pt x="14400" y="21036"/>
                </a:lnTo>
                <a:lnTo>
                  <a:pt x="21600" y="20380"/>
                </a:lnTo>
                <a:lnTo>
                  <a:pt x="14400" y="18595"/>
                </a:lnTo>
                <a:lnTo>
                  <a:pt x="14400" y="19173"/>
                </a:lnTo>
                <a:arcTo wR="21600" hR="9869" stAng="7664073" swAng="3033483"/>
                <a:lnTo>
                  <a:pt x="46" y="10511"/>
                </a:lnTo>
                <a:arcTo wR="21600" hR="9869" stAng="-10697556" swAng="5297556"/>
                <a:close/>
              </a:path>
              <a:path fill="darkenLess" w="21600" h="21600">
                <a:moveTo>
                  <a:pt x="21600" y="0"/>
                </a:moveTo>
                <a:arcTo wR="21600" hR="9869" stAng="-5400000" swAng="-5400000"/>
                <a:lnTo>
                  <a:pt x="0" y="9869"/>
                </a:lnTo>
                <a:arcTo wR="21600" hR="9869" stAng="10800000" swAng="-102444"/>
                <a:lnTo>
                  <a:pt x="46" y="10511"/>
                </a:lnTo>
                <a:arcTo wR="21600" hR="9869" stAng="-10697556" swAng="529755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 rot="317400">
            <a:off x="998280" y="280800"/>
            <a:ext cx="1125360" cy="1098360"/>
          </a:xfrm>
          <a:custGeom>
            <a:avLst/>
            <a:gdLst>
              <a:gd name="textAreaLeft" fmla="*/ 150480 w 1125360"/>
              <a:gd name="textAreaRight" fmla="*/ 974880 w 1125360"/>
              <a:gd name="textAreaTop" fmla="*/ 182160 h 1098360"/>
              <a:gd name="textAreaBottom" fmla="*/ 804960 h 109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2641868"/>
                <a:lnTo>
                  <a:pt x="14584" y="21211"/>
                </a:lnTo>
                <a:lnTo>
                  <a:pt x="21600" y="16878"/>
                </a:lnTo>
                <a:lnTo>
                  <a:pt x="14584" y="11766"/>
                </a:lnTo>
                <a:lnTo>
                  <a:pt x="14584" y="13954"/>
                </a:lnTo>
                <a:arcTo wR="21600" hR="7172" stAng="8158132" swAng="2212903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 rot="317400">
            <a:off x="896400" y="264960"/>
            <a:ext cx="1204920" cy="21718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447840 h 2171880"/>
              <a:gd name="textAreaBottom" fmla="*/ 1595160 h 21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12" stAng="-5400000" swAng="-5400000"/>
                <a:lnTo>
                  <a:pt x="0" y="11407"/>
                </a:lnTo>
                <a:arcTo wR="21600" hR="8912" stAng="10800000" swAng="-2868924"/>
                <a:lnTo>
                  <a:pt x="14035" y="21036"/>
                </a:lnTo>
                <a:lnTo>
                  <a:pt x="21600" y="19072"/>
                </a:lnTo>
                <a:lnTo>
                  <a:pt x="14035" y="15979"/>
                </a:lnTo>
                <a:lnTo>
                  <a:pt x="14035" y="17260"/>
                </a:lnTo>
                <a:arcTo wR="21600" hR="8912" stAng="7931076" swAng="2668631"/>
                <a:lnTo>
                  <a:pt x="213" y="10159"/>
                </a:lnTo>
                <a:arcTo wR="21600" hR="8912" stAng="-10599707" swAng="5199707"/>
                <a:close/>
              </a:path>
              <a:path fill="darkenLess" w="21600" h="21600">
                <a:moveTo>
                  <a:pt x="21600" y="0"/>
                </a:moveTo>
                <a:arcTo wR="21600" hR="8912" stAng="-5400000" swAng="-5400000"/>
                <a:lnTo>
                  <a:pt x="0" y="8912"/>
                </a:lnTo>
                <a:arcTo wR="21600" hR="8912" stAng="10800000" swAng="-200293"/>
                <a:lnTo>
                  <a:pt x="213" y="10159"/>
                </a:lnTo>
                <a:arcTo wR="21600" hR="8912" stAng="-10599707" swAng="5199707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TextBox 13"/>
          <p:cNvGrpSpPr/>
          <p:nvPr/>
        </p:nvGrpSpPr>
        <p:grpSpPr>
          <a:xfrm>
            <a:off x="2152800" y="5248440"/>
            <a:ext cx="6046560" cy="1152360"/>
            <a:chOff x="2152800" y="5248440"/>
            <a:chExt cx="6046560" cy="1152360"/>
          </a:xfrm>
        </p:grpSpPr>
        <p:pic>
          <p:nvPicPr>
            <p:cNvPr id="192" name="TextBox 13" descr=""/>
            <p:cNvPicPr/>
            <p:nvPr/>
          </p:nvPicPr>
          <p:blipFill>
            <a:blip r:embed="rId8"/>
            <a:stretch/>
          </p:blipFill>
          <p:spPr>
            <a:xfrm>
              <a:off x="2152800" y="5248440"/>
              <a:ext cx="6046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265480" y="5337000"/>
              <a:ext cx="58276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ў складаназлучаным сказе з адным спалучальным ці размеркавальным злучнікам ёсць агульны даданы член, пабочнае слова або часціца, 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оск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паміж сэнсава-граматычнымі часткамі 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е ставіцц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Тут раслі яліны і трапяталі бярозы. (К. Чорны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яхай гудзе вецер і сыпле снег. (У. Мяжэвіч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9"/>
          <p:cNvSpPr/>
          <p:nvPr/>
        </p:nvSpPr>
        <p:spPr>
          <a:xfrm>
            <a:off x="928800" y="357120"/>
            <a:ext cx="1218960" cy="564372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307160 h 5643720"/>
              <a:gd name="textAreaBottom" fmla="*/ 4208040 h 564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6" stAng="-5400000" swAng="-5400000"/>
                <a:lnTo>
                  <a:pt x="0" y="11102"/>
                </a:lnTo>
                <a:arcTo wR="21600" hR="10006" stAng="10800000" swAng="-3158827"/>
                <a:lnTo>
                  <a:pt x="14400" y="21028"/>
                </a:lnTo>
                <a:lnTo>
                  <a:pt x="21600" y="20559"/>
                </a:lnTo>
                <a:lnTo>
                  <a:pt x="14400" y="18946"/>
                </a:lnTo>
                <a:lnTo>
                  <a:pt x="14400" y="19439"/>
                </a:lnTo>
                <a:arcTo wR="21600" hR="10006" stAng="7641173" swAng="3071498"/>
                <a:lnTo>
                  <a:pt x="32" y="10554"/>
                </a:lnTo>
                <a:arcTo wR="21600" hR="10006" stAng="-10712671" swAng="5312671"/>
                <a:close/>
              </a:path>
              <a:path fill="darkenLess" w="21600" h="21600">
                <a:moveTo>
                  <a:pt x="21600" y="0"/>
                </a:moveTo>
                <a:arcTo wR="21600" hR="10006" stAng="-5400000" swAng="-5400000"/>
                <a:lnTo>
                  <a:pt x="0" y="10006"/>
                </a:lnTo>
                <a:arcTo wR="21600" hR="10006" stAng="10800000" swAng="-87329"/>
                <a:lnTo>
                  <a:pt x="32" y="10554"/>
                </a:lnTo>
                <a:arcTo wR="21600" hR="10006" stAng="-10712671" swAng="5312671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97" name="Прямоугольник с двумя вырезанными противолежащими углами 4"/>
          <p:cNvGrpSpPr/>
          <p:nvPr/>
        </p:nvGrpSpPr>
        <p:grpSpPr>
          <a:xfrm>
            <a:off x="938160" y="1036800"/>
            <a:ext cx="2543400" cy="1047600"/>
            <a:chOff x="938160" y="1036800"/>
            <a:chExt cx="2543400" cy="1047600"/>
          </a:xfrm>
        </p:grpSpPr>
        <p:pic>
          <p:nvPicPr>
            <p:cNvPr id="198" name="Прямоугольник с двумя вырезанными противолежащими углами 4" descr=""/>
            <p:cNvPicPr/>
            <p:nvPr/>
          </p:nvPicPr>
          <p:blipFill>
            <a:blip r:embed="rId3"/>
            <a:stretch/>
          </p:blipFill>
          <p:spPr>
            <a:xfrm>
              <a:off x="938160" y="1036800"/>
              <a:ext cx="25434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077840" y="1149480"/>
              <a:ext cx="227340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творах мастацкага стыл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6"/>
          <p:cNvGrpSpPr/>
          <p:nvPr/>
        </p:nvGrpSpPr>
        <p:grpSpPr>
          <a:xfrm>
            <a:off x="1798560" y="92160"/>
            <a:ext cx="4754520" cy="706320"/>
            <a:chOff x="1798560" y="92160"/>
            <a:chExt cx="4754520" cy="706320"/>
          </a:xfrm>
        </p:grpSpPr>
        <p:pic>
          <p:nvPicPr>
            <p:cNvPr id="201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798560" y="92160"/>
              <a:ext cx="47545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857240" y="142920"/>
              <a:ext cx="464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энсава-стылістычная ро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даназлучаных сказаў у тэкст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ямоугольник с двумя вырезанными противолежащими углами 8"/>
          <p:cNvGrpSpPr/>
          <p:nvPr/>
        </p:nvGrpSpPr>
        <p:grpSpPr>
          <a:xfrm>
            <a:off x="938160" y="2749680"/>
            <a:ext cx="2543400" cy="1047600"/>
            <a:chOff x="938160" y="2749680"/>
            <a:chExt cx="2543400" cy="1047600"/>
          </a:xfrm>
        </p:grpSpPr>
        <p:pic>
          <p:nvPicPr>
            <p:cNvPr id="204" name="Прямоугольник с двумя вырезанными противолежащими углами 8" descr=""/>
            <p:cNvPicPr/>
            <p:nvPr/>
          </p:nvPicPr>
          <p:blipFill>
            <a:blip r:embed="rId5"/>
            <a:stretch/>
          </p:blipFill>
          <p:spPr>
            <a:xfrm>
              <a:off x="938160" y="2749680"/>
              <a:ext cx="25434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077840" y="2863800"/>
              <a:ext cx="227340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навуковым стыл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Прямоугольник с двумя вырезанными противолежащими углами 10"/>
          <p:cNvGrpSpPr/>
          <p:nvPr/>
        </p:nvGrpSpPr>
        <p:grpSpPr>
          <a:xfrm>
            <a:off x="938160" y="3962520"/>
            <a:ext cx="2616120" cy="981000"/>
            <a:chOff x="938160" y="3962520"/>
            <a:chExt cx="2616120" cy="981000"/>
          </a:xfrm>
        </p:grpSpPr>
        <p:pic>
          <p:nvPicPr>
            <p:cNvPr id="207" name="Прямоугольник с двумя вырезанными противолежащими углами 10" descr=""/>
            <p:cNvPicPr/>
            <p:nvPr/>
          </p:nvPicPr>
          <p:blipFill>
            <a:blip r:embed="rId6"/>
            <a:stretch/>
          </p:blipFill>
          <p:spPr>
            <a:xfrm>
              <a:off x="938160" y="3962520"/>
              <a:ext cx="26161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071720" y="4071960"/>
              <a:ext cx="23572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творах публіцыстычнага стыл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оугольник с двумя вырезанными противолежащими углами 5"/>
          <p:cNvGrpSpPr/>
          <p:nvPr/>
        </p:nvGrpSpPr>
        <p:grpSpPr>
          <a:xfrm>
            <a:off x="4011480" y="1036800"/>
            <a:ext cx="4827600" cy="1407960"/>
            <a:chOff x="4011480" y="1036800"/>
            <a:chExt cx="4827600" cy="1407960"/>
          </a:xfrm>
        </p:grpSpPr>
        <p:pic>
          <p:nvPicPr>
            <p:cNvPr id="210" name="Прямоугольник с двумя вырезанными противолежащими углами 5" descr=""/>
            <p:cNvPicPr/>
            <p:nvPr/>
          </p:nvPicPr>
          <p:blipFill>
            <a:blip r:embed="rId7"/>
            <a:stretch/>
          </p:blipFill>
          <p:spPr>
            <a:xfrm>
              <a:off x="4011480" y="1036800"/>
              <a:ext cx="482760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178160" y="1177920"/>
              <a:ext cx="450216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’яўляюцца сродкам стварэння вобразнай, канкрэтна-пачуццёвай карціны, эстэтычнага ўздзеяння на чытача, выражэння пачуццяў, ацэнак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Яны могуць перадаваць з’явы, падзеі, факты, якія адбываюцца адначасова ці паслядоўна, чаргаванне з’яў, супастаўленне або супрацьпастаўленне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оугольник с двумя вырезанными противолежащими углами 9"/>
          <p:cNvGrpSpPr/>
          <p:nvPr/>
        </p:nvGrpSpPr>
        <p:grpSpPr>
          <a:xfrm>
            <a:off x="4084560" y="2676600"/>
            <a:ext cx="4754520" cy="981000"/>
            <a:chOff x="4084560" y="2676600"/>
            <a:chExt cx="4754520" cy="981000"/>
          </a:xfrm>
        </p:grpSpPr>
        <p:pic>
          <p:nvPicPr>
            <p:cNvPr id="213" name="Прямоугольник с двумя вырезанными противолежащими углами 9" descr=""/>
            <p:cNvPicPr/>
            <p:nvPr/>
          </p:nvPicPr>
          <p:blipFill>
            <a:blip r:embed="rId8"/>
            <a:stretch/>
          </p:blipFill>
          <p:spPr>
            <a:xfrm>
              <a:off x="4084560" y="2676600"/>
              <a:ext cx="47545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214880" y="2786040"/>
              <a:ext cx="45003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ля выражэння складанай думкі, абгрунтавання той ці іншай з’явы, падзеі, абагульнення навуковых паняццяў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оугольник с двумя вырезанными противолежащими углами 11"/>
          <p:cNvGrpSpPr/>
          <p:nvPr/>
        </p:nvGrpSpPr>
        <p:grpSpPr>
          <a:xfrm>
            <a:off x="4084560" y="3749760"/>
            <a:ext cx="4754520" cy="1407960"/>
            <a:chOff x="4084560" y="3749760"/>
            <a:chExt cx="4754520" cy="1407960"/>
          </a:xfrm>
        </p:grpSpPr>
        <p:pic>
          <p:nvPicPr>
            <p:cNvPr id="216" name="Прямоугольник с двумя вырезанными противолежащими углами 11" descr=""/>
            <p:cNvPicPr/>
            <p:nvPr/>
          </p:nvPicPr>
          <p:blipFill>
            <a:blip r:embed="rId9"/>
            <a:stretch/>
          </p:blipFill>
          <p:spPr>
            <a:xfrm>
              <a:off x="4084560" y="3749760"/>
              <a:ext cx="47545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49800" y="3894120"/>
              <a:ext cx="4430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ля адлюстравання розных падзей, фактаў, асоб, а таксама для супастаўлення і супрацьпастаўленн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Яны з’яўляюцца сродкам выражэння эмацыянальнасці і экспрэсіўнасці – стылёвай рысы публіцыстычнага стылю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х ужываюць і для перадачы інфармацыі, аналітычнай думкі, аўтарскай ацэнкі, пазіцыі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Прямая соединительная линия 20"/>
          <p:cNvSpPr/>
          <p:nvPr/>
        </p:nvSpPr>
        <p:spPr>
          <a:xfrm flipH="1">
            <a:off x="641520" y="928800"/>
            <a:ext cx="1440" cy="500220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22"/>
          <p:cNvCxnSpPr/>
          <p:nvPr/>
        </p:nvCxnSpPr>
        <p:spPr>
          <a:xfrm>
            <a:off x="642960" y="1571760"/>
            <a:ext cx="28656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20" name="Прямая со стрелкой 24"/>
          <p:cNvCxnSpPr/>
          <p:nvPr/>
        </p:nvCxnSpPr>
        <p:spPr>
          <a:xfrm>
            <a:off x="642960" y="3214800"/>
            <a:ext cx="28656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21" name="Прямая со стрелкой 26"/>
          <p:cNvCxnSpPr/>
          <p:nvPr/>
        </p:nvCxnSpPr>
        <p:spPr>
          <a:xfrm>
            <a:off x="642960" y="4357800"/>
            <a:ext cx="28656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22" name="Прямая со стрелкой 29"/>
          <p:cNvCxnSpPr/>
          <p:nvPr/>
        </p:nvCxnSpPr>
        <p:spPr>
          <a:xfrm>
            <a:off x="3500280" y="1571760"/>
            <a:ext cx="5011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23" name="Прямая со стрелкой 31"/>
          <p:cNvCxnSpPr/>
          <p:nvPr/>
        </p:nvCxnSpPr>
        <p:spPr>
          <a:xfrm>
            <a:off x="3500280" y="3214800"/>
            <a:ext cx="5011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24" name="Прямая со стрелкой 33"/>
          <p:cNvCxnSpPr/>
          <p:nvPr/>
        </p:nvCxnSpPr>
        <p:spPr>
          <a:xfrm>
            <a:off x="3571560" y="4428720"/>
            <a:ext cx="50076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225" name="Прямая соединительная линия 32"/>
          <p:cNvSpPr/>
          <p:nvPr/>
        </p:nvSpPr>
        <p:spPr>
          <a:xfrm>
            <a:off x="642960" y="928800"/>
            <a:ext cx="3714840" cy="144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5"/>
          <p:cNvSpPr/>
          <p:nvPr/>
        </p:nvSpPr>
        <p:spPr>
          <a:xfrm flipV="1">
            <a:off x="4355280" y="714240"/>
            <a:ext cx="1800" cy="21456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Прямоугольник с двумя вырезанными противолежащими углами 36"/>
          <p:cNvGrpSpPr/>
          <p:nvPr/>
        </p:nvGrpSpPr>
        <p:grpSpPr>
          <a:xfrm>
            <a:off x="4084560" y="5535720"/>
            <a:ext cx="4754520" cy="1047600"/>
            <a:chOff x="4084560" y="5535720"/>
            <a:chExt cx="4754520" cy="1047600"/>
          </a:xfrm>
        </p:grpSpPr>
        <p:pic>
          <p:nvPicPr>
            <p:cNvPr id="228" name="Прямоугольник с двумя вырезанными противолежащими углами 36" descr=""/>
            <p:cNvPicPr/>
            <p:nvPr/>
          </p:nvPicPr>
          <p:blipFill>
            <a:blip r:embed="rId10"/>
            <a:stretch/>
          </p:blipFill>
          <p:spPr>
            <a:xfrm>
              <a:off x="4084560" y="5535720"/>
              <a:ext cx="475452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221000" y="5649840"/>
              <a:ext cx="448812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зваляе выразна, сцісла выкласці афіцыйнае паведамленне або расказаць пра падзеі, звязаныя з асабістым жыццём людзей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0" name="Прямая со стрелкой 37"/>
          <p:cNvCxnSpPr/>
          <p:nvPr/>
        </p:nvCxnSpPr>
        <p:spPr>
          <a:xfrm>
            <a:off x="3571560" y="6071760"/>
            <a:ext cx="50076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grpSp>
        <p:nvGrpSpPr>
          <p:cNvPr id="231" name="Прямоугольник с двумя вырезанными противолежащими углами 38"/>
          <p:cNvGrpSpPr/>
          <p:nvPr/>
        </p:nvGrpSpPr>
        <p:grpSpPr>
          <a:xfrm>
            <a:off x="938160" y="5535720"/>
            <a:ext cx="2616120" cy="981000"/>
            <a:chOff x="938160" y="5535720"/>
            <a:chExt cx="2616120" cy="981000"/>
          </a:xfrm>
        </p:grpSpPr>
        <p:pic>
          <p:nvPicPr>
            <p:cNvPr id="232" name="Прямоугольник с двумя вырезанными противолежащими углами 38" descr=""/>
            <p:cNvPicPr/>
            <p:nvPr/>
          </p:nvPicPr>
          <p:blipFill>
            <a:blip r:embed="rId11"/>
            <a:stretch/>
          </p:blipFill>
          <p:spPr>
            <a:xfrm>
              <a:off x="938160" y="5535720"/>
              <a:ext cx="26161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071720" y="5643720"/>
              <a:ext cx="23572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тэкстах афіцыйна-дзелавога стыл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4" name="Прямая со стрелкой 40"/>
          <p:cNvCxnSpPr/>
          <p:nvPr/>
        </p:nvCxnSpPr>
        <p:spPr>
          <a:xfrm>
            <a:off x="642960" y="5928840"/>
            <a:ext cx="28656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37" name="Прямоугольник 4"/>
          <p:cNvGrpSpPr/>
          <p:nvPr/>
        </p:nvGrpSpPr>
        <p:grpSpPr>
          <a:xfrm>
            <a:off x="1865160" y="878040"/>
            <a:ext cx="4761000" cy="706320"/>
            <a:chOff x="1865160" y="878040"/>
            <a:chExt cx="4761000" cy="706320"/>
          </a:xfrm>
        </p:grpSpPr>
        <p:pic>
          <p:nvPicPr>
            <p:cNvPr id="238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865160" y="878040"/>
              <a:ext cx="476100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928880" y="928800"/>
              <a:ext cx="464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радак сінтаксічнага разбо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лучаных сказа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TextBox 5"/>
          <p:cNvGrpSpPr/>
          <p:nvPr/>
        </p:nvGrpSpPr>
        <p:grpSpPr>
          <a:xfrm>
            <a:off x="1646280" y="2176560"/>
            <a:ext cx="6053040" cy="2803320"/>
            <a:chOff x="1646280" y="2176560"/>
            <a:chExt cx="6053040" cy="2803320"/>
          </a:xfrm>
        </p:grpSpPr>
        <p:pic>
          <p:nvPicPr>
            <p:cNvPr id="241" name="TextBox 5" descr=""/>
            <p:cNvPicPr/>
            <p:nvPr/>
          </p:nvPicPr>
          <p:blipFill>
            <a:blip r:embed="rId4"/>
            <a:stretch/>
          </p:blipFill>
          <p:spPr>
            <a:xfrm>
              <a:off x="1646280" y="2176560"/>
              <a:ext cx="605304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714680" y="2214720"/>
              <a:ext cx="592920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ваць тып сказа па мэце выказвання. Вызначыць             колькасць сэнсава-граматычных частак і іх меж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станавіць адносіны паміж часткамі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астлумачыць знакі прыпынку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асказаць пра будову частак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ваць члены сказа ў кожнай частц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ласці схему сказ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4" descr=""/>
          <p:cNvPicPr/>
          <p:nvPr/>
        </p:nvPicPr>
        <p:blipFill>
          <a:blip r:embed="rId3"/>
          <a:stretch/>
        </p:blipFill>
        <p:spPr>
          <a:xfrm>
            <a:off x="1865160" y="438120"/>
            <a:ext cx="4761000" cy="72072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5" descr=""/>
          <p:cNvPicPr/>
          <p:nvPr/>
        </p:nvPicPr>
        <p:blipFill>
          <a:blip r:embed="rId4"/>
          <a:stretch/>
        </p:blipFill>
        <p:spPr>
          <a:xfrm>
            <a:off x="438120" y="1438200"/>
            <a:ext cx="1762200" cy="4762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6"/>
          <p:cNvSpPr/>
          <p:nvPr/>
        </p:nvSpPr>
        <p:spPr>
          <a:xfrm>
            <a:off x="2571840" y="1500120"/>
            <a:ext cx="6000840" cy="580680"/>
          </a:xfrm>
          <a:prstGeom prst="rect">
            <a:avLst/>
          </a:prstGeom>
          <a:gradFill rotWithShape="0">
            <a:gsLst>
              <a:gs pos="0">
                <a:srgbClr val="8f8fc3"/>
              </a:gs>
              <a:gs pos="100000">
                <a:srgbClr val="bbbb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[</a:t>
            </a:r>
            <a:r>
              <a:rPr b="1" lang="ru-RU" sz="1600" spc="-1" strike="noStrike" baseline="30000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be-BY" sz="16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Лісты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be-BY" sz="16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ападаюць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]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 а   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[</a:t>
            </a:r>
            <a:r>
              <a:rPr b="1" lang="ru-RU" sz="1600" spc="-1" strike="noStrike" baseline="30000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be-BY" sz="16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верас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be-BY" sz="16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цвіце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і </a:t>
            </a:r>
            <a:r>
              <a:rPr b="1" lang="be-BY" sz="16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шуміць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be-BY" sz="16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каля ног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С. Грахоўскі)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7"/>
          <p:cNvSpPr/>
          <p:nvPr/>
        </p:nvSpPr>
        <p:spPr>
          <a:xfrm>
            <a:off x="4643280" y="1571760"/>
            <a:ext cx="214560" cy="2142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Прямоугольник 8" descr=""/>
          <p:cNvPicPr/>
          <p:nvPr/>
        </p:nvPicPr>
        <p:blipFill>
          <a:blip r:embed="rId5"/>
          <a:stretch/>
        </p:blipFill>
        <p:spPr>
          <a:xfrm>
            <a:off x="438120" y="2292480"/>
            <a:ext cx="1762200" cy="4809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0"/>
          <p:cNvSpPr/>
          <p:nvPr/>
        </p:nvSpPr>
        <p:spPr>
          <a:xfrm>
            <a:off x="2571840" y="2214720"/>
            <a:ext cx="1428840" cy="580680"/>
          </a:xfrm>
          <a:prstGeom prst="rect">
            <a:avLst/>
          </a:prstGeom>
          <a:gradFill rotWithShape="0">
            <a:gsLst>
              <a:gs pos="0">
                <a:srgbClr val="8f8fc3"/>
              </a:gs>
              <a:gs pos="100000">
                <a:srgbClr val="bbbb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[</a:t>
            </a:r>
            <a:r>
              <a:rPr b="1" lang="ru-RU" sz="1600" spc="-1" strike="noStrike" baseline="30000">
                <a:solidFill>
                  <a:srgbClr val="00007d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]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 а   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[</a:t>
            </a:r>
            <a:r>
              <a:rPr b="1" lang="ru-RU" sz="1600" spc="-1" strike="noStrike" baseline="30000">
                <a:solidFill>
                  <a:srgbClr val="00007d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be-BY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1"/>
          <p:cNvSpPr/>
          <p:nvPr/>
        </p:nvSpPr>
        <p:spPr>
          <a:xfrm>
            <a:off x="3071880" y="2286000"/>
            <a:ext cx="214200" cy="214200"/>
          </a:xfrm>
          <a:prstGeom prst="rect">
            <a:avLst/>
          </a:prstGeom>
          <a:noFill/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оугольник 12" descr=""/>
          <p:cNvPicPr/>
          <p:nvPr/>
        </p:nvPicPr>
        <p:blipFill>
          <a:blip r:embed="rId6"/>
          <a:stretch/>
        </p:blipFill>
        <p:spPr>
          <a:xfrm>
            <a:off x="438120" y="2938320"/>
            <a:ext cx="1762200" cy="474840"/>
          </a:xfrm>
          <a:prstGeom prst="rect">
            <a:avLst/>
          </a:prstGeom>
          <a:ln w="0">
            <a:noFill/>
          </a:ln>
        </p:spPr>
      </p:pic>
      <p:grpSp>
        <p:nvGrpSpPr>
          <p:cNvPr id="253" name="TextBox 13"/>
          <p:cNvGrpSpPr/>
          <p:nvPr/>
        </p:nvGrpSpPr>
        <p:grpSpPr>
          <a:xfrm>
            <a:off x="2225520" y="3108240"/>
            <a:ext cx="6613560" cy="2414520"/>
            <a:chOff x="2225520" y="3108240"/>
            <a:chExt cx="6613560" cy="2414520"/>
          </a:xfrm>
        </p:grpSpPr>
        <p:pic>
          <p:nvPicPr>
            <p:cNvPr id="254" name="TextBox 13" descr=""/>
            <p:cNvPicPr/>
            <p:nvPr/>
          </p:nvPicPr>
          <p:blipFill>
            <a:blip r:embed="rId7"/>
            <a:stretch/>
          </p:blipFill>
          <p:spPr>
            <a:xfrm>
              <a:off x="2225520" y="3108240"/>
              <a:ext cx="661356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286000" y="3143160"/>
              <a:ext cx="650088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 апавядальны, няклічны, складаны, злучнікавы, складаназлучаны, складаецца з дзвюх сэнсава-граматычных частак, якія звязаны паміж сабой злучальнай сувяззю пры дапамозе супраціўнага злучніка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 Паміж часткамі выражаюцца супраціўныя адносіны. На мяжы частак перад злучнікам ставіцца коск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першай частцы складаназлучанага сказа –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істы ападаюць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члены сказа: (што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істы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дзейнік, выражаны назоўнікам у форме Н. скл., мн. л.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істы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што робяць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ападаюць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просты дзеяслоўны выказнік, выражаны дзеясловам абв. ладу, цяп. ч., 3-й ас., мн. л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другой частцы складаназлучанага сказа –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ерас цвіце і шуміць каля ног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члены сказа: (што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ерас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дзейнік, выражаны назоўнікам у форме Н. скл., адз. л.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ерас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 робіць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цвіце і шуміць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простыя аднародныя выказнікі, выражаныя дзеясловамі абв. л., цяп. ч., 3-й ас., адз. л.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шуміць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дзе?)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каля ног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акалічнасць месца, выражана назоўнікам у форме Р. скл., мн. л. у спалучэнні з прыназоўнікам;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злучнік, злучальны, спалучальны, звязвае аднародныя члены сказа (выказнікі), членам сказа не з’яўляецц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2:21:29Z</dcterms:created>
  <dc:creator>solahitdinova</dc:creator>
  <dc:description/>
  <dc:language>en-US</dc:language>
  <cp:lastModifiedBy>solahitdinova</cp:lastModifiedBy>
  <dcterms:modified xsi:type="dcterms:W3CDTF">2009-08-11T11:27:24Z</dcterms:modified>
  <cp:revision>19</cp:revision>
  <dc:subject/>
  <dc:title>Слайд 1</dc:title>
</cp:coreProperties>
</file>