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66BE-FA29-4E29-8A4E-39FD9400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3BEA6-5C28-403D-B12F-8F68A998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0D55-F47B-4E91-9B05-9B637B88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5530-3549-4022-8F68-3B012952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538D-3A82-4F10-AD01-2AC9692E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2EE2-2595-4D40-BE54-D22A7A2D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B8D-AA55-4A78-B5AB-05B31695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62A6-5CB5-401D-B77B-B404B0F1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DC20-DAB0-44B6-90B9-850B200E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C897-B932-44E5-8B4A-A5E4ADC5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0C05-ECB4-48FC-95C0-9B90BBE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DBC4-0591-4E09-ADCA-303CBCA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46DC-F057-404D-A982-2D97E19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D86-BB7A-480F-800B-35F7A5F9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6D60-5C2F-4083-9C3F-FD4257C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EDBC-E833-4992-8B9F-48AEE8A2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0F4C-EB29-4445-A06A-CAE74765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BC5D-E221-4709-88A5-25EB2BA1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2F4F6-B7FA-4FF1-84F3-E7A7220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80AB-D94F-4EE7-A233-30447848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913B-DF15-4186-9C21-D4859E5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64F7-7FF9-4ACF-A99F-E734078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82A9-EA22-4824-90A2-50979CEA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E569-FB71-4E04-A99C-017977B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1A5-8A92-4622-80BF-47015D9B73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2C4-ADF7-4DE4-A5D0-97F078BFE4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494000" y="3925800"/>
            <a:ext cx="6156000" cy="12002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414520" y="689040"/>
            <a:ext cx="44197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4" descr=""/>
          <p:cNvPicPr/>
          <p:nvPr/>
        </p:nvPicPr>
        <p:blipFill>
          <a:blip r:embed="rId3"/>
          <a:stretch/>
        </p:blipFill>
        <p:spPr>
          <a:xfrm>
            <a:off x="1494000" y="407880"/>
            <a:ext cx="6156000" cy="6462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6" descr=""/>
          <p:cNvPicPr/>
          <p:nvPr/>
        </p:nvPicPr>
        <p:blipFill>
          <a:blip r:embed="rId4"/>
          <a:stretch/>
        </p:blipFill>
        <p:spPr>
          <a:xfrm>
            <a:off x="225360" y="1427040"/>
            <a:ext cx="2255760" cy="560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8"/>
          <p:cNvSpPr/>
          <p:nvPr/>
        </p:nvSpPr>
        <p:spPr>
          <a:xfrm>
            <a:off x="2571840" y="1714680"/>
            <a:ext cx="35712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TextBox 9"/>
          <p:cNvGrpSpPr/>
          <p:nvPr/>
        </p:nvGrpSpPr>
        <p:grpSpPr>
          <a:xfrm>
            <a:off x="3084480" y="1463760"/>
            <a:ext cx="5688000" cy="573120"/>
            <a:chOff x="3084480" y="1463760"/>
            <a:chExt cx="5688000" cy="573120"/>
          </a:xfrm>
        </p:grpSpPr>
        <p:pic>
          <p:nvPicPr>
            <p:cNvPr id="116" name="TextBox 9" descr=""/>
            <p:cNvPicPr/>
            <p:nvPr/>
          </p:nvPicPr>
          <p:blipFill>
            <a:blip r:embed="rId5"/>
            <a:stretch/>
          </p:blipFill>
          <p:spPr>
            <a:xfrm>
              <a:off x="3084480" y="1463760"/>
              <a:ext cx="5688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143160" y="1500120"/>
              <a:ext cx="557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собы тып простых сказаў, нячленныя (непадзельныя) сказ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10"/>
          <p:cNvGrpSpPr/>
          <p:nvPr/>
        </p:nvGrpSpPr>
        <p:grpSpPr>
          <a:xfrm>
            <a:off x="3084480" y="2176560"/>
            <a:ext cx="5688000" cy="755640"/>
            <a:chOff x="3084480" y="2176560"/>
            <a:chExt cx="5688000" cy="755640"/>
          </a:xfrm>
        </p:grpSpPr>
        <p:pic>
          <p:nvPicPr>
            <p:cNvPr id="119" name="TextBox 10" descr=""/>
            <p:cNvPicPr/>
            <p:nvPr/>
          </p:nvPicPr>
          <p:blipFill>
            <a:blip r:embed="rId6"/>
            <a:stretch/>
          </p:blipFill>
          <p:spPr>
            <a:xfrm>
              <a:off x="3084480" y="2176560"/>
              <a:ext cx="5688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143160" y="2214720"/>
              <a:ext cx="5572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ны не могуць быць развітымі іншымі словамі, хоць пры іх могуць ужывацца звароткі ці цэлыя сказы (часта няпоўныя), якія ўдакладняюць папярэднія словы-сказ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Box 11"/>
          <p:cNvGrpSpPr/>
          <p:nvPr/>
        </p:nvGrpSpPr>
        <p:grpSpPr>
          <a:xfrm>
            <a:off x="3084480" y="3035160"/>
            <a:ext cx="5688000" cy="939960"/>
            <a:chOff x="3084480" y="3035160"/>
            <a:chExt cx="5688000" cy="939960"/>
          </a:xfrm>
        </p:grpSpPr>
        <p:pic>
          <p:nvPicPr>
            <p:cNvPr id="122" name="TextBox 11" descr=""/>
            <p:cNvPicPr/>
            <p:nvPr/>
          </p:nvPicPr>
          <p:blipFill>
            <a:blip r:embed="rId7"/>
            <a:stretch/>
          </p:blipFill>
          <p:spPr>
            <a:xfrm>
              <a:off x="3084480" y="3035160"/>
              <a:ext cx="5688000" cy="9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143160" y="3071880"/>
              <a:ext cx="5572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ячленныя словы-сказы могуць складацца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аднаго слова</a:t>
              </a: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ак. Не. Канешне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бо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калькіх слоў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 і ну! Ну і што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12"/>
          <p:cNvGrpSpPr/>
          <p:nvPr/>
        </p:nvGrpSpPr>
        <p:grpSpPr>
          <a:xfrm>
            <a:off x="3084480" y="4248000"/>
            <a:ext cx="5688000" cy="573120"/>
            <a:chOff x="3084480" y="4248000"/>
            <a:chExt cx="5688000" cy="573120"/>
          </a:xfrm>
        </p:grpSpPr>
        <p:pic>
          <p:nvPicPr>
            <p:cNvPr id="125" name="TextBox 12" descr=""/>
            <p:cNvPicPr/>
            <p:nvPr/>
          </p:nvPicPr>
          <p:blipFill>
            <a:blip r:embed="rId8"/>
            <a:stretch/>
          </p:blipFill>
          <p:spPr>
            <a:xfrm>
              <a:off x="3084480" y="4248000"/>
              <a:ext cx="56880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3160" y="4286160"/>
              <a:ext cx="5572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а гэтага тыпу сказаў адносяцца формулы маўленчых паводзін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зякуй. Бывайце здаровы. З наваселлем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TextBox 13"/>
          <p:cNvGrpSpPr/>
          <p:nvPr/>
        </p:nvGrpSpPr>
        <p:grpSpPr>
          <a:xfrm>
            <a:off x="3084480" y="5035680"/>
            <a:ext cx="5688000" cy="1127160"/>
            <a:chOff x="3084480" y="5035680"/>
            <a:chExt cx="5688000" cy="1127160"/>
          </a:xfrm>
        </p:grpSpPr>
        <p:pic>
          <p:nvPicPr>
            <p:cNvPr id="128" name="TextBox 13" descr=""/>
            <p:cNvPicPr/>
            <p:nvPr/>
          </p:nvPicPr>
          <p:blipFill>
            <a:blip r:embed="rId9"/>
            <a:stretch/>
          </p:blipFill>
          <p:spPr>
            <a:xfrm>
              <a:off x="3084480" y="5035680"/>
              <a:ext cx="56880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143160" y="5072040"/>
              <a:ext cx="557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акія сказы звычайна ўжываюцца ў дыялагічным маўленні, у рэпліках і зрэдку ў маналогах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ерад Ганнай – маці з даёнкай у руках: “Мо ты захварэла?” – “Не”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Б. Са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“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 дзедка ўсё госціць у нас!” – “Але, сынку мой”. (Я. Купал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2:37:45Z</dcterms:created>
  <dc:creator>solahitdinova</dc:creator>
  <dc:description/>
  <dc:language>en-US</dc:language>
  <cp:lastModifiedBy>solahitdinova</cp:lastModifiedBy>
  <dcterms:modified xsi:type="dcterms:W3CDTF">2009-08-11T09:47:27Z</dcterms:modified>
  <cp:revision>7</cp:revision>
  <dc:subject/>
  <dc:title>Слайд 1</dc:title>
</cp:coreProperties>
</file>