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80A1-1B34-4BA9-9D7D-0A504A64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50A41-98C9-4A29-9422-0877652F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67C4-2832-4BD5-BC34-614A8F49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06C0-22EE-41A3-9E85-7AB72A44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43D3-73B6-4EAF-B373-D4F94ABD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7256-F827-43E4-BF61-C5A8E3FD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2DB7-3F53-43B1-83A7-333C858D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7AC1-CE68-4DF0-84A4-85174511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83FB-5176-47AA-9EBD-54594479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C427-1620-447B-B547-E849841E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DB16-4D37-4FF6-A482-88733D86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F57DB-87EB-40A3-93D9-6386A357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4EEB-883E-4A63-99E2-494169F8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A934-1593-43AA-857E-0269F94E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4244-5189-45FC-920C-B3CD7FCA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30FC-8157-4E94-8EE0-7A3054F5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87D0-0528-4FF4-BC53-5DE4F304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FCCA-0201-414A-9D18-34C33628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3C17-D822-4538-A1AD-4A67B9BB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827FC-E7D6-4033-9436-2C4667D2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EA243-101A-4DCE-8372-737DB1C0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AF7BF-F492-429E-AB3B-38CFD6A0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3691-A616-4A24-9706-D5703670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01FD-6977-419A-91FE-1ECC6687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CEA2-2B5B-40C8-8CD7-AA2FCC7ABE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5833-B01D-4F3E-B942-E51F714882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0" descr="logo 21"/>
          <p:cNvPicPr/>
          <p:nvPr/>
        </p:nvPicPr>
        <p:blipFill>
          <a:blip r:embed="rId1"/>
          <a:stretch/>
        </p:blipFill>
        <p:spPr>
          <a:xfrm>
            <a:off x="6138720" y="5851440"/>
            <a:ext cx="3011760" cy="101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3"/>
          <a:stretch/>
        </p:blipFill>
        <p:spPr>
          <a:xfrm>
            <a:off x="1182600" y="3840120"/>
            <a:ext cx="6761160" cy="23227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4"/>
          <a:stretch/>
        </p:blipFill>
        <p:spPr>
          <a:xfrm>
            <a:off x="2322360" y="847800"/>
            <a:ext cx="426096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12" name="Блок-схема: несколько документов 4"/>
          <p:cNvGrpSpPr/>
          <p:nvPr/>
        </p:nvGrpSpPr>
        <p:grpSpPr>
          <a:xfrm>
            <a:off x="237960" y="311040"/>
            <a:ext cx="5986800" cy="2121120"/>
            <a:chOff x="237960" y="311040"/>
            <a:chExt cx="5986800" cy="2121120"/>
          </a:xfrm>
        </p:grpSpPr>
        <p:pic>
          <p:nvPicPr>
            <p:cNvPr id="113" name="Блок-схема: несколько документов 4" descr=""/>
            <p:cNvPicPr/>
            <p:nvPr/>
          </p:nvPicPr>
          <p:blipFill>
            <a:blip r:embed="rId3"/>
            <a:stretch/>
          </p:blipFill>
          <p:spPr>
            <a:xfrm>
              <a:off x="237960" y="311040"/>
              <a:ext cx="5986800" cy="21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85840" y="649440"/>
              <a:ext cx="479736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ыя сказы з розымі відамі сувязі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маюць у сваім складзе не менш як тры часткі, якія звязваюцца паміж сабой рознымі відамі сувязі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лучнікавай і бяззлучнікавай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лучальнай і падпарадкавальнай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яззлучнікавай і падпарадкавальнай і інш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Блок-схема: несколько документов 9"/>
          <p:cNvGrpSpPr/>
          <p:nvPr/>
        </p:nvGrpSpPr>
        <p:grpSpPr>
          <a:xfrm>
            <a:off x="1311120" y="4522680"/>
            <a:ext cx="6485040" cy="2268720"/>
            <a:chOff x="1311120" y="4522680"/>
            <a:chExt cx="6485040" cy="2268720"/>
          </a:xfrm>
        </p:grpSpPr>
        <p:pic>
          <p:nvPicPr>
            <p:cNvPr id="116" name="Блок-схема: несколько документов 9" descr=""/>
            <p:cNvPicPr/>
            <p:nvPr/>
          </p:nvPicPr>
          <p:blipFill>
            <a:blip r:embed="rId4"/>
            <a:stretch/>
          </p:blipFill>
          <p:spPr>
            <a:xfrm>
              <a:off x="1311120" y="4522680"/>
              <a:ext cx="648504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357200" y="4888080"/>
              <a:ext cx="5227920" cy="14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Часткі складаных сказаў з рознымі відамі сувязі могуць спалучацца паміж сабой і нагадваць складаназлучаныя сказы, складаназалежныя  і бяззлучнікавыя складаныя. Таму сродкамі сувязі частак у сказах з рознымі відамі сувязі з’яўляюцца злучальныя і падпарадкавальныя злучнікі (ці злучальныя словы), інтанацыя, сэнс, адпаведныя знакі прыпынку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17"/>
          <p:cNvGrpSpPr/>
          <p:nvPr/>
        </p:nvGrpSpPr>
        <p:grpSpPr>
          <a:xfrm>
            <a:off x="2428920" y="2000160"/>
            <a:ext cx="6215040" cy="2357640"/>
            <a:chOff x="2428920" y="2000160"/>
            <a:chExt cx="6215040" cy="2357640"/>
          </a:xfrm>
        </p:grpSpPr>
        <p:grpSp>
          <p:nvGrpSpPr>
            <p:cNvPr id="119" name="Блок-схема: несколько документов 7"/>
            <p:cNvGrpSpPr/>
            <p:nvPr/>
          </p:nvGrpSpPr>
          <p:grpSpPr>
            <a:xfrm>
              <a:off x="2428920" y="2000160"/>
              <a:ext cx="6215040" cy="2357640"/>
              <a:chOff x="2428920" y="2000160"/>
              <a:chExt cx="6215040" cy="2357640"/>
            </a:xfrm>
          </p:grpSpPr>
          <p:pic>
            <p:nvPicPr>
              <p:cNvPr id="120" name="Блок-схема: несколько документов 7" descr=""/>
              <p:cNvPicPr/>
              <p:nvPr/>
            </p:nvPicPr>
            <p:blipFill>
              <a:blip r:embed="rId5"/>
              <a:stretch/>
            </p:blipFill>
            <p:spPr>
              <a:xfrm>
                <a:off x="2428920" y="2000160"/>
                <a:ext cx="6215040" cy="235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2476800" y="2383920"/>
                <a:ext cx="5013720" cy="15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Бясконцыя балоты вучылі палешукоў мудраму разважанню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мора лясоў выхоўвала ў іх засцярогу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(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бо  так 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лёгка напаткаць тут небяспеку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. (Я. Колас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Змучанае дарогаю і бясконцымі начамі цела даўно патрабавала адпачынку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але 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[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заснуць Лабановіч адразу не мог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,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(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бо 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вельмі многа было ўсялякіх ураджанняў</a:t>
                </a:r>
                <a:r>
                  <a:rPr b="1" i="1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)</a:t>
                </a:r>
                <a:r>
                  <a:rPr b="1" i="1" lang="be-BY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. (Я. Колас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Была вясна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[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хадзіла рэха па волкіх сцежках берагоў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]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, (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як быццам </a:t>
                </a:r>
                <a:r>
                  <a:rPr b="1" i="1" lang="en-US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ранак зноў праехаў з  наборам бомаў між лугоў).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300" spc="-1" strike="noStrike">
                    <a:solidFill>
                      <a:srgbClr val="0000e5"/>
                    </a:solidFill>
                    <a:latin typeface="Times New Roman"/>
                    <a:ea typeface="Times New Roman"/>
                  </a:rPr>
                  <a:t>(К. Кірыенка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Овал 12"/>
            <p:cNvSpPr/>
            <p:nvPr/>
          </p:nvSpPr>
          <p:spPr>
            <a:xfrm>
              <a:off x="6493680" y="3259440"/>
              <a:ext cx="937080" cy="182520"/>
            </a:xfrm>
            <a:prstGeom prst="ellipse">
              <a:avLst/>
            </a:prstGeom>
            <a:noFill/>
            <a:ln w="19080">
              <a:solidFill>
                <a:srgbClr val="0000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Овал 14"/>
            <p:cNvSpPr/>
            <p:nvPr/>
          </p:nvSpPr>
          <p:spPr>
            <a:xfrm>
              <a:off x="6292800" y="2407320"/>
              <a:ext cx="267480" cy="182520"/>
            </a:xfrm>
            <a:prstGeom prst="ellipse">
              <a:avLst/>
            </a:prstGeom>
            <a:noFill/>
            <a:ln w="12600">
              <a:solidFill>
                <a:srgbClr val="0000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Овал 15"/>
            <p:cNvSpPr/>
            <p:nvPr/>
          </p:nvSpPr>
          <p:spPr>
            <a:xfrm>
              <a:off x="6493680" y="2894400"/>
              <a:ext cx="267480" cy="1825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рямоугольник 16"/>
            <p:cNvSpPr/>
            <p:nvPr/>
          </p:nvSpPr>
          <p:spPr>
            <a:xfrm>
              <a:off x="3548160" y="2955240"/>
              <a:ext cx="401400" cy="1216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28" name="Схема 4" descr=""/>
          <p:cNvPicPr/>
          <p:nvPr/>
        </p:nvPicPr>
        <p:blipFill>
          <a:blip r:embed="rId3"/>
          <a:stretch/>
        </p:blipFill>
        <p:spPr>
          <a:xfrm>
            <a:off x="622440" y="1195560"/>
            <a:ext cx="7778520" cy="5033880"/>
          </a:xfrm>
          <a:prstGeom prst="rect">
            <a:avLst/>
          </a:prstGeom>
          <a:ln w="0">
            <a:noFill/>
          </a:ln>
        </p:spPr>
      </p:pic>
      <p:grpSp>
        <p:nvGrpSpPr>
          <p:cNvPr id="129" name="Прямоугольник 7"/>
          <p:cNvGrpSpPr/>
          <p:nvPr/>
        </p:nvGrpSpPr>
        <p:grpSpPr>
          <a:xfrm>
            <a:off x="1865160" y="304920"/>
            <a:ext cx="5973840" cy="712800"/>
            <a:chOff x="1865160" y="304920"/>
            <a:chExt cx="5973840" cy="712800"/>
          </a:xfrm>
        </p:grpSpPr>
        <p:pic>
          <p:nvPicPr>
            <p:cNvPr id="130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865160" y="304920"/>
              <a:ext cx="597384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928880" y="357120"/>
              <a:ext cx="585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накі прыпынку ў складаных сказа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 рознымі відамі сувяз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0" descr="logo 21"/>
          <p:cNvPicPr/>
          <p:nvPr/>
        </p:nvPicPr>
        <p:blipFill>
          <a:blip r:embed="rId1"/>
          <a:stretch/>
        </p:blipFill>
        <p:spPr>
          <a:xfrm>
            <a:off x="6138720" y="6211800"/>
            <a:ext cx="3011760" cy="65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34" name="Прямоугольник 4"/>
          <p:cNvGrpSpPr/>
          <p:nvPr/>
        </p:nvGrpSpPr>
        <p:grpSpPr>
          <a:xfrm>
            <a:off x="1725480" y="950760"/>
            <a:ext cx="5973840" cy="706680"/>
            <a:chOff x="1725480" y="950760"/>
            <a:chExt cx="5973840" cy="706680"/>
          </a:xfrm>
        </p:grpSpPr>
        <p:pic>
          <p:nvPicPr>
            <p:cNvPr id="13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725480" y="950760"/>
              <a:ext cx="597384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785960" y="1000080"/>
              <a:ext cx="585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радак сінтаксічнага разбор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ых сказаў з рознымі відамі сувяз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TextBox 5"/>
          <p:cNvGrpSpPr/>
          <p:nvPr/>
        </p:nvGrpSpPr>
        <p:grpSpPr>
          <a:xfrm>
            <a:off x="1504800" y="2176560"/>
            <a:ext cx="6194520" cy="2792160"/>
            <a:chOff x="1504800" y="2176560"/>
            <a:chExt cx="6194520" cy="2792160"/>
          </a:xfrm>
        </p:grpSpPr>
        <p:pic>
          <p:nvPicPr>
            <p:cNvPr id="138" name="TextBox 5" descr=""/>
            <p:cNvPicPr/>
            <p:nvPr/>
          </p:nvPicPr>
          <p:blipFill>
            <a:blip r:embed="rId4"/>
            <a:stretch/>
          </p:blipFill>
          <p:spPr>
            <a:xfrm>
              <a:off x="1504800" y="2176560"/>
              <a:ext cx="6194520" cy="27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571760" y="2214720"/>
              <a:ext cx="607212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значыць тып сказа па мэце выказванн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базначыць лічбамі сэнсава-граматычныя часткі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значыць від сувязі частак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ваць сродкі сувязі частак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будаваць схему сказ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ры неабходнасці разабраць кожную частку або адну з частак па членах сказ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4" descr=""/>
          <p:cNvPicPr/>
          <p:nvPr/>
        </p:nvPicPr>
        <p:blipFill>
          <a:blip r:embed="rId3"/>
          <a:stretch/>
        </p:blipFill>
        <p:spPr>
          <a:xfrm>
            <a:off x="1725480" y="79200"/>
            <a:ext cx="5973840" cy="71928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5" descr=""/>
          <p:cNvPicPr/>
          <p:nvPr/>
        </p:nvPicPr>
        <p:blipFill>
          <a:blip r:embed="rId4"/>
          <a:stretch/>
        </p:blipFill>
        <p:spPr>
          <a:xfrm>
            <a:off x="652320" y="865080"/>
            <a:ext cx="2262240" cy="476280"/>
          </a:xfrm>
          <a:prstGeom prst="rect">
            <a:avLst/>
          </a:prstGeom>
          <a:ln w="0">
            <a:noFill/>
          </a:ln>
        </p:spPr>
      </p:pic>
      <p:grpSp>
        <p:nvGrpSpPr>
          <p:cNvPr id="144" name="TextBox 6"/>
          <p:cNvGrpSpPr/>
          <p:nvPr/>
        </p:nvGrpSpPr>
        <p:grpSpPr>
          <a:xfrm>
            <a:off x="1652760" y="3176640"/>
            <a:ext cx="7186320" cy="2279520"/>
            <a:chOff x="1652760" y="3176640"/>
            <a:chExt cx="7186320" cy="2279520"/>
          </a:xfrm>
        </p:grpSpPr>
        <p:pic>
          <p:nvPicPr>
            <p:cNvPr id="145" name="TextBox 6" descr=""/>
            <p:cNvPicPr/>
            <p:nvPr/>
          </p:nvPicPr>
          <p:blipFill>
            <a:blip r:embed="rId5"/>
            <a:stretch/>
          </p:blipFill>
          <p:spPr>
            <a:xfrm>
              <a:off x="1652760" y="3176640"/>
              <a:ext cx="718632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714680" y="3214800"/>
              <a:ext cx="7072200" cy="21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аз апавядальны, няклічны, складаны, з рознымі відамі сувязі частак (бяззлучнікавая і злучнікавая), складаецца з трох сэнсава-граматычных частак, якія спалучаюцца сэнсава-інтанацыйнай і злучнікавай падпарадкавальнай сувяззю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ершая частка складанага сказа з рознымі відамі сувязі – 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У хлопцаў адна толькі ўцеха был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 просты сказ. Другая частка – гэта складаназалежны сказ – 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заўтра яны канчаткова выберуцца з гэтага дзікага кута, бо вада ўжо спала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паясняе, удакладняе змест таго, што адбываецца ў першай частцы. На мяжы частак ставіцца двукроп’е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ругая частка складанага сказа з рознымі відамі сувязі – складаназалежны сказ, у якім галоўная частка – 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заўтра яны канчаткова выберуцца з гэтага дзікага кут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 даданая акалічнасная частка – 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бо вада ўжо спала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стаіць пасля галоўнай, спалучаецца з ёю падпарадкавальнай сувяззю (падпарадкавальны злучнік 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бо</a:t>
              </a:r>
              <a:r>
                <a:rPr b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)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 ад галоўнай можна паставіць пытанне 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чаму?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і ўказвае на прычыну дзеяння. На мяжы частак перад злучнікам ставіцца коск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TextBox 7"/>
          <p:cNvGrpSpPr/>
          <p:nvPr/>
        </p:nvGrpSpPr>
        <p:grpSpPr>
          <a:xfrm>
            <a:off x="2852640" y="878040"/>
            <a:ext cx="5926320" cy="987120"/>
            <a:chOff x="2852640" y="878040"/>
            <a:chExt cx="5926320" cy="987120"/>
          </a:xfrm>
        </p:grpSpPr>
        <p:pic>
          <p:nvPicPr>
            <p:cNvPr id="148" name="TextBox 7" descr=""/>
            <p:cNvPicPr/>
            <p:nvPr/>
          </p:nvPicPr>
          <p:blipFill>
            <a:blip r:embed="rId6"/>
            <a:stretch/>
          </p:blipFill>
          <p:spPr>
            <a:xfrm>
              <a:off x="2852640" y="878040"/>
              <a:ext cx="59263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928960" y="928800"/>
              <a:ext cx="5786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lang="ru-RU" sz="1600" spc="-1" strike="noStrike" baseline="30000">
                  <a:solidFill>
                    <a:srgbClr val="0000e5"/>
                  </a:solidFill>
                  <a:latin typeface="Arial"/>
                </a:rPr>
                <a:t>1</a:t>
              </a:r>
              <a:r>
                <a:rPr b="1" i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У хлопцаў адна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толькі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ўцеха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была</a:t>
              </a:r>
              <a:r>
                <a:rPr b="1" i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: </a:t>
              </a:r>
              <a:r>
                <a:rPr b="1" i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lang="ru-RU" sz="1600" spc="-1" strike="noStrike" baseline="30000">
                  <a:solidFill>
                    <a:srgbClr val="0000e5"/>
                  </a:solidFill>
                  <a:latin typeface="Arial"/>
                </a:rPr>
                <a:t>2</a:t>
              </a:r>
              <a:r>
                <a:rPr b="1" lang="ru-RU" sz="1600" spc="-1" strike="noStrike" baseline="30000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заўтра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яны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канчаткова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выберуцца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з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гэтага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дзікага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кута</a:t>
              </a:r>
              <a:r>
                <a:rPr b="1" i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(</a:t>
              </a:r>
              <a:r>
                <a:rPr b="1" lang="ru-RU" sz="1600" spc="-1" strike="noStrike" baseline="30000">
                  <a:solidFill>
                    <a:srgbClr val="0000e5"/>
                  </a:solidFill>
                  <a:latin typeface="Arial"/>
                </a:rPr>
                <a:t>3</a:t>
              </a:r>
              <a:r>
                <a:rPr b="1" lang="en-US" sz="1600" spc="-1" strike="noStrike" baseline="30000">
                  <a:solidFill>
                    <a:srgbClr val="0000e5"/>
                  </a:solidFill>
                  <a:latin typeface="Arial"/>
                </a:rPr>
                <a:t> 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бо 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 вада ўжо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пала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). (Я. Маўр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оугольник 8" descr=""/>
          <p:cNvPicPr/>
          <p:nvPr/>
        </p:nvPicPr>
        <p:blipFill>
          <a:blip r:embed="rId7"/>
          <a:stretch/>
        </p:blipFill>
        <p:spPr>
          <a:xfrm>
            <a:off x="652320" y="2724120"/>
            <a:ext cx="226224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9" descr=""/>
          <p:cNvPicPr/>
          <p:nvPr/>
        </p:nvPicPr>
        <p:blipFill>
          <a:blip r:embed="rId8"/>
          <a:stretch/>
        </p:blipFill>
        <p:spPr>
          <a:xfrm>
            <a:off x="579600" y="2077920"/>
            <a:ext cx="2260440" cy="476280"/>
          </a:xfrm>
          <a:prstGeom prst="rect">
            <a:avLst/>
          </a:prstGeom>
          <a:ln w="0">
            <a:noFill/>
          </a:ln>
        </p:spPr>
      </p:pic>
      <p:grpSp>
        <p:nvGrpSpPr>
          <p:cNvPr id="152" name="TextBox 11"/>
          <p:cNvGrpSpPr/>
          <p:nvPr/>
        </p:nvGrpSpPr>
        <p:grpSpPr>
          <a:xfrm>
            <a:off x="3151080" y="2090880"/>
            <a:ext cx="2975040" cy="463320"/>
            <a:chOff x="3151080" y="2090880"/>
            <a:chExt cx="2975040" cy="463320"/>
          </a:xfrm>
        </p:grpSpPr>
        <p:pic>
          <p:nvPicPr>
            <p:cNvPr id="153" name="TextBox 11" descr=""/>
            <p:cNvPicPr/>
            <p:nvPr/>
          </p:nvPicPr>
          <p:blipFill>
            <a:blip r:embed="rId9"/>
            <a:stretch/>
          </p:blipFill>
          <p:spPr>
            <a:xfrm>
              <a:off x="3151080" y="2090880"/>
              <a:ext cx="297504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14800" y="2143080"/>
              <a:ext cx="285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lang="ru-RU" sz="1600" spc="-1" strike="noStrike" baseline="30000">
                  <a:solidFill>
                    <a:srgbClr val="0000e5"/>
                  </a:solidFill>
                  <a:latin typeface="Arial"/>
                </a:rPr>
                <a:t>1    </a:t>
              </a:r>
              <a:r>
                <a:rPr b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: </a:t>
              </a:r>
              <a:r>
                <a:rPr b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lang="ru-RU" sz="1600" spc="-1" strike="noStrike" baseline="30000">
                  <a:solidFill>
                    <a:srgbClr val="0000e5"/>
                  </a:solidFill>
                  <a:latin typeface="Arial"/>
                </a:rPr>
                <a:t>2   –х–  </a:t>
              </a:r>
              <a:r>
                <a:rPr b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(</a:t>
              </a:r>
              <a:r>
                <a:rPr b="1" lang="ru-RU" sz="1600" spc="-1" strike="noStrike" baseline="30000">
                  <a:solidFill>
                    <a:srgbClr val="0000e5"/>
                  </a:solidFill>
                  <a:latin typeface="Arial"/>
                </a:rPr>
                <a:t>3      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бо  …  </a:t>
              </a:r>
              <a:r>
                <a:rPr b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)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Овал 12"/>
          <p:cNvSpPr/>
          <p:nvPr/>
        </p:nvSpPr>
        <p:spPr>
          <a:xfrm>
            <a:off x="7358040" y="1285920"/>
            <a:ext cx="357120" cy="214200"/>
          </a:xfrm>
          <a:prstGeom prst="ellipse">
            <a:avLst/>
          </a:prstGeom>
          <a:noFill/>
          <a:ln w="255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3"/>
          <p:cNvSpPr/>
          <p:nvPr/>
        </p:nvSpPr>
        <p:spPr>
          <a:xfrm>
            <a:off x="4929120" y="2214720"/>
            <a:ext cx="357120" cy="214200"/>
          </a:xfrm>
          <a:prstGeom prst="ellipse">
            <a:avLst/>
          </a:prstGeom>
          <a:noFill/>
          <a:ln w="2556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7"/>
          <p:cNvSpPr/>
          <p:nvPr/>
        </p:nvSpPr>
        <p:spPr>
          <a:xfrm flipV="1">
            <a:off x="4355280" y="207144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9"/>
          <p:cNvSpPr/>
          <p:nvPr/>
        </p:nvSpPr>
        <p:spPr>
          <a:xfrm>
            <a:off x="4357800" y="2071800"/>
            <a:ext cx="78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21"/>
          <p:cNvCxnSpPr>
            <a:endCxn id="156" idx="0"/>
          </p:cNvCxnSpPr>
          <p:nvPr/>
        </p:nvCxnSpPr>
        <p:spPr>
          <a:xfrm flipH="1">
            <a:off x="5108040" y="2071440"/>
            <a:ext cx="3600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1:11:18Z</dcterms:created>
  <dc:creator>solahitdinova</dc:creator>
  <dc:description/>
  <dc:language>en-US</dc:language>
  <cp:lastModifiedBy>solahitdinova</cp:lastModifiedBy>
  <dcterms:modified xsi:type="dcterms:W3CDTF">2009-08-11T11:46:55Z</dcterms:modified>
  <cp:revision>20</cp:revision>
  <dc:subject/>
  <dc:title>Слайд 1</dc:title>
</cp:coreProperties>
</file>