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9.png" ContentType="image/png"/>
  <Override PartName="/ppt/media/image14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1.png" ContentType="image/png"/>
  <Override PartName="/ppt/media/image58.png" ContentType="image/png"/>
  <Override PartName="/ppt/media/image69.png" ContentType="image/png"/>
  <Override PartName="/ppt/media/image3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C521-4FEC-4E75-82E5-2D07E2924B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ECC-F0FE-4C3D-ACD4-3486304B33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5712-5A9F-40EF-9DC1-72A10EF8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073A-00A6-43F1-AC6B-A9DA4A2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7EF9-EFB9-4009-A0D5-E0AF58F1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9543-1543-4806-8144-1E860CE7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C334-C259-4692-9DDE-0502140A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41E2-F378-40E0-9944-7448DD91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C44D-5B40-40AE-B378-114F38C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3B51-1F60-43E5-9822-FECB1D16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3AD0-B11D-4E3E-B538-04C59F93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DA1D-BD08-4F7B-B234-507BADB4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5202-819D-405A-9ABE-5521476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44FA-0A06-49A3-A4D9-8A51554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2712-8002-4807-A02D-E4213BFE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6278-2380-4243-8873-A096785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F46C-2343-40A1-85E8-9DE04C36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05C-BB69-484A-9E6C-8FC7E406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8224-917A-4D96-B9B7-20D72D86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B930-2287-459C-96F9-278FBA6A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6463-7DE4-4B71-987F-EC96572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B9CAE-560D-49F4-B0B9-A1AD8DBB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C2AC-0BBC-4CCD-8274-4AEFB977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134F-E4B8-482B-8A3B-F37DBA2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F041-6BF9-44F6-A2C7-0AA6016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D876-E6DC-4018-B686-C6873947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67C-5BAB-401F-9FBA-AFEAD64BD7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8877-4D38-421B-A2BA-415285A6E4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wmf"/><Relationship Id="rId3" Type="http://schemas.openxmlformats.org/officeDocument/2006/relationships/image" Target="../media/image38.png"/><Relationship Id="rId4" Type="http://schemas.openxmlformats.org/officeDocument/2006/relationships/image" Target="../media/image35.png"/><Relationship Id="rId5" Type="http://schemas.openxmlformats.org/officeDocument/2006/relationships/image" Target="../media/image39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.wmf"/><Relationship Id="rId3" Type="http://schemas.openxmlformats.org/officeDocument/2006/relationships/image" Target="../media/image38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3"/>
          <a:stretch/>
        </p:blipFill>
        <p:spPr>
          <a:xfrm>
            <a:off x="1352520" y="3425760"/>
            <a:ext cx="6151680" cy="28465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5" descr=""/>
          <p:cNvPicPr/>
          <p:nvPr/>
        </p:nvPicPr>
        <p:blipFill>
          <a:blip r:embed="rId4"/>
          <a:stretch/>
        </p:blipFill>
        <p:spPr>
          <a:xfrm>
            <a:off x="2127240" y="549360"/>
            <a:ext cx="441972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47" name="TextBox 11"/>
          <p:cNvGrpSpPr/>
          <p:nvPr/>
        </p:nvGrpSpPr>
        <p:grpSpPr>
          <a:xfrm>
            <a:off x="2152800" y="1676520"/>
            <a:ext cx="6046560" cy="622080"/>
            <a:chOff x="2152800" y="1676520"/>
            <a:chExt cx="6046560" cy="622080"/>
          </a:xfrm>
        </p:grpSpPr>
        <p:pic>
          <p:nvPicPr>
            <p:cNvPr id="248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1676520"/>
              <a:ext cx="6046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239920" y="173988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ерад супраціўнымі злучнікамі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учні збіралі не грушы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яблыкі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TextBox 12"/>
          <p:cNvGrpSpPr/>
          <p:nvPr/>
        </p:nvGrpSpPr>
        <p:grpSpPr>
          <a:xfrm>
            <a:off x="2152800" y="2322360"/>
            <a:ext cx="6046560" cy="1030320"/>
            <a:chOff x="2152800" y="2322360"/>
            <a:chExt cx="6046560" cy="1030320"/>
          </a:xfrm>
        </p:grpSpPr>
        <p:pic>
          <p:nvPicPr>
            <p:cNvPr id="251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2322360"/>
              <a:ext cx="60465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259000" y="2401920"/>
              <a:ext cx="5840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ерад злучнікамі, якія паўтараюцц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учні збірал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грушы,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і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блыкі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учні збірал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грушы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блыкі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слів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учні збіралі грушы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яблыкі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лів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TextBox 14"/>
          <p:cNvGrpSpPr/>
          <p:nvPr/>
        </p:nvGrpSpPr>
        <p:grpSpPr>
          <a:xfrm>
            <a:off x="2152800" y="3395520"/>
            <a:ext cx="6046560" cy="822600"/>
            <a:chOff x="2152800" y="3395520"/>
            <a:chExt cx="6046560" cy="822600"/>
          </a:xfrm>
        </p:grpSpPr>
        <p:pic>
          <p:nvPicPr>
            <p:cNvPr id="254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3395520"/>
              <a:ext cx="60465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249640" y="346392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ерад другой часткай парнага злучнік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учні збіралі як грушы, так і яблыкі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учні не збіралі ні груш, ні яблыкаў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TextBox 16"/>
          <p:cNvGrpSpPr/>
          <p:nvPr/>
        </p:nvGrpSpPr>
        <p:grpSpPr>
          <a:xfrm>
            <a:off x="2152800" y="5175360"/>
            <a:ext cx="5973480" cy="860400"/>
            <a:chOff x="2152800" y="5175360"/>
            <a:chExt cx="5973480" cy="860400"/>
          </a:xfrm>
        </p:grpSpPr>
        <p:pic>
          <p:nvPicPr>
            <p:cNvPr id="257" name="TextBox 16" descr=""/>
            <p:cNvPicPr/>
            <p:nvPr/>
          </p:nvPicPr>
          <p:blipFill>
            <a:blip r:embed="rId6"/>
            <a:stretch/>
          </p:blipFill>
          <p:spPr>
            <a:xfrm>
              <a:off x="2152800" y="5175360"/>
              <a:ext cx="59734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251080" y="5251320"/>
              <a:ext cx="57848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днародныя члены сказа звязаны злучнікам і папарна, то кожная пара аднародных членаў аддзяляецца коскай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4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Бярозы белыя </a:t>
              </a: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 </a:t>
              </a:r>
              <a:r>
                <a:rPr b="1" i="1" lang="be-BY" sz="14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хвоі,  дубы </a:t>
              </a:r>
              <a:r>
                <a:rPr b="1" i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 </a:t>
              </a:r>
              <a:r>
                <a:rPr b="1" i="1" lang="be-BY" sz="14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клёны – без канца. (К. Кірыенка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TextBox 17"/>
          <p:cNvGrpSpPr/>
          <p:nvPr/>
        </p:nvGrpSpPr>
        <p:grpSpPr>
          <a:xfrm>
            <a:off x="2225520" y="963720"/>
            <a:ext cx="4827600" cy="633240"/>
            <a:chOff x="2225520" y="963720"/>
            <a:chExt cx="4827600" cy="633240"/>
          </a:xfrm>
        </p:grpSpPr>
        <p:pic>
          <p:nvPicPr>
            <p:cNvPr id="260" name="TextBox 17" descr=""/>
            <p:cNvPicPr/>
            <p:nvPr/>
          </p:nvPicPr>
          <p:blipFill>
            <a:blip r:embed="rId7"/>
            <a:stretch/>
          </p:blipFill>
          <p:spPr>
            <a:xfrm>
              <a:off x="2225520" y="963720"/>
              <a:ext cx="48276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286000" y="1000080"/>
              <a:ext cx="471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між аднароднымі членамі, звязанымі пры дапамозе злучнікаў, 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тавіцца коск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utoShape 9"/>
          <p:cNvSpPr/>
          <p:nvPr/>
        </p:nvSpPr>
        <p:spPr>
          <a:xfrm>
            <a:off x="915840" y="1411200"/>
            <a:ext cx="1227240" cy="266076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57280 h 2660760"/>
              <a:gd name="textAreaBottom" fmla="*/ 1959480 h 266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7" stAng="-5400000" swAng="-5400000"/>
                <a:lnTo>
                  <a:pt x="0" y="11384"/>
                </a:lnTo>
                <a:arcTo wR="21600" hR="9047" stAng="10800000" swAng="-3154455"/>
                <a:lnTo>
                  <a:pt x="15007" y="21168"/>
                </a:lnTo>
                <a:lnTo>
                  <a:pt x="21600" y="19263"/>
                </a:lnTo>
                <a:lnTo>
                  <a:pt x="15007" y="16493"/>
                </a:lnTo>
                <a:lnTo>
                  <a:pt x="15007" y="17662"/>
                </a:lnTo>
                <a:arcTo wR="21600" hR="9047" stAng="7645545" swAng="2967098"/>
                <a:lnTo>
                  <a:pt x="181" y="10216"/>
                </a:lnTo>
                <a:arcTo wR="21600" hR="9047" stAng="-10612642" swAng="5212642"/>
                <a:close/>
              </a:path>
              <a:path fill="darkenLess" w="21600" h="21600">
                <a:moveTo>
                  <a:pt x="21600" y="0"/>
                </a:moveTo>
                <a:arcTo wR="21600" hR="9047" stAng="-5400000" swAng="-5400000"/>
                <a:lnTo>
                  <a:pt x="0" y="9047"/>
                </a:lnTo>
                <a:arcTo wR="21600" hR="9047" stAng="10800000" swAng="-187358"/>
                <a:lnTo>
                  <a:pt x="181" y="10216"/>
                </a:lnTo>
                <a:arcTo wR="21600" hR="9047" stAng="-10612642" swAng="521264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"/>
          <p:cNvSpPr/>
          <p:nvPr/>
        </p:nvSpPr>
        <p:spPr>
          <a:xfrm rot="317400">
            <a:off x="820440" y="1345680"/>
            <a:ext cx="1349280" cy="808200"/>
          </a:xfrm>
          <a:custGeom>
            <a:avLst/>
            <a:gdLst>
              <a:gd name="textAreaLeft" fmla="*/ 180720 w 1349280"/>
              <a:gd name="textAreaRight" fmla="*/ 1168560 w 1349280"/>
              <a:gd name="textAreaTop" fmla="*/ 133920 h 808200"/>
              <a:gd name="textAreaBottom" fmla="*/ 592200 h 80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509434"/>
                <a:lnTo>
                  <a:pt x="17292" y="21456"/>
                </a:lnTo>
                <a:lnTo>
                  <a:pt x="21600" y="16878"/>
                </a:lnTo>
                <a:lnTo>
                  <a:pt x="17292" y="12011"/>
                </a:lnTo>
                <a:lnTo>
                  <a:pt x="17292" y="14199"/>
                </a:lnTo>
                <a:arcTo wR="21600" hR="7172" stAng="7290566" swAng="308046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9"/>
          <p:cNvSpPr/>
          <p:nvPr/>
        </p:nvSpPr>
        <p:spPr>
          <a:xfrm rot="317400">
            <a:off x="925200" y="1409760"/>
            <a:ext cx="1204920" cy="15382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289440 h 1538280"/>
              <a:gd name="textAreaBottom" fmla="*/ 1119960 h 15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35" stAng="-5400000" swAng="-5400000"/>
                <a:lnTo>
                  <a:pt x="0" y="11658"/>
                </a:lnTo>
                <a:arcTo wR="21600" hR="8135" stAng="10800000" swAng="-2712291"/>
                <a:lnTo>
                  <a:pt x="14035" y="21085"/>
                </a:lnTo>
                <a:lnTo>
                  <a:pt x="21600" y="18031"/>
                </a:lnTo>
                <a:lnTo>
                  <a:pt x="14035" y="13946"/>
                </a:lnTo>
                <a:lnTo>
                  <a:pt x="14035" y="15754"/>
                </a:lnTo>
                <a:arcTo wR="21600" hR="8135" stAng="8087709" swAng="2425790"/>
                <a:lnTo>
                  <a:pt x="513" y="9896"/>
                </a:lnTo>
                <a:arcTo wR="21600" hR="8135" stAng="-10513500" swAng="5113500"/>
                <a:close/>
              </a:path>
              <a:path fill="darkenLess" w="21600" h="21600">
                <a:moveTo>
                  <a:pt x="21600" y="0"/>
                </a:moveTo>
                <a:arcTo wR="21600" hR="8135" stAng="-5400000" swAng="-5400000"/>
                <a:lnTo>
                  <a:pt x="0" y="8135"/>
                </a:lnTo>
                <a:arcTo wR="21600" hR="8135" stAng="10800000" swAng="-286500"/>
                <a:lnTo>
                  <a:pt x="513" y="9896"/>
                </a:lnTo>
                <a:arcTo wR="21600" hR="8135" stAng="-10513500" swAng="511350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67" name="TextBox 11"/>
          <p:cNvGrpSpPr/>
          <p:nvPr/>
        </p:nvGrpSpPr>
        <p:grpSpPr>
          <a:xfrm>
            <a:off x="2225520" y="2610000"/>
            <a:ext cx="5973840" cy="1315800"/>
            <a:chOff x="2225520" y="2610000"/>
            <a:chExt cx="5973840" cy="1315800"/>
          </a:xfrm>
        </p:grpSpPr>
        <p:pic>
          <p:nvPicPr>
            <p:cNvPr id="268" name="TextBox 11" descr=""/>
            <p:cNvPicPr/>
            <p:nvPr/>
          </p:nvPicPr>
          <p:blipFill>
            <a:blip r:embed="rId3"/>
            <a:stretch/>
          </p:blipFill>
          <p:spPr>
            <a:xfrm>
              <a:off x="2225520" y="2610000"/>
              <a:ext cx="59738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344680" y="2701800"/>
              <a:ext cx="57405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між аднароднымі членамі перад адзіночнымі (якія не паўтараюцца) спалучальнымі ці размеркавальнымі злучнікамі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учні збіралі грушы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яблыкі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учні збіралі грушы, яблыкі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і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лів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Купі цукерак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бо (ці)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ячэння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TextBox 13"/>
          <p:cNvGrpSpPr/>
          <p:nvPr/>
        </p:nvGrpSpPr>
        <p:grpSpPr>
          <a:xfrm>
            <a:off x="2225520" y="4535640"/>
            <a:ext cx="6046920" cy="1096920"/>
            <a:chOff x="2225520" y="4535640"/>
            <a:chExt cx="6046920" cy="1096920"/>
          </a:xfrm>
        </p:grpSpPr>
        <p:pic>
          <p:nvPicPr>
            <p:cNvPr id="271" name="TextBox 13" descr=""/>
            <p:cNvPicPr/>
            <p:nvPr/>
          </p:nvPicPr>
          <p:blipFill>
            <a:blip r:embed="rId4"/>
            <a:stretch/>
          </p:blipFill>
          <p:spPr>
            <a:xfrm>
              <a:off x="2225520" y="4535640"/>
              <a:ext cx="60469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33520" y="4619520"/>
              <a:ext cx="5834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ўвага. 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оска не ставіцца ва ўстойлівых выразах (фразеалагічных адзінках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і села ні пала, ні ладу ні складу, ні слыху ні дыху, то бокам то скокам, і так і сяк, і смех і грэх, і ў хвост і ў грыву, ні бэ ні мэ і інш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TextBox 17"/>
          <p:cNvGrpSpPr/>
          <p:nvPr/>
        </p:nvGrpSpPr>
        <p:grpSpPr>
          <a:xfrm>
            <a:off x="2298600" y="1725480"/>
            <a:ext cx="5686560" cy="505080"/>
            <a:chOff x="2298600" y="1725480"/>
            <a:chExt cx="5686560" cy="505080"/>
          </a:xfrm>
        </p:grpSpPr>
        <p:pic>
          <p:nvPicPr>
            <p:cNvPr id="274" name="TextBox 17" descr=""/>
            <p:cNvPicPr/>
            <p:nvPr/>
          </p:nvPicPr>
          <p:blipFill>
            <a:blip r:embed="rId5"/>
            <a:stretch/>
          </p:blipFill>
          <p:spPr>
            <a:xfrm>
              <a:off x="2298600" y="1725480"/>
              <a:ext cx="568656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357280" y="17859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оска не ставіцц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AutoShape 9"/>
          <p:cNvSpPr/>
          <p:nvPr/>
        </p:nvSpPr>
        <p:spPr>
          <a:xfrm rot="317400">
            <a:off x="742680" y="1776240"/>
            <a:ext cx="1404720" cy="1590840"/>
          </a:xfrm>
          <a:custGeom>
            <a:avLst/>
            <a:gdLst>
              <a:gd name="textAreaLeft" fmla="*/ 187920 w 1404720"/>
              <a:gd name="textAreaRight" fmla="*/ 1216800 w 140472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1143000" y="1785960"/>
            <a:ext cx="1071720" cy="35719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772200 h 3571920"/>
              <a:gd name="textAreaBottom" fmla="*/ 269532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3" stAng="-5400000" swAng="-5400000"/>
                <a:lnTo>
                  <a:pt x="0" y="11628"/>
                </a:lnTo>
                <a:arcTo wR="21600" hR="9343" stAng="10800000" swAng="-2983655"/>
                <a:lnTo>
                  <a:pt x="14168" y="21030"/>
                </a:lnTo>
                <a:lnTo>
                  <a:pt x="21600" y="19828"/>
                </a:lnTo>
                <a:lnTo>
                  <a:pt x="14168" y="17485"/>
                </a:lnTo>
                <a:lnTo>
                  <a:pt x="14168" y="18115"/>
                </a:lnTo>
                <a:arcTo wR="21600" hR="9343" stAng="7816345" swAng="2800618"/>
                <a:lnTo>
                  <a:pt x="162" y="10485"/>
                </a:lnTo>
                <a:arcTo wR="21600" hR="9343" stAng="-10616964" swAng="5216964"/>
                <a:close/>
              </a:path>
              <a:path fill="darkenLess" w="21600" h="21600">
                <a:moveTo>
                  <a:pt x="21600" y="0"/>
                </a:moveTo>
                <a:arcTo wR="21600" hR="9343" stAng="-5400000" swAng="-5400000"/>
                <a:lnTo>
                  <a:pt x="0" y="9343"/>
                </a:lnTo>
                <a:arcTo wR="21600" hR="9343" stAng="10800000" swAng="-183036"/>
                <a:lnTo>
                  <a:pt x="162" y="10485"/>
                </a:lnTo>
                <a:arcTo wR="21600" hR="9343" stAng="-10616964" swAng="521696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0" descr="logo 21"/>
          <p:cNvPicPr/>
          <p:nvPr/>
        </p:nvPicPr>
        <p:blipFill>
          <a:blip r:embed="rId1"/>
          <a:stretch/>
        </p:blipFill>
        <p:spPr>
          <a:xfrm>
            <a:off x="6138720" y="5638680"/>
            <a:ext cx="3011760" cy="122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80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347760"/>
            <a:ext cx="6156360" cy="931680"/>
          </a:xfrm>
          <a:prstGeom prst="rect">
            <a:avLst/>
          </a:prstGeom>
          <a:ln w="0">
            <a:noFill/>
          </a:ln>
        </p:spPr>
      </p:pic>
      <p:pic>
        <p:nvPicPr>
          <p:cNvPr id="281" name="Схема 5" descr=""/>
          <p:cNvPicPr/>
          <p:nvPr/>
        </p:nvPicPr>
        <p:blipFill>
          <a:blip r:embed="rId4"/>
          <a:stretch/>
        </p:blipFill>
        <p:spPr>
          <a:xfrm>
            <a:off x="706320" y="1420920"/>
            <a:ext cx="7583760" cy="484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84" name="TextBox 11"/>
          <p:cNvGrpSpPr/>
          <p:nvPr/>
        </p:nvGrpSpPr>
        <p:grpSpPr>
          <a:xfrm>
            <a:off x="2225520" y="2749680"/>
            <a:ext cx="5973840" cy="877680"/>
            <a:chOff x="2225520" y="2749680"/>
            <a:chExt cx="5973840" cy="877680"/>
          </a:xfrm>
        </p:grpSpPr>
        <p:pic>
          <p:nvPicPr>
            <p:cNvPr id="285" name="TextBox 11" descr=""/>
            <p:cNvPicPr/>
            <p:nvPr/>
          </p:nvPicPr>
          <p:blipFill>
            <a:blip r:embed="rId3"/>
            <a:stretch/>
          </p:blipFill>
          <p:spPr>
            <a:xfrm>
              <a:off x="2225520" y="2749680"/>
              <a:ext cx="597384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324160" y="2824200"/>
              <a:ext cx="57816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значэнні-эпітэты (мастацкія, эмацыянальныя азначэнні)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З відна і да відна крыламі б’е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яўтольная, няўмольная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вясна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Г. Бураўкін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12"/>
          <p:cNvGrpSpPr/>
          <p:nvPr/>
        </p:nvGrpSpPr>
        <p:grpSpPr>
          <a:xfrm>
            <a:off x="2225520" y="3749760"/>
            <a:ext cx="5973840" cy="650880"/>
            <a:chOff x="2225520" y="3749760"/>
            <a:chExt cx="5973840" cy="650880"/>
          </a:xfrm>
        </p:grpSpPr>
        <p:pic>
          <p:nvPicPr>
            <p:cNvPr id="288" name="TextBox 12" descr=""/>
            <p:cNvPicPr/>
            <p:nvPr/>
          </p:nvPicPr>
          <p:blipFill>
            <a:blip r:embed="rId4"/>
            <a:stretch/>
          </p:blipFill>
          <p:spPr>
            <a:xfrm>
              <a:off x="2225520" y="3749760"/>
              <a:ext cx="597384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313000" y="3813120"/>
              <a:ext cx="5803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апасаваныя азначэнні, якія стаяць пасля азначаемага слова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абота,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партая, дружная,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е спынялася ўвесь дзень. (Г. Чыгрынаў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TextBox 13"/>
          <p:cNvGrpSpPr/>
          <p:nvPr/>
        </p:nvGrpSpPr>
        <p:grpSpPr>
          <a:xfrm>
            <a:off x="2225520" y="4675320"/>
            <a:ext cx="6046920" cy="877680"/>
            <a:chOff x="2225520" y="4675320"/>
            <a:chExt cx="6046920" cy="877680"/>
          </a:xfrm>
        </p:grpSpPr>
        <p:pic>
          <p:nvPicPr>
            <p:cNvPr id="291" name="TextBox 13" descr=""/>
            <p:cNvPicPr/>
            <p:nvPr/>
          </p:nvPicPr>
          <p:blipFill>
            <a:blip r:embed="rId5"/>
            <a:stretch/>
          </p:blipFill>
          <p:spPr>
            <a:xfrm>
              <a:off x="2225520" y="4675320"/>
              <a:ext cx="604692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2324160" y="4753080"/>
              <a:ext cx="5852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значэнні, адно з якіх выражана прыметнікам, а другое – дзеепрыметнікам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а лузе доўгімі валкамі ляжала </a:t>
              </a:r>
              <a:r>
                <a:rPr b="1" i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ухмянае, высушанае </a:t>
              </a:r>
              <a:r>
                <a:rPr b="1" i="1" lang="be-BY" sz="13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ена. (Я Сіпакоў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TextBox 17"/>
          <p:cNvGrpSpPr/>
          <p:nvPr/>
        </p:nvGrpSpPr>
        <p:grpSpPr>
          <a:xfrm>
            <a:off x="2298600" y="1805040"/>
            <a:ext cx="5686560" cy="461880"/>
            <a:chOff x="2298600" y="1805040"/>
            <a:chExt cx="5686560" cy="461880"/>
          </a:xfrm>
        </p:grpSpPr>
        <p:pic>
          <p:nvPicPr>
            <p:cNvPr id="294" name="TextBox 17" descr=""/>
            <p:cNvPicPr/>
            <p:nvPr/>
          </p:nvPicPr>
          <p:blipFill>
            <a:blip r:embed="rId6"/>
            <a:stretch/>
          </p:blipFill>
          <p:spPr>
            <a:xfrm>
              <a:off x="2298600" y="1805040"/>
              <a:ext cx="56865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357280" y="1857240"/>
              <a:ext cx="557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ўвага. Заўсёды аднароднымі з’яўляюцц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utoShape 9"/>
          <p:cNvSpPr/>
          <p:nvPr/>
        </p:nvSpPr>
        <p:spPr>
          <a:xfrm rot="317400">
            <a:off x="742680" y="1776240"/>
            <a:ext cx="1404720" cy="1590840"/>
          </a:xfrm>
          <a:custGeom>
            <a:avLst/>
            <a:gdLst>
              <a:gd name="textAreaLeft" fmla="*/ 187920 w 1404720"/>
              <a:gd name="textAreaRight" fmla="*/ 1216800 w 1404720"/>
              <a:gd name="textAreaTop" fmla="*/ 279720 h 1590840"/>
              <a:gd name="textAreaBottom" fmla="*/ 1168920 h 159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98" stAng="-5400000" swAng="-5400000"/>
                <a:lnTo>
                  <a:pt x="0" y="12071"/>
                </a:lnTo>
                <a:arcTo wR="21600" hR="7598" stAng="10800000" swAng="-2691142"/>
                <a:lnTo>
                  <a:pt x="14400" y="21165"/>
                </a:lnTo>
                <a:lnTo>
                  <a:pt x="21600" y="17432"/>
                </a:lnTo>
                <a:lnTo>
                  <a:pt x="14400" y="12828"/>
                </a:lnTo>
                <a:lnTo>
                  <a:pt x="14400" y="14760"/>
                </a:lnTo>
                <a:arcTo wR="21600" hR="7598" stAng="8108858" swAng="2320136"/>
                <a:lnTo>
                  <a:pt x="957" y="9834"/>
                </a:lnTo>
                <a:arcTo wR="21600" hR="7598" stAng="-10428994" swAng="5028994"/>
                <a:close/>
              </a:path>
              <a:path fill="darkenLess" w="21600" h="21600">
                <a:moveTo>
                  <a:pt x="21600" y="0"/>
                </a:moveTo>
                <a:arcTo wR="21600" hR="7598" stAng="-5400000" swAng="-5400000"/>
                <a:lnTo>
                  <a:pt x="0" y="7598"/>
                </a:lnTo>
                <a:arcTo wR="21600" hR="7598" stAng="10800000" swAng="-371006"/>
                <a:lnTo>
                  <a:pt x="957" y="9834"/>
                </a:lnTo>
                <a:arcTo wR="21600" hR="7598" stAng="-10428994" swAng="502899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317400">
            <a:off x="900000" y="1835280"/>
            <a:ext cx="1189080" cy="2544480"/>
          </a:xfrm>
          <a:custGeom>
            <a:avLst/>
            <a:gdLst>
              <a:gd name="textAreaLeft" fmla="*/ 159120 w 1189080"/>
              <a:gd name="textAreaRight" fmla="*/ 1029960 w 1189080"/>
              <a:gd name="textAreaTop" fmla="*/ 542520 h 2544480"/>
              <a:gd name="textAreaBottom" fmla="*/ 1874880 h 25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11" stAng="-5400000" swAng="-5400000"/>
                <a:lnTo>
                  <a:pt x="0" y="11311"/>
                </a:lnTo>
                <a:arcTo wR="21600" hR="9211" stAng="10800000" swAng="-2925272"/>
                <a:lnTo>
                  <a:pt x="14035" y="21017"/>
                </a:lnTo>
                <a:lnTo>
                  <a:pt x="21600" y="19472"/>
                </a:lnTo>
                <a:lnTo>
                  <a:pt x="14035" y="16761"/>
                </a:lnTo>
                <a:lnTo>
                  <a:pt x="14035" y="17839"/>
                </a:lnTo>
                <a:arcTo wR="21600" hR="9211" stAng="7874728" swAng="2757197"/>
                <a:lnTo>
                  <a:pt x="141" y="10261"/>
                </a:lnTo>
                <a:arcTo wR="21600" hR="9211" stAng="-10631925" swAng="5231925"/>
                <a:close/>
              </a:path>
              <a:path fill="darkenLess" w="21600" h="21600">
                <a:moveTo>
                  <a:pt x="21600" y="0"/>
                </a:moveTo>
                <a:arcTo wR="21600" hR="9211" stAng="-5400000" swAng="-5400000"/>
                <a:lnTo>
                  <a:pt x="0" y="9211"/>
                </a:lnTo>
                <a:arcTo wR="21600" hR="9211" stAng="10800000" swAng="-168075"/>
                <a:lnTo>
                  <a:pt x="141" y="10261"/>
                </a:lnTo>
                <a:arcTo wR="21600" hR="9211" stAng="-10631925" swAng="523192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1143000" y="1785960"/>
            <a:ext cx="1071720" cy="357192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772200 h 3571920"/>
              <a:gd name="textAreaBottom" fmla="*/ 2695320 h 357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3" stAng="-5400000" swAng="-5400000"/>
                <a:lnTo>
                  <a:pt x="0" y="11628"/>
                </a:lnTo>
                <a:arcTo wR="21600" hR="9343" stAng="10800000" swAng="-2983655"/>
                <a:lnTo>
                  <a:pt x="14168" y="21030"/>
                </a:lnTo>
                <a:lnTo>
                  <a:pt x="21600" y="19828"/>
                </a:lnTo>
                <a:lnTo>
                  <a:pt x="14168" y="17485"/>
                </a:lnTo>
                <a:lnTo>
                  <a:pt x="14168" y="18115"/>
                </a:lnTo>
                <a:arcTo wR="21600" hR="9343" stAng="7816345" swAng="2800618"/>
                <a:lnTo>
                  <a:pt x="162" y="10485"/>
                </a:lnTo>
                <a:arcTo wR="21600" hR="9343" stAng="-10616964" swAng="5216964"/>
                <a:close/>
              </a:path>
              <a:path fill="darkenLess" w="21600" h="21600">
                <a:moveTo>
                  <a:pt x="21600" y="0"/>
                </a:moveTo>
                <a:arcTo wR="21600" hR="9343" stAng="-5400000" swAng="-5400000"/>
                <a:lnTo>
                  <a:pt x="0" y="9343"/>
                </a:lnTo>
                <a:arcTo wR="21600" hR="9343" stAng="10800000" swAng="-183036"/>
                <a:lnTo>
                  <a:pt x="162" y="10485"/>
                </a:lnTo>
                <a:arcTo wR="21600" hR="9343" stAng="-10616964" swAng="521696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3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3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371520"/>
            <a:ext cx="6156360" cy="78084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5" descr=""/>
          <p:cNvPicPr/>
          <p:nvPr/>
        </p:nvPicPr>
        <p:blipFill>
          <a:blip r:embed="rId4"/>
          <a:stretch/>
        </p:blipFill>
        <p:spPr>
          <a:xfrm>
            <a:off x="2084400" y="1352520"/>
            <a:ext cx="4187880" cy="561960"/>
          </a:xfrm>
          <a:prstGeom prst="rect">
            <a:avLst/>
          </a:prstGeom>
          <a:ln w="0">
            <a:noFill/>
          </a:ln>
        </p:spPr>
      </p:pic>
      <p:pic>
        <p:nvPicPr>
          <p:cNvPr id="303" name="Прямоугольник 6" descr=""/>
          <p:cNvPicPr/>
          <p:nvPr/>
        </p:nvPicPr>
        <p:blipFill>
          <a:blip r:embed="rId5"/>
          <a:stretch/>
        </p:blipFill>
        <p:spPr>
          <a:xfrm>
            <a:off x="2084400" y="2152800"/>
            <a:ext cx="2968560" cy="474480"/>
          </a:xfrm>
          <a:prstGeom prst="rect">
            <a:avLst/>
          </a:prstGeom>
          <a:ln w="0">
            <a:noFill/>
          </a:ln>
        </p:spPr>
      </p:pic>
      <p:pic>
        <p:nvPicPr>
          <p:cNvPr id="304" name="Прямоугольник 7" descr=""/>
          <p:cNvPicPr/>
          <p:nvPr/>
        </p:nvPicPr>
        <p:blipFill>
          <a:blip r:embed="rId6"/>
          <a:stretch/>
        </p:blipFill>
        <p:spPr>
          <a:xfrm>
            <a:off x="2084400" y="2865600"/>
            <a:ext cx="2968560" cy="474480"/>
          </a:xfrm>
          <a:prstGeom prst="rect">
            <a:avLst/>
          </a:prstGeom>
          <a:ln w="0">
            <a:noFill/>
          </a:ln>
        </p:spPr>
      </p:pic>
      <p:pic>
        <p:nvPicPr>
          <p:cNvPr id="305" name="Прямоугольник 8" descr=""/>
          <p:cNvPicPr/>
          <p:nvPr/>
        </p:nvPicPr>
        <p:blipFill>
          <a:blip r:embed="rId7"/>
          <a:stretch/>
        </p:blipFill>
        <p:spPr>
          <a:xfrm>
            <a:off x="2084400" y="4438800"/>
            <a:ext cx="2968560" cy="47448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" descr=""/>
          <p:cNvPicPr/>
          <p:nvPr/>
        </p:nvPicPr>
        <p:blipFill>
          <a:blip r:embed="rId8"/>
          <a:stretch/>
        </p:blipFill>
        <p:spPr>
          <a:xfrm>
            <a:off x="2084400" y="5224320"/>
            <a:ext cx="2968560" cy="47484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0"/>
          <p:cNvSpPr/>
          <p:nvPr/>
        </p:nvSpPr>
        <p:spPr>
          <a:xfrm>
            <a:off x="2571840" y="3429000"/>
            <a:ext cx="21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TextBox 11"/>
          <p:cNvGrpSpPr/>
          <p:nvPr/>
        </p:nvGrpSpPr>
        <p:grpSpPr>
          <a:xfrm>
            <a:off x="2298600" y="3524400"/>
            <a:ext cx="2644920" cy="706320"/>
            <a:chOff x="2298600" y="3524400"/>
            <a:chExt cx="2644920" cy="706320"/>
          </a:xfrm>
        </p:grpSpPr>
        <p:pic>
          <p:nvPicPr>
            <p:cNvPr id="309" name="TextBox 11" descr=""/>
            <p:cNvPicPr/>
            <p:nvPr/>
          </p:nvPicPr>
          <p:blipFill>
            <a:blip r:embed="rId9"/>
            <a:stretch/>
          </p:blipFill>
          <p:spPr>
            <a:xfrm>
              <a:off x="2298600" y="3524400"/>
              <a:ext cx="26449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2357280" y="3571920"/>
              <a:ext cx="250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сё, ніхто, нічога, усюд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 інш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Прямая со стрелкой 13"/>
          <p:cNvCxnSpPr>
            <a:stCxn id="304" idx="2"/>
          </p:cNvCxnSpPr>
          <p:nvPr/>
        </p:nvCxnSpPr>
        <p:spPr>
          <a:xfrm flipH="1">
            <a:off x="3569400" y="3268800"/>
            <a:ext cx="2520" cy="30528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312" name="Прямая соединительная линия 16"/>
          <p:cNvSpPr/>
          <p:nvPr/>
        </p:nvSpPr>
        <p:spPr>
          <a:xfrm flipH="1">
            <a:off x="5785920" y="1857240"/>
            <a:ext cx="1800" cy="357372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18"/>
          <p:cNvCxnSpPr/>
          <p:nvPr/>
        </p:nvCxnSpPr>
        <p:spPr>
          <a:xfrm flipH="1" flipV="1">
            <a:off x="5071680" y="2356560"/>
            <a:ext cx="71496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314" name="Прямая со стрелкой 19"/>
          <p:cNvCxnSpPr/>
          <p:nvPr/>
        </p:nvCxnSpPr>
        <p:spPr>
          <a:xfrm flipH="1" flipV="1">
            <a:off x="5071680" y="3071520"/>
            <a:ext cx="71496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315" name="Прямая со стрелкой 20"/>
          <p:cNvCxnSpPr/>
          <p:nvPr/>
        </p:nvCxnSpPr>
        <p:spPr>
          <a:xfrm flipH="1" flipV="1">
            <a:off x="5071680" y="4642560"/>
            <a:ext cx="71496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316" name="Прямая со стрелкой 21"/>
          <p:cNvCxnSpPr/>
          <p:nvPr/>
        </p:nvCxnSpPr>
        <p:spPr>
          <a:xfrm flipH="1" flipV="1">
            <a:off x="5071680" y="5428440"/>
            <a:ext cx="71496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319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85680"/>
            <a:ext cx="6156360" cy="779400"/>
          </a:xfrm>
          <a:prstGeom prst="rect">
            <a:avLst/>
          </a:prstGeom>
          <a:ln w="0">
            <a:noFill/>
          </a:ln>
        </p:spPr>
      </p:pic>
      <p:grpSp>
        <p:nvGrpSpPr>
          <p:cNvPr id="320" name="TextBox 5"/>
          <p:cNvGrpSpPr/>
          <p:nvPr/>
        </p:nvGrpSpPr>
        <p:grpSpPr>
          <a:xfrm>
            <a:off x="1652760" y="890640"/>
            <a:ext cx="5686200" cy="1913040"/>
            <a:chOff x="1652760" y="890640"/>
            <a:chExt cx="5686200" cy="1913040"/>
          </a:xfrm>
        </p:grpSpPr>
        <p:pic>
          <p:nvPicPr>
            <p:cNvPr id="321" name="TextBox 5" descr=""/>
            <p:cNvPicPr/>
            <p:nvPr/>
          </p:nvPicPr>
          <p:blipFill>
            <a:blip r:embed="rId4"/>
            <a:stretch/>
          </p:blipFill>
          <p:spPr>
            <a:xfrm>
              <a:off x="1652760" y="890640"/>
              <a:ext cx="5686200" cy="19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863720" y="1077840"/>
              <a:ext cx="527364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багульняючае слова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можа размяшчацца перад аднароднымі членамі сказа і пасля іх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а ўсіх выпадках яно з’яўляецца тым самым членам сказа, што і аднародныя члены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цены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тайні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ароты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калючы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рот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be-BY" sz="13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усё гэта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было ўкрыта густым марозным інеем. (М. Лынькоў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 акна было відаць</a:t>
              </a:r>
              <a:r>
                <a:rPr b="1" i="1" lang="be-BY" sz="13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усё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 і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луг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і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оле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і сялянскі </a:t>
              </a:r>
              <a:r>
                <a:rPr b="1" i="1" lang="be-BY" sz="13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татак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А. Бялевіч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TextBox 6"/>
          <p:cNvGrpSpPr/>
          <p:nvPr/>
        </p:nvGrpSpPr>
        <p:grpSpPr>
          <a:xfrm>
            <a:off x="938160" y="2822400"/>
            <a:ext cx="6261120" cy="895680"/>
            <a:chOff x="938160" y="2822400"/>
            <a:chExt cx="6261120" cy="895680"/>
          </a:xfrm>
        </p:grpSpPr>
        <p:pic>
          <p:nvPicPr>
            <p:cNvPr id="324" name="TextBox 6" descr=""/>
            <p:cNvPicPr/>
            <p:nvPr/>
          </p:nvPicPr>
          <p:blipFill>
            <a:blip r:embed="rId5"/>
            <a:stretch/>
          </p:blipFill>
          <p:spPr>
            <a:xfrm>
              <a:off x="938160" y="2822400"/>
              <a:ext cx="626112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065240" y="2922480"/>
              <a:ext cx="60134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цяжнік ставіцца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багульняючае слова стаіць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пасля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х членаў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Гэты зараснік, і гэта азярцо, і гэтыя сцежкі баравыя –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усё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хавалі снягі. (К. Чорн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TextBox 7"/>
          <p:cNvGrpSpPr/>
          <p:nvPr/>
        </p:nvGrpSpPr>
        <p:grpSpPr>
          <a:xfrm>
            <a:off x="1438200" y="4035600"/>
            <a:ext cx="6261120" cy="1122120"/>
            <a:chOff x="1438200" y="4035600"/>
            <a:chExt cx="6261120" cy="1122120"/>
          </a:xfrm>
        </p:grpSpPr>
        <p:pic>
          <p:nvPicPr>
            <p:cNvPr id="327" name="TextBox 7" descr=""/>
            <p:cNvPicPr/>
            <p:nvPr/>
          </p:nvPicPr>
          <p:blipFill>
            <a:blip r:embed="rId6"/>
            <a:stretch/>
          </p:blipFill>
          <p:spPr>
            <a:xfrm>
              <a:off x="1438200" y="4035600"/>
              <a:ext cx="626112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584360" y="4156200"/>
              <a:ext cx="597528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вукроп’е ставіцца: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багульняючае слова стаіць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перад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мі членамі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На сцяне віселі розныя сталярскія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нструменты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 пілкі, гэблі, цыркулі, стамескі. (І. Шамякін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TextBox 8"/>
          <p:cNvGrpSpPr/>
          <p:nvPr/>
        </p:nvGrpSpPr>
        <p:grpSpPr>
          <a:xfrm>
            <a:off x="2084400" y="5248440"/>
            <a:ext cx="6254640" cy="1323720"/>
            <a:chOff x="2084400" y="5248440"/>
            <a:chExt cx="6254640" cy="1323720"/>
          </a:xfrm>
        </p:grpSpPr>
        <p:pic>
          <p:nvPicPr>
            <p:cNvPr id="330" name="TextBox 8" descr=""/>
            <p:cNvPicPr/>
            <p:nvPr/>
          </p:nvPicPr>
          <p:blipFill>
            <a:blip r:embed="rId7"/>
            <a:stretch/>
          </p:blipFill>
          <p:spPr>
            <a:xfrm>
              <a:off x="2084400" y="5248440"/>
              <a:ext cx="625464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244600" y="5388120"/>
              <a:ext cx="5940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абагульняючае слова стаіць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перад 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мі членамі, а пасля іх працягваецца сказ, то перад аднароднымі членамі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тавіцца двукроп’е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, а пасля іх, перад астатняй часткай сказа, -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цяжнік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ўсюдна: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і ў ельніку, і ў Востраве – маці ў думках гаварыла з Коле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А. Ставер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3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334" name="Прямоугольник 4"/>
          <p:cNvGrpSpPr/>
          <p:nvPr/>
        </p:nvGrpSpPr>
        <p:grpSpPr>
          <a:xfrm>
            <a:off x="1652760" y="450720"/>
            <a:ext cx="5973480" cy="708120"/>
            <a:chOff x="1652760" y="450720"/>
            <a:chExt cx="5973480" cy="708120"/>
          </a:xfrm>
        </p:grpSpPr>
        <p:pic>
          <p:nvPicPr>
            <p:cNvPr id="33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52760" y="450720"/>
              <a:ext cx="597348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714680" y="500040"/>
              <a:ext cx="585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інтаксічны разбор ск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аднароднымі членам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Прямоугольник 5" descr=""/>
          <p:cNvPicPr/>
          <p:nvPr/>
        </p:nvPicPr>
        <p:blipFill>
          <a:blip r:embed="rId4"/>
          <a:stretch/>
        </p:blipFill>
        <p:spPr>
          <a:xfrm>
            <a:off x="652320" y="1579680"/>
            <a:ext cx="2262240" cy="474480"/>
          </a:xfrm>
          <a:prstGeom prst="rect">
            <a:avLst/>
          </a:prstGeom>
          <a:ln w="0">
            <a:noFill/>
          </a:ln>
        </p:spPr>
      </p:pic>
      <p:grpSp>
        <p:nvGrpSpPr>
          <p:cNvPr id="338" name="TextBox 6"/>
          <p:cNvGrpSpPr/>
          <p:nvPr/>
        </p:nvGrpSpPr>
        <p:grpSpPr>
          <a:xfrm>
            <a:off x="2719440" y="3395520"/>
            <a:ext cx="5338800" cy="2017800"/>
            <a:chOff x="2719440" y="3395520"/>
            <a:chExt cx="5338800" cy="2017800"/>
          </a:xfrm>
        </p:grpSpPr>
        <p:pic>
          <p:nvPicPr>
            <p:cNvPr id="339" name="TextBox 6" descr=""/>
            <p:cNvPicPr/>
            <p:nvPr/>
          </p:nvPicPr>
          <p:blipFill>
            <a:blip r:embed="rId5"/>
            <a:stretch/>
          </p:blipFill>
          <p:spPr>
            <a:xfrm>
              <a:off x="2719440" y="3395520"/>
              <a:ext cx="53388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786040" y="3429000"/>
              <a:ext cx="521496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просты, апавядальны, няклічны, двухсастаўны, развіты, ускладнены аднароднымі членамі, поўн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убы, асіны, вольхі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днародныя дзейнікі, выражаныя назоўнікамі, спалучаюцца паміж сабой інтанацыяй, на пісьме раздзяляюцца коскай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убы, асіны, вольхі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 зрабілі?) 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слі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у форме абв. ладу, пр.ч., мн. л.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слі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дзе?)</a:t>
              </a:r>
              <a:r>
                <a:rPr b="1" i="1" lang="be-BY" sz="13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там </a:t>
              </a:r>
              <a:r>
                <a:rPr b="1" lang="be-BY" sz="13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месца, выражана прыслоўем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TextBox 7"/>
          <p:cNvGrpSpPr/>
          <p:nvPr/>
        </p:nvGrpSpPr>
        <p:grpSpPr>
          <a:xfrm>
            <a:off x="2865600" y="1951200"/>
            <a:ext cx="4833720" cy="463320"/>
            <a:chOff x="2865600" y="1951200"/>
            <a:chExt cx="4833720" cy="463320"/>
          </a:xfrm>
        </p:grpSpPr>
        <p:pic>
          <p:nvPicPr>
            <p:cNvPr id="342" name="TextBox 7" descr=""/>
            <p:cNvPicPr/>
            <p:nvPr/>
          </p:nvPicPr>
          <p:blipFill>
            <a:blip r:embed="rId6"/>
            <a:stretch/>
          </p:blipFill>
          <p:spPr>
            <a:xfrm>
              <a:off x="2865600" y="1951200"/>
              <a:ext cx="48337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928960" y="2000160"/>
              <a:ext cx="47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Там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раслі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дубы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асіны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ольхі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оугольник 8" descr=""/>
          <p:cNvPicPr/>
          <p:nvPr/>
        </p:nvPicPr>
        <p:blipFill>
          <a:blip r:embed="rId7"/>
          <a:stretch/>
        </p:blipFill>
        <p:spPr>
          <a:xfrm>
            <a:off x="652320" y="2724120"/>
            <a:ext cx="226224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000"/>
                            </p:stCondLst>
                            <p:childTnLst>
                              <p:par>
                                <p:cTn id="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800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9"/>
          <p:cNvSpPr/>
          <p:nvPr/>
        </p:nvSpPr>
        <p:spPr>
          <a:xfrm>
            <a:off x="714240" y="1500120"/>
            <a:ext cx="1428840" cy="4357800"/>
          </a:xfrm>
          <a:custGeom>
            <a:avLst/>
            <a:gdLst>
              <a:gd name="textAreaLeft" fmla="*/ 191160 w 1428840"/>
              <a:gd name="textAreaRight" fmla="*/ 1237680 w 1428840"/>
              <a:gd name="textAreaTop" fmla="*/ 951120 h 4357800"/>
              <a:gd name="textAreaBottom" fmla="*/ 3189240 h 43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31" stAng="-5400000" swAng="-5400000"/>
                <a:lnTo>
                  <a:pt x="0" y="11092"/>
                </a:lnTo>
                <a:arcTo wR="21600" hR="9431" stAng="10800000" swAng="-3060070"/>
                <a:lnTo>
                  <a:pt x="14400" y="21061"/>
                </a:lnTo>
                <a:lnTo>
                  <a:pt x="21600" y="19693"/>
                </a:lnTo>
                <a:lnTo>
                  <a:pt x="14400" y="17246"/>
                </a:lnTo>
                <a:lnTo>
                  <a:pt x="14400" y="18323"/>
                </a:lnTo>
                <a:arcTo wR="21600" hR="9431" stAng="7739930" swAng="2927443"/>
                <a:lnTo>
                  <a:pt x="84" y="10261"/>
                </a:lnTo>
                <a:arcTo wR="21600" hR="9431" stAng="-10667372" swAng="5267372"/>
                <a:close/>
              </a:path>
              <a:path fill="darkenLess" w="21600" h="21600">
                <a:moveTo>
                  <a:pt x="21600" y="0"/>
                </a:moveTo>
                <a:arcTo wR="21600" hR="9431" stAng="-5400000" swAng="-5400000"/>
                <a:lnTo>
                  <a:pt x="0" y="9431"/>
                </a:lnTo>
                <a:arcTo wR="21600" hR="9431" stAng="10800000" swAng="-132628"/>
                <a:lnTo>
                  <a:pt x="84" y="10261"/>
                </a:lnTo>
                <a:arcTo wR="21600" hR="9431" stAng="-10667372" swAng="526737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TextBox 11"/>
          <p:cNvGrpSpPr/>
          <p:nvPr/>
        </p:nvGrpSpPr>
        <p:grpSpPr>
          <a:xfrm>
            <a:off x="2152800" y="1676520"/>
            <a:ext cx="6046560" cy="622080"/>
            <a:chOff x="2152800" y="1676520"/>
            <a:chExt cx="6046560" cy="622080"/>
          </a:xfrm>
        </p:grpSpPr>
        <p:pic>
          <p:nvPicPr>
            <p:cNvPr id="121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1676520"/>
              <a:ext cx="6046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239920" y="173988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я члены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Атрад спыніўся на стаянку ў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густым, непраходным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лесе. (М. Лынько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TextBox 12"/>
          <p:cNvGrpSpPr/>
          <p:nvPr/>
        </p:nvGrpSpPr>
        <p:grpSpPr>
          <a:xfrm>
            <a:off x="2152800" y="2322360"/>
            <a:ext cx="6046560" cy="822600"/>
            <a:chOff x="2152800" y="2322360"/>
            <a:chExt cx="6046560" cy="822600"/>
          </a:xfrm>
        </p:grpSpPr>
        <p:pic>
          <p:nvPicPr>
            <p:cNvPr id="124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2322360"/>
              <a:ext cx="60465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249640" y="239220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асобленыя члены сказ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юдзі, стомленыя, знясіленыя ад бяссоння і трывогі, адразу валіліся на зямлю і засыналі. (І. Мележ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TextBox 14"/>
          <p:cNvGrpSpPr/>
          <p:nvPr/>
        </p:nvGrpSpPr>
        <p:grpSpPr>
          <a:xfrm>
            <a:off x="2152800" y="3322800"/>
            <a:ext cx="6046560" cy="822240"/>
            <a:chOff x="2152800" y="3322800"/>
            <a:chExt cx="6046560" cy="822240"/>
          </a:xfrm>
        </p:grpSpPr>
        <p:pic>
          <p:nvPicPr>
            <p:cNvPr id="127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3322800"/>
              <a:ext cx="60465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249640" y="339264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бочныя, устаўныя канструкцыі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прыклад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, ніколі не крытыкую сваіх прыяцеляў. (К. Крапів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У адным сяле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няважна – дзе)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хадзіў баран у чарадзе. (К. Крапів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TextBox 15"/>
          <p:cNvGrpSpPr/>
          <p:nvPr/>
        </p:nvGrpSpPr>
        <p:grpSpPr>
          <a:xfrm>
            <a:off x="2152800" y="4395960"/>
            <a:ext cx="6046560" cy="614160"/>
            <a:chOff x="2152800" y="4395960"/>
            <a:chExt cx="6046560" cy="614160"/>
          </a:xfrm>
        </p:grpSpPr>
        <p:pic>
          <p:nvPicPr>
            <p:cNvPr id="130" name="TextBox 15" descr=""/>
            <p:cNvPicPr/>
            <p:nvPr/>
          </p:nvPicPr>
          <p:blipFill>
            <a:blip r:embed="rId6"/>
            <a:stretch/>
          </p:blipFill>
          <p:spPr>
            <a:xfrm>
              <a:off x="2152800" y="4395960"/>
              <a:ext cx="604656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239920" y="445464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вароткі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азгарні ты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люд рабочы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, сілу, волю ва ўсю шыр. (Я. Кол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TextBox 16"/>
          <p:cNvGrpSpPr/>
          <p:nvPr/>
        </p:nvGrpSpPr>
        <p:grpSpPr>
          <a:xfrm>
            <a:off x="2152800" y="5175360"/>
            <a:ext cx="5973480" cy="622080"/>
            <a:chOff x="2152800" y="5175360"/>
            <a:chExt cx="5973480" cy="622080"/>
          </a:xfrm>
        </p:grpSpPr>
        <p:pic>
          <p:nvPicPr>
            <p:cNvPr id="133" name="TextBox 16" descr=""/>
            <p:cNvPicPr/>
            <p:nvPr/>
          </p:nvPicPr>
          <p:blipFill>
            <a:blip r:embed="rId7"/>
            <a:stretch/>
          </p:blipFill>
          <p:spPr>
            <a:xfrm>
              <a:off x="2152800" y="5175360"/>
              <a:ext cx="59734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239920" y="5240160"/>
              <a:ext cx="580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раўнальныя звароты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зяўчаты,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ібы русалкі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, карагоды водзяць. (П. Пан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TextBox 17"/>
          <p:cNvGrpSpPr/>
          <p:nvPr/>
        </p:nvGrpSpPr>
        <p:grpSpPr>
          <a:xfrm>
            <a:off x="2225520" y="963720"/>
            <a:ext cx="4876920" cy="633240"/>
            <a:chOff x="2225520" y="963720"/>
            <a:chExt cx="4876920" cy="633240"/>
          </a:xfrm>
        </p:grpSpPr>
        <p:pic>
          <p:nvPicPr>
            <p:cNvPr id="136" name="TextBox 17" descr=""/>
            <p:cNvPicPr/>
            <p:nvPr/>
          </p:nvPicPr>
          <p:blipFill>
            <a:blip r:embed="rId8"/>
            <a:stretch/>
          </p:blipFill>
          <p:spPr>
            <a:xfrm>
              <a:off x="2225520" y="963720"/>
              <a:ext cx="48769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286000" y="1000080"/>
              <a:ext cx="471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складнены сказ – </a:t>
              </a: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осты сказ, у асноўны састаў якога ўключана адна ці некалькі сінтаксічных адзінак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AutoShape 9"/>
          <p:cNvSpPr/>
          <p:nvPr/>
        </p:nvSpPr>
        <p:spPr>
          <a:xfrm>
            <a:off x="915840" y="1411200"/>
            <a:ext cx="1227240" cy="266076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57280 h 2660760"/>
              <a:gd name="textAreaBottom" fmla="*/ 1959480 h 266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7" stAng="-5400000" swAng="-5400000"/>
                <a:lnTo>
                  <a:pt x="0" y="11384"/>
                </a:lnTo>
                <a:arcTo wR="21600" hR="9047" stAng="10800000" swAng="-3154455"/>
                <a:lnTo>
                  <a:pt x="15007" y="21168"/>
                </a:lnTo>
                <a:lnTo>
                  <a:pt x="21600" y="19263"/>
                </a:lnTo>
                <a:lnTo>
                  <a:pt x="15007" y="16493"/>
                </a:lnTo>
                <a:lnTo>
                  <a:pt x="15007" y="17662"/>
                </a:lnTo>
                <a:arcTo wR="21600" hR="9047" stAng="7645545" swAng="2967098"/>
                <a:lnTo>
                  <a:pt x="181" y="10216"/>
                </a:lnTo>
                <a:arcTo wR="21600" hR="9047" stAng="-10612642" swAng="5212642"/>
                <a:close/>
              </a:path>
              <a:path fill="darkenLess" w="21600" h="21600">
                <a:moveTo>
                  <a:pt x="21600" y="0"/>
                </a:moveTo>
                <a:arcTo wR="21600" hR="9047" stAng="-5400000" swAng="-5400000"/>
                <a:lnTo>
                  <a:pt x="0" y="9047"/>
                </a:lnTo>
                <a:arcTo wR="21600" hR="9047" stAng="10800000" swAng="-187358"/>
                <a:lnTo>
                  <a:pt x="181" y="10216"/>
                </a:lnTo>
                <a:arcTo wR="21600" hR="9047" stAng="-10612642" swAng="521264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23760" y="1401840"/>
            <a:ext cx="1219320" cy="35272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77960 h 3527280"/>
              <a:gd name="textAreaBottom" fmla="*/ 2620440 h 35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29" stAng="-5400000" swAng="-5400000"/>
                <a:lnTo>
                  <a:pt x="0" y="11282"/>
                </a:lnTo>
                <a:arcTo wR="21600" hR="9529" stAng="10800000" swAng="-3077432"/>
                <a:lnTo>
                  <a:pt x="14400" y="21055"/>
                </a:lnTo>
                <a:lnTo>
                  <a:pt x="21600" y="19935"/>
                </a:lnTo>
                <a:lnTo>
                  <a:pt x="14400" y="17724"/>
                </a:lnTo>
                <a:lnTo>
                  <a:pt x="14400" y="18513"/>
                </a:lnTo>
                <a:arcTo wR="21600" hR="9529" stAng="7722568" swAng="2937416"/>
                <a:lnTo>
                  <a:pt x="92" y="10406"/>
                </a:lnTo>
                <a:arcTo wR="21600" hR="9529" stAng="-10659984" swAng="5259984"/>
                <a:close/>
              </a:path>
              <a:path fill="darkenLess" w="21600" h="21600">
                <a:moveTo>
                  <a:pt x="21600" y="0"/>
                </a:moveTo>
                <a:arcTo wR="21600" hR="9529" stAng="-5400000" swAng="-5400000"/>
                <a:lnTo>
                  <a:pt x="0" y="9529"/>
                </a:lnTo>
                <a:arcTo wR="21600" hR="9529" stAng="10800000" swAng="-140016"/>
                <a:lnTo>
                  <a:pt x="92" y="10406"/>
                </a:lnTo>
                <a:arcTo wR="21600" hR="9529" stAng="-10659984" swAng="525998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rot="317400">
            <a:off x="820440" y="1345680"/>
            <a:ext cx="1349280" cy="808200"/>
          </a:xfrm>
          <a:custGeom>
            <a:avLst/>
            <a:gdLst>
              <a:gd name="textAreaLeft" fmla="*/ 180720 w 1349280"/>
              <a:gd name="textAreaRight" fmla="*/ 1168560 w 1349280"/>
              <a:gd name="textAreaTop" fmla="*/ 133920 h 808200"/>
              <a:gd name="textAreaBottom" fmla="*/ 592200 h 80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509434"/>
                <a:lnTo>
                  <a:pt x="17292" y="21456"/>
                </a:lnTo>
                <a:lnTo>
                  <a:pt x="21600" y="16878"/>
                </a:lnTo>
                <a:lnTo>
                  <a:pt x="17292" y="12011"/>
                </a:lnTo>
                <a:lnTo>
                  <a:pt x="17292" y="14199"/>
                </a:lnTo>
                <a:arcTo wR="21600" hR="7172" stAng="7290566" swAng="308046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 rot="317400">
            <a:off x="925200" y="1409760"/>
            <a:ext cx="1204920" cy="15382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289440 h 1538280"/>
              <a:gd name="textAreaBottom" fmla="*/ 1119960 h 15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35" stAng="-5400000" swAng="-5400000"/>
                <a:lnTo>
                  <a:pt x="0" y="11658"/>
                </a:lnTo>
                <a:arcTo wR="21600" hR="8135" stAng="10800000" swAng="-2712291"/>
                <a:lnTo>
                  <a:pt x="14035" y="21085"/>
                </a:lnTo>
                <a:lnTo>
                  <a:pt x="21600" y="18031"/>
                </a:lnTo>
                <a:lnTo>
                  <a:pt x="14035" y="13946"/>
                </a:lnTo>
                <a:lnTo>
                  <a:pt x="14035" y="15754"/>
                </a:lnTo>
                <a:arcTo wR="21600" hR="8135" stAng="8087709" swAng="2425790"/>
                <a:lnTo>
                  <a:pt x="513" y="9896"/>
                </a:lnTo>
                <a:arcTo wR="21600" hR="8135" stAng="-10513500" swAng="5113500"/>
                <a:close/>
              </a:path>
              <a:path fill="darkenLess" w="21600" h="21600">
                <a:moveTo>
                  <a:pt x="21600" y="0"/>
                </a:moveTo>
                <a:arcTo wR="21600" hR="8135" stAng="-5400000" swAng="-5400000"/>
                <a:lnTo>
                  <a:pt x="0" y="8135"/>
                </a:lnTo>
                <a:arcTo wR="21600" hR="8135" stAng="10800000" swAng="-286500"/>
                <a:lnTo>
                  <a:pt x="513" y="9896"/>
                </a:lnTo>
                <a:arcTo wR="21600" hR="8135" stAng="-10513500" swAng="511350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0" descr="logo 21"/>
          <p:cNvPicPr/>
          <p:nvPr/>
        </p:nvPicPr>
        <p:blipFill>
          <a:blip r:embed="rId1"/>
          <a:stretch/>
        </p:blipFill>
        <p:spPr>
          <a:xfrm>
            <a:off x="6138720" y="5638680"/>
            <a:ext cx="3011760" cy="12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476280"/>
            <a:ext cx="6156360" cy="1071360"/>
          </a:xfrm>
          <a:prstGeom prst="rect">
            <a:avLst/>
          </a:prstGeom>
          <a:ln w="0">
            <a:noFill/>
          </a:ln>
        </p:spPr>
      </p:pic>
      <p:pic>
        <p:nvPicPr>
          <p:cNvPr id="145" name="Схема 5" descr=""/>
          <p:cNvPicPr/>
          <p:nvPr/>
        </p:nvPicPr>
        <p:blipFill>
          <a:blip r:embed="rId4"/>
          <a:stretch/>
        </p:blipFill>
        <p:spPr>
          <a:xfrm>
            <a:off x="1274760" y="1920960"/>
            <a:ext cx="7162920" cy="40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7" descr=""/>
          <p:cNvPicPr/>
          <p:nvPr/>
        </p:nvPicPr>
        <p:blipFill>
          <a:blip r:embed="rId3"/>
          <a:stretch/>
        </p:blipFill>
        <p:spPr>
          <a:xfrm>
            <a:off x="1639800" y="298440"/>
            <a:ext cx="6151680" cy="439920"/>
          </a:xfrm>
          <a:prstGeom prst="rect">
            <a:avLst/>
          </a:prstGeom>
          <a:ln w="0">
            <a:noFill/>
          </a:ln>
        </p:spPr>
      </p:pic>
      <p:grpSp>
        <p:nvGrpSpPr>
          <p:cNvPr id="149" name="AutoShape 5"/>
          <p:cNvGrpSpPr/>
          <p:nvPr/>
        </p:nvGrpSpPr>
        <p:grpSpPr>
          <a:xfrm>
            <a:off x="152280" y="749160"/>
            <a:ext cx="4834080" cy="1403640"/>
            <a:chOff x="152280" y="749160"/>
            <a:chExt cx="4834080" cy="1403640"/>
          </a:xfrm>
        </p:grpSpPr>
        <p:pic>
          <p:nvPicPr>
            <p:cNvPr id="150" name="AutoShape 5" descr=""/>
            <p:cNvPicPr/>
            <p:nvPr/>
          </p:nvPicPr>
          <p:blipFill>
            <a:blip r:embed="rId4"/>
            <a:stretch/>
          </p:blipFill>
          <p:spPr>
            <a:xfrm>
              <a:off x="152280" y="749160"/>
              <a:ext cx="4834080" cy="14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14200" y="1004760"/>
              <a:ext cx="405936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мі могуць быць як галоўныя члены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аў, так і даданыя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Хлопчык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і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дзяўчынк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спявалі ў хоры. (Газет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Бусляняты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падрастал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 дужэл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(Б. Сачан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AutoShape 5"/>
          <p:cNvGrpSpPr/>
          <p:nvPr/>
        </p:nvGrpSpPr>
        <p:grpSpPr>
          <a:xfrm>
            <a:off x="3938760" y="1676520"/>
            <a:ext cx="4833720" cy="1401480"/>
            <a:chOff x="3938760" y="1676520"/>
            <a:chExt cx="4833720" cy="1401480"/>
          </a:xfrm>
        </p:grpSpPr>
        <p:pic>
          <p:nvPicPr>
            <p:cNvPr id="153" name="AutoShape 5" descr=""/>
            <p:cNvPicPr/>
            <p:nvPr/>
          </p:nvPicPr>
          <p:blipFill>
            <a:blip r:embed="rId5"/>
            <a:stretch/>
          </p:blipFill>
          <p:spPr>
            <a:xfrm>
              <a:off x="3938760" y="1676520"/>
              <a:ext cx="483372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000680" y="1933560"/>
              <a:ext cx="405900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мі могуць словы, якія адносяцца д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озных часцін мов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Яфім Сцяпанавіч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моўчк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і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спяшаючыся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пачаў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ранацца. (Э. Самуйлёнак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AutoShape 5"/>
          <p:cNvGrpSpPr/>
          <p:nvPr/>
        </p:nvGrpSpPr>
        <p:grpSpPr>
          <a:xfrm>
            <a:off x="79200" y="3035160"/>
            <a:ext cx="4834080" cy="1756080"/>
            <a:chOff x="79200" y="3035160"/>
            <a:chExt cx="4834080" cy="1756080"/>
          </a:xfrm>
        </p:grpSpPr>
        <p:pic>
          <p:nvPicPr>
            <p:cNvPr id="156" name="AutoShape 5" descr=""/>
            <p:cNvPicPr/>
            <p:nvPr/>
          </p:nvPicPr>
          <p:blipFill>
            <a:blip r:embed="rId6"/>
            <a:stretch/>
          </p:blipFill>
          <p:spPr>
            <a:xfrm>
              <a:off x="79200" y="3035160"/>
              <a:ext cx="48340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3351240"/>
              <a:ext cx="4059360" cy="13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рад аднародных членаў могуць уваходзіц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епадзельныя словазлучэнні і фразеалагізм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Разведчык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і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двое сувязных 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дправіліся на заданне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І. Чыгрына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ы не можам увесь час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сядзець злажыўшы рук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ды глядзець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як яно само будзе рабіцца. (К. Крапів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AutoShape 5"/>
          <p:cNvGrpSpPr/>
          <p:nvPr/>
        </p:nvGrpSpPr>
        <p:grpSpPr>
          <a:xfrm>
            <a:off x="4224240" y="4108320"/>
            <a:ext cx="4834080" cy="1401840"/>
            <a:chOff x="4224240" y="4108320"/>
            <a:chExt cx="4834080" cy="1401840"/>
          </a:xfrm>
        </p:grpSpPr>
        <p:pic>
          <p:nvPicPr>
            <p:cNvPr id="159" name="AutoShape 5" descr=""/>
            <p:cNvPicPr/>
            <p:nvPr/>
          </p:nvPicPr>
          <p:blipFill>
            <a:blip r:embed="rId7"/>
            <a:stretch/>
          </p:blipFill>
          <p:spPr>
            <a:xfrm>
              <a:off x="4224240" y="4108320"/>
              <a:ext cx="48340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286160" y="4362480"/>
              <a:ext cx="405936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я члены сказа могуць мець пры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абе залежныя словы, г. зн. могуць быць </a:t>
              </a: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азвітыя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правіў голле зелен дуб вячысты,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гамоніць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весела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шуміць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бясконца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 (Н. Гілевіч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AutoShape 5"/>
          <p:cNvGrpSpPr/>
          <p:nvPr/>
        </p:nvGrpSpPr>
        <p:grpSpPr>
          <a:xfrm>
            <a:off x="512640" y="5535720"/>
            <a:ext cx="4827600" cy="1401480"/>
            <a:chOff x="512640" y="5535720"/>
            <a:chExt cx="4827600" cy="1401480"/>
          </a:xfrm>
        </p:grpSpPr>
        <p:pic>
          <p:nvPicPr>
            <p:cNvPr id="162" name="AutoShape 5" descr=""/>
            <p:cNvPicPr/>
            <p:nvPr/>
          </p:nvPicPr>
          <p:blipFill>
            <a:blip r:embed="rId8"/>
            <a:stretch/>
          </p:blipFill>
          <p:spPr>
            <a:xfrm>
              <a:off x="512640" y="5535720"/>
              <a:ext cx="482760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71680" y="5791320"/>
              <a:ext cx="40590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сказе можа быць некалькі радоў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аднародных членаў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аўно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 павыгарал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павылінял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кветкі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be-BY" sz="11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трава, дрэвы</a:t>
              </a: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Я. Сіпако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9"/>
          <p:cNvSpPr/>
          <p:nvPr/>
        </p:nvSpPr>
        <p:spPr>
          <a:xfrm>
            <a:off x="714240" y="1500120"/>
            <a:ext cx="1428840" cy="4357800"/>
          </a:xfrm>
          <a:custGeom>
            <a:avLst/>
            <a:gdLst>
              <a:gd name="textAreaLeft" fmla="*/ 191160 w 1428840"/>
              <a:gd name="textAreaRight" fmla="*/ 1237680 w 1428840"/>
              <a:gd name="textAreaTop" fmla="*/ 951120 h 4357800"/>
              <a:gd name="textAreaBottom" fmla="*/ 3189240 h 43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31" stAng="-5400000" swAng="-5400000"/>
                <a:lnTo>
                  <a:pt x="0" y="11092"/>
                </a:lnTo>
                <a:arcTo wR="21600" hR="9431" stAng="10800000" swAng="-3060070"/>
                <a:lnTo>
                  <a:pt x="14400" y="21061"/>
                </a:lnTo>
                <a:lnTo>
                  <a:pt x="21600" y="19693"/>
                </a:lnTo>
                <a:lnTo>
                  <a:pt x="14400" y="17246"/>
                </a:lnTo>
                <a:lnTo>
                  <a:pt x="14400" y="18323"/>
                </a:lnTo>
                <a:arcTo wR="21600" hR="9431" stAng="7739930" swAng="2927443"/>
                <a:lnTo>
                  <a:pt x="84" y="10261"/>
                </a:lnTo>
                <a:arcTo wR="21600" hR="9431" stAng="-10667372" swAng="5267372"/>
                <a:close/>
              </a:path>
              <a:path fill="darkenLess" w="21600" h="21600">
                <a:moveTo>
                  <a:pt x="21600" y="0"/>
                </a:moveTo>
                <a:arcTo wR="21600" hR="9431" stAng="-5400000" swAng="-5400000"/>
                <a:lnTo>
                  <a:pt x="0" y="9431"/>
                </a:lnTo>
                <a:arcTo wR="21600" hR="9431" stAng="10800000" swAng="-132628"/>
                <a:lnTo>
                  <a:pt x="84" y="10261"/>
                </a:lnTo>
                <a:arcTo wR="21600" hR="9431" stAng="-10667372" swAng="526737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TextBox 11"/>
          <p:cNvGrpSpPr/>
          <p:nvPr/>
        </p:nvGrpSpPr>
        <p:grpSpPr>
          <a:xfrm>
            <a:off x="2152800" y="1676520"/>
            <a:ext cx="6046560" cy="622080"/>
            <a:chOff x="2152800" y="1676520"/>
            <a:chExt cx="6046560" cy="622080"/>
          </a:xfrm>
        </p:grpSpPr>
        <p:pic>
          <p:nvPicPr>
            <p:cNvPr id="168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1676520"/>
              <a:ext cx="60465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239920" y="173988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ўторы адных і тых жа слоў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ракопавы думкі 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дуць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ды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дуць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12"/>
          <p:cNvGrpSpPr/>
          <p:nvPr/>
        </p:nvGrpSpPr>
        <p:grpSpPr>
          <a:xfrm>
            <a:off x="2225520" y="2462040"/>
            <a:ext cx="6046920" cy="622440"/>
            <a:chOff x="2225520" y="2462040"/>
            <a:chExt cx="6046920" cy="622440"/>
          </a:xfrm>
        </p:grpSpPr>
        <p:pic>
          <p:nvPicPr>
            <p:cNvPr id="171" name="TextBox 12" descr=""/>
            <p:cNvPicPr/>
            <p:nvPr/>
          </p:nvPicPr>
          <p:blipFill>
            <a:blip r:embed="rId4"/>
            <a:stretch/>
          </p:blipFill>
          <p:spPr>
            <a:xfrm>
              <a:off x="2225520" y="2462040"/>
              <a:ext cx="6046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311560" y="252576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інанімічныя спалучэнні слоў з дэфісным напісанне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Я шчаслівы, што вольна магу мераць крылам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алі-разлогі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Н. Гілевіч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TextBox 14"/>
          <p:cNvGrpSpPr/>
          <p:nvPr/>
        </p:nvGrpSpPr>
        <p:grpSpPr>
          <a:xfrm>
            <a:off x="2152800" y="3322800"/>
            <a:ext cx="6046560" cy="620640"/>
            <a:chOff x="2152800" y="3322800"/>
            <a:chExt cx="6046560" cy="620640"/>
          </a:xfrm>
        </p:grpSpPr>
        <p:pic>
          <p:nvPicPr>
            <p:cNvPr id="174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3322800"/>
              <a:ext cx="604656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239920" y="3382920"/>
              <a:ext cx="587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члены сказа, якія ўдакладняюць сэнс папярэдніх слоў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 наперадзе, за Бярэзінай,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яшчэ трымаюць абарону гітлераўцы. (У. Савіцкі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15"/>
          <p:cNvGrpSpPr/>
          <p:nvPr/>
        </p:nvGrpSpPr>
        <p:grpSpPr>
          <a:xfrm>
            <a:off x="2152800" y="4395960"/>
            <a:ext cx="6046560" cy="822240"/>
            <a:chOff x="2152800" y="4395960"/>
            <a:chExt cx="6046560" cy="822240"/>
          </a:xfrm>
        </p:grpSpPr>
        <p:pic>
          <p:nvPicPr>
            <p:cNvPr id="177" name="TextBox 15" descr=""/>
            <p:cNvPicPr/>
            <p:nvPr/>
          </p:nvPicPr>
          <p:blipFill>
            <a:blip r:embed="rId6"/>
            <a:stretch/>
          </p:blipFill>
          <p:spPr>
            <a:xfrm>
              <a:off x="2152800" y="4395960"/>
              <a:ext cx="60465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249640" y="4464000"/>
              <a:ext cx="585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часткі фразеалагічных адзінак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ні свет ні зара, ні рыба ні мяса, ні мала ні многа, ні свата ні брата, ні тое ні сёе і г. д.)</a:t>
              </a: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А нашы адказвал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і тое ні сёе…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А. Якімовіч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TextBox 16"/>
          <p:cNvGrpSpPr/>
          <p:nvPr/>
        </p:nvGrpSpPr>
        <p:grpSpPr>
          <a:xfrm>
            <a:off x="2152800" y="5321160"/>
            <a:ext cx="5973480" cy="622440"/>
            <a:chOff x="2152800" y="5321160"/>
            <a:chExt cx="5973480" cy="622440"/>
          </a:xfrm>
        </p:grpSpPr>
        <p:pic>
          <p:nvPicPr>
            <p:cNvPr id="180" name="TextBox 16" descr=""/>
            <p:cNvPicPr/>
            <p:nvPr/>
          </p:nvPicPr>
          <p:blipFill>
            <a:blip r:embed="rId7"/>
            <a:stretch/>
          </p:blipFill>
          <p:spPr>
            <a:xfrm>
              <a:off x="2152800" y="5321160"/>
              <a:ext cx="59734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239920" y="5383080"/>
              <a:ext cx="580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палучэнні дзеясловаў, якія выступаюць у ролі адзінага выказнік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йду пераведаю </a:t>
              </a:r>
              <a:r>
                <a:rPr b="1" i="1" lang="be-BY" sz="12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калі-небудзь. (Ус. Краўчан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17"/>
          <p:cNvGrpSpPr/>
          <p:nvPr/>
        </p:nvGrpSpPr>
        <p:grpSpPr>
          <a:xfrm>
            <a:off x="2225520" y="1249200"/>
            <a:ext cx="4827600" cy="414360"/>
            <a:chOff x="2225520" y="1249200"/>
            <a:chExt cx="4827600" cy="414360"/>
          </a:xfrm>
        </p:grpSpPr>
        <p:pic>
          <p:nvPicPr>
            <p:cNvPr id="183" name="TextBox 17" descr=""/>
            <p:cNvPicPr/>
            <p:nvPr/>
          </p:nvPicPr>
          <p:blipFill>
            <a:blip r:embed="rId8"/>
            <a:stretch/>
          </p:blipFill>
          <p:spPr>
            <a:xfrm>
              <a:off x="2225520" y="1249200"/>
              <a:ext cx="48276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286000" y="1285920"/>
              <a:ext cx="471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днароднымі членамі нельга лічыць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AutoShape 9"/>
          <p:cNvSpPr/>
          <p:nvPr/>
        </p:nvSpPr>
        <p:spPr>
          <a:xfrm>
            <a:off x="915840" y="1411200"/>
            <a:ext cx="1227240" cy="266076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57280 h 2660760"/>
              <a:gd name="textAreaBottom" fmla="*/ 1959480 h 266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7" stAng="-5400000" swAng="-5400000"/>
                <a:lnTo>
                  <a:pt x="0" y="11384"/>
                </a:lnTo>
                <a:arcTo wR="21600" hR="9047" stAng="10800000" swAng="-3154455"/>
                <a:lnTo>
                  <a:pt x="15007" y="21168"/>
                </a:lnTo>
                <a:lnTo>
                  <a:pt x="21600" y="19263"/>
                </a:lnTo>
                <a:lnTo>
                  <a:pt x="15007" y="16493"/>
                </a:lnTo>
                <a:lnTo>
                  <a:pt x="15007" y="17662"/>
                </a:lnTo>
                <a:arcTo wR="21600" hR="9047" stAng="7645545" swAng="2967098"/>
                <a:lnTo>
                  <a:pt x="181" y="10216"/>
                </a:lnTo>
                <a:arcTo wR="21600" hR="9047" stAng="-10612642" swAng="5212642"/>
                <a:close/>
              </a:path>
              <a:path fill="darkenLess" w="21600" h="21600">
                <a:moveTo>
                  <a:pt x="21600" y="0"/>
                </a:moveTo>
                <a:arcTo wR="21600" hR="9047" stAng="-5400000" swAng="-5400000"/>
                <a:lnTo>
                  <a:pt x="0" y="9047"/>
                </a:lnTo>
                <a:arcTo wR="21600" hR="9047" stAng="10800000" swAng="-187358"/>
                <a:lnTo>
                  <a:pt x="181" y="10216"/>
                </a:lnTo>
                <a:arcTo wR="21600" hR="9047" stAng="-10612642" swAng="5212642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923760" y="1401840"/>
            <a:ext cx="1219320" cy="35272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77960 h 3527280"/>
              <a:gd name="textAreaBottom" fmla="*/ 2620440 h 35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29" stAng="-5400000" swAng="-5400000"/>
                <a:lnTo>
                  <a:pt x="0" y="11282"/>
                </a:lnTo>
                <a:arcTo wR="21600" hR="9529" stAng="10800000" swAng="-3077432"/>
                <a:lnTo>
                  <a:pt x="14400" y="21055"/>
                </a:lnTo>
                <a:lnTo>
                  <a:pt x="21600" y="19935"/>
                </a:lnTo>
                <a:lnTo>
                  <a:pt x="14400" y="17724"/>
                </a:lnTo>
                <a:lnTo>
                  <a:pt x="14400" y="18513"/>
                </a:lnTo>
                <a:arcTo wR="21600" hR="9529" stAng="7722568" swAng="2937416"/>
                <a:lnTo>
                  <a:pt x="92" y="10406"/>
                </a:lnTo>
                <a:arcTo wR="21600" hR="9529" stAng="-10659984" swAng="5259984"/>
                <a:close/>
              </a:path>
              <a:path fill="darkenLess" w="21600" h="21600">
                <a:moveTo>
                  <a:pt x="21600" y="0"/>
                </a:moveTo>
                <a:arcTo wR="21600" hR="9529" stAng="-5400000" swAng="-5400000"/>
                <a:lnTo>
                  <a:pt x="0" y="9529"/>
                </a:lnTo>
                <a:arcTo wR="21600" hR="9529" stAng="10800000" swAng="-140016"/>
                <a:lnTo>
                  <a:pt x="92" y="10406"/>
                </a:lnTo>
                <a:arcTo wR="21600" hR="9529" stAng="-10659984" swAng="525998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 rot="317400">
            <a:off x="820440" y="1345680"/>
            <a:ext cx="1349280" cy="808200"/>
          </a:xfrm>
          <a:custGeom>
            <a:avLst/>
            <a:gdLst>
              <a:gd name="textAreaLeft" fmla="*/ 180720 w 1349280"/>
              <a:gd name="textAreaRight" fmla="*/ 1168560 w 1349280"/>
              <a:gd name="textAreaTop" fmla="*/ 133920 h 808200"/>
              <a:gd name="textAreaBottom" fmla="*/ 592200 h 80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3509434"/>
                <a:lnTo>
                  <a:pt x="17292" y="21456"/>
                </a:lnTo>
                <a:lnTo>
                  <a:pt x="21600" y="16878"/>
                </a:lnTo>
                <a:lnTo>
                  <a:pt x="17292" y="12011"/>
                </a:lnTo>
                <a:lnTo>
                  <a:pt x="17292" y="14199"/>
                </a:lnTo>
                <a:arcTo wR="21600" hR="7172" stAng="7290566" swAng="3080469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317400">
            <a:off x="925200" y="1409760"/>
            <a:ext cx="1204920" cy="15382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289440 h 1538280"/>
              <a:gd name="textAreaBottom" fmla="*/ 1119960 h 15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35" stAng="-5400000" swAng="-5400000"/>
                <a:lnTo>
                  <a:pt x="0" y="11658"/>
                </a:lnTo>
                <a:arcTo wR="21600" hR="8135" stAng="10800000" swAng="-2712291"/>
                <a:lnTo>
                  <a:pt x="14035" y="21085"/>
                </a:lnTo>
                <a:lnTo>
                  <a:pt x="21600" y="18031"/>
                </a:lnTo>
                <a:lnTo>
                  <a:pt x="14035" y="13946"/>
                </a:lnTo>
                <a:lnTo>
                  <a:pt x="14035" y="15754"/>
                </a:lnTo>
                <a:arcTo wR="21600" hR="8135" stAng="8087709" swAng="2425790"/>
                <a:lnTo>
                  <a:pt x="513" y="9896"/>
                </a:lnTo>
                <a:arcTo wR="21600" hR="8135" stAng="-10513500" swAng="5113500"/>
                <a:close/>
              </a:path>
              <a:path fill="darkenLess" w="21600" h="21600">
                <a:moveTo>
                  <a:pt x="21600" y="0"/>
                </a:moveTo>
                <a:arcTo wR="21600" hR="8135" stAng="-5400000" swAng="-5400000"/>
                <a:lnTo>
                  <a:pt x="0" y="8135"/>
                </a:lnTo>
                <a:arcTo wR="21600" hR="8135" stAng="10800000" swAng="-286500"/>
                <a:lnTo>
                  <a:pt x="513" y="9896"/>
                </a:lnTo>
                <a:arcTo wR="21600" hR="8135" stAng="-10513500" swAng="5113500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91" name="Прямоугольник 4"/>
          <p:cNvGrpSpPr/>
          <p:nvPr/>
        </p:nvGrpSpPr>
        <p:grpSpPr>
          <a:xfrm>
            <a:off x="3224160" y="804960"/>
            <a:ext cx="2328840" cy="463320"/>
            <a:chOff x="3224160" y="804960"/>
            <a:chExt cx="2328840" cy="463320"/>
          </a:xfrm>
        </p:grpSpPr>
        <p:pic>
          <p:nvPicPr>
            <p:cNvPr id="192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224160" y="804960"/>
              <a:ext cx="23288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3286080" y="857160"/>
              <a:ext cx="22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альныя злучні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5"/>
          <p:cNvGrpSpPr/>
          <p:nvPr/>
        </p:nvGrpSpPr>
        <p:grpSpPr>
          <a:xfrm>
            <a:off x="579600" y="1676520"/>
            <a:ext cx="2334960" cy="420480"/>
            <a:chOff x="579600" y="1676520"/>
            <a:chExt cx="2334960" cy="420480"/>
          </a:xfrm>
        </p:grpSpPr>
        <p:pic>
          <p:nvPicPr>
            <p:cNvPr id="195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79600" y="1676520"/>
              <a:ext cx="23349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42960" y="1714680"/>
              <a:ext cx="221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палучаль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Прямоугольник 6"/>
          <p:cNvGrpSpPr/>
          <p:nvPr/>
        </p:nvGrpSpPr>
        <p:grpSpPr>
          <a:xfrm>
            <a:off x="3084480" y="1676520"/>
            <a:ext cx="2614680" cy="420480"/>
            <a:chOff x="3084480" y="1676520"/>
            <a:chExt cx="2614680" cy="420480"/>
          </a:xfrm>
        </p:grpSpPr>
        <p:pic>
          <p:nvPicPr>
            <p:cNvPr id="198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084480" y="1676520"/>
              <a:ext cx="26146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143160" y="1714680"/>
              <a:ext cx="25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змеркаваль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7"/>
          <p:cNvGrpSpPr/>
          <p:nvPr/>
        </p:nvGrpSpPr>
        <p:grpSpPr>
          <a:xfrm>
            <a:off x="5937120" y="1676520"/>
            <a:ext cx="2335320" cy="420480"/>
            <a:chOff x="5937120" y="1676520"/>
            <a:chExt cx="2335320" cy="420480"/>
          </a:xfrm>
        </p:grpSpPr>
        <p:pic>
          <p:nvPicPr>
            <p:cNvPr id="201" name="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937120" y="1676520"/>
              <a:ext cx="23353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000840" y="1714680"/>
              <a:ext cx="22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упраціў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3" name="Прямая со стрелкой 9"/>
          <p:cNvCxnSpPr/>
          <p:nvPr/>
        </p:nvCxnSpPr>
        <p:spPr>
          <a:xfrm flipH="1">
            <a:off x="4355280" y="1214280"/>
            <a:ext cx="2520" cy="5011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4" name="Прямая со стрелкой 11"/>
          <p:cNvCxnSpPr/>
          <p:nvPr/>
        </p:nvCxnSpPr>
        <p:spPr>
          <a:xfrm flipH="1">
            <a:off x="2071440" y="1213200"/>
            <a:ext cx="2286720" cy="4294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05" name="Прямая со стрелкой 13"/>
          <p:cNvCxnSpPr/>
          <p:nvPr/>
        </p:nvCxnSpPr>
        <p:spPr>
          <a:xfrm>
            <a:off x="4357440" y="1213920"/>
            <a:ext cx="2572200" cy="4294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206" name="TextBox 16"/>
          <p:cNvGrpSpPr/>
          <p:nvPr/>
        </p:nvGrpSpPr>
        <p:grpSpPr>
          <a:xfrm>
            <a:off x="360360" y="2670120"/>
            <a:ext cx="2413080" cy="1693800"/>
            <a:chOff x="360360" y="2670120"/>
            <a:chExt cx="2413080" cy="1693800"/>
          </a:xfrm>
        </p:grpSpPr>
        <p:pic>
          <p:nvPicPr>
            <p:cNvPr id="207" name="TextBox 16" descr=""/>
            <p:cNvPicPr/>
            <p:nvPr/>
          </p:nvPicPr>
          <p:blipFill>
            <a:blip r:embed="rId7"/>
            <a:stretch/>
          </p:blipFill>
          <p:spPr>
            <a:xfrm>
              <a:off x="360360" y="2670120"/>
              <a:ext cx="241308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28760" y="2714760"/>
              <a:ext cx="22860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вязваюць два і больш аднародныя члены, якія ўтвараюць закрыты рад, выражаюць адносіны адначасовасці або сумеснасці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а ракі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а смехам і крыкам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бягуць ад сяла хлапчукі. (А. Куляшоў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TextBox 17"/>
          <p:cNvGrpSpPr/>
          <p:nvPr/>
        </p:nvGrpSpPr>
        <p:grpSpPr>
          <a:xfrm>
            <a:off x="3219480" y="2670120"/>
            <a:ext cx="2413080" cy="2060640"/>
            <a:chOff x="3219480" y="2670120"/>
            <a:chExt cx="2413080" cy="2060640"/>
          </a:xfrm>
        </p:grpSpPr>
        <p:pic>
          <p:nvPicPr>
            <p:cNvPr id="210" name="TextBox 17" descr=""/>
            <p:cNvPicPr/>
            <p:nvPr/>
          </p:nvPicPr>
          <p:blipFill>
            <a:blip r:embed="rId8"/>
            <a:stretch/>
          </p:blipFill>
          <p:spPr>
            <a:xfrm>
              <a:off x="3219480" y="2670120"/>
              <a:ext cx="241308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286080" y="2714760"/>
              <a:ext cx="22860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ры дапамозе супраціўных або размеркавальных злучнікаў утвараюцца рады аднародных членаў, якія выражаюць супраціўныя адносіны або адносіны неадпаведнасці, узаемнага выключэння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есяц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веціць ды не грэе.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(Прыказ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TextBox 18"/>
          <p:cNvGrpSpPr/>
          <p:nvPr/>
        </p:nvGrpSpPr>
        <p:grpSpPr>
          <a:xfrm>
            <a:off x="6004080" y="2670120"/>
            <a:ext cx="2427120" cy="2249640"/>
            <a:chOff x="6004080" y="2670120"/>
            <a:chExt cx="2427120" cy="2249640"/>
          </a:xfrm>
        </p:grpSpPr>
        <p:pic>
          <p:nvPicPr>
            <p:cNvPr id="213" name="TextBox 18" descr=""/>
            <p:cNvPicPr/>
            <p:nvPr/>
          </p:nvPicPr>
          <p:blipFill>
            <a:blip r:embed="rId9"/>
            <a:stretch/>
          </p:blipFill>
          <p:spPr>
            <a:xfrm>
              <a:off x="6004080" y="2670120"/>
              <a:ext cx="242712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072120" y="2714760"/>
              <a:ext cx="228600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палучальныя або супастаўляльныя адносіны звычайна афармляюцца бяззлучнікавай сувяззю. Аднародныя члены, звязаныя такой сувяззю могуць выражаць прыметы, дзеянні, прадметы, якія суіснуюць або супрацьпастаўляюцца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ецер </a:t>
              </a:r>
              <a:r>
                <a:rPr b="1" i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плечы, не ў вочы </a:t>
              </a:r>
              <a:r>
                <a:rPr b="1" i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змуў мне. (Я. Купал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Прямая со стрелкой 20"/>
          <p:cNvCxnSpPr/>
          <p:nvPr/>
        </p:nvCxnSpPr>
        <p:spPr>
          <a:xfrm flipH="1">
            <a:off x="1571040" y="2143080"/>
            <a:ext cx="1080" cy="57240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6" name="Прямая со стрелкой 21"/>
          <p:cNvCxnSpPr/>
          <p:nvPr/>
        </p:nvCxnSpPr>
        <p:spPr>
          <a:xfrm flipH="1">
            <a:off x="4357440" y="2143080"/>
            <a:ext cx="2160" cy="57240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7" name="Прямая со стрелкой 22"/>
          <p:cNvCxnSpPr/>
          <p:nvPr/>
        </p:nvCxnSpPr>
        <p:spPr>
          <a:xfrm flipH="1">
            <a:off x="7143480" y="2143080"/>
            <a:ext cx="2160" cy="57240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0" descr="logo 21"/>
          <p:cNvPicPr/>
          <p:nvPr/>
        </p:nvPicPr>
        <p:blipFill>
          <a:blip r:embed="rId1"/>
          <a:stretch/>
        </p:blipFill>
        <p:spPr>
          <a:xfrm>
            <a:off x="6138720" y="5992920"/>
            <a:ext cx="3011760" cy="871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20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371520"/>
            <a:ext cx="6156360" cy="78084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5" descr=""/>
          <p:cNvPicPr/>
          <p:nvPr/>
        </p:nvPicPr>
        <p:blipFill>
          <a:blip r:embed="rId4"/>
          <a:stretch/>
        </p:blipFill>
        <p:spPr>
          <a:xfrm>
            <a:off x="365040" y="1438200"/>
            <a:ext cx="2401920" cy="71928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6" descr=""/>
          <p:cNvPicPr/>
          <p:nvPr/>
        </p:nvPicPr>
        <p:blipFill>
          <a:blip r:embed="rId5"/>
          <a:stretch/>
        </p:blipFill>
        <p:spPr>
          <a:xfrm>
            <a:off x="2865600" y="1438200"/>
            <a:ext cx="1901520" cy="47628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7" descr=""/>
          <p:cNvPicPr/>
          <p:nvPr/>
        </p:nvPicPr>
        <p:blipFill>
          <a:blip r:embed="rId6"/>
          <a:stretch/>
        </p:blipFill>
        <p:spPr>
          <a:xfrm>
            <a:off x="5724360" y="1438200"/>
            <a:ext cx="204804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357120" y="2428920"/>
            <a:ext cx="2286000" cy="68796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лучальны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спалучаюць адзін аднародны член з другім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2928960" y="2428920"/>
            <a:ext cx="2286000" cy="128196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, ды </a:t>
            </a: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у значэнні 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</a:t>
            </a: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); 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і-ні</a:t>
            </a: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толькі паўторны злучнік, які ўжываецца ў адмоўных сказах); парныя злучнікі </a:t>
            </a:r>
            <a:r>
              <a:rPr b="1" i="1" lang="be-BY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-так і, не толькі – але і, не столькі - колькі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0"/>
          <p:cNvSpPr/>
          <p:nvPr/>
        </p:nvSpPr>
        <p:spPr>
          <a:xfrm>
            <a:off x="5357880" y="2428920"/>
            <a:ext cx="3571920" cy="228420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Як я вясне і сонцу рад! (А. Астрэй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д вяслом і шастом ласкава плёхала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ы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булькала вада. (Я. Бры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Тоця так і жыве з таго часу адна 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ў жонках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ў дзеўках. (М. Ракіт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Лабановіч не раз чуў размовы аб грэблі і скаргі на яе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з боку дзядзькі Марціна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і з боку грамады. (Я. Кола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Хлеб павінен ляжаць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тольк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на паліцах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і ў засеках. (Я. Парху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Цікавыя былі сны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тольк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 змесце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ьк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па настроі. (Л. Араб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0" descr="logo 21"/>
          <p:cNvPicPr/>
          <p:nvPr/>
        </p:nvPicPr>
        <p:blipFill>
          <a:blip r:embed="rId1"/>
          <a:stretch/>
        </p:blipFill>
        <p:spPr>
          <a:xfrm>
            <a:off x="6138720" y="5992920"/>
            <a:ext cx="3011760" cy="871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347760"/>
            <a:ext cx="6156360" cy="9316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4"/>
          <a:stretch/>
        </p:blipFill>
        <p:spPr>
          <a:xfrm>
            <a:off x="365040" y="1438200"/>
            <a:ext cx="2401920" cy="7192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/>
          <p:cNvPicPr/>
          <p:nvPr/>
        </p:nvPicPr>
        <p:blipFill>
          <a:blip r:embed="rId5"/>
          <a:stretch/>
        </p:blipFill>
        <p:spPr>
          <a:xfrm>
            <a:off x="3084480" y="1438200"/>
            <a:ext cx="1901880" cy="4762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7" descr=""/>
          <p:cNvPicPr/>
          <p:nvPr/>
        </p:nvPicPr>
        <p:blipFill>
          <a:blip r:embed="rId6"/>
          <a:stretch/>
        </p:blipFill>
        <p:spPr>
          <a:xfrm>
            <a:off x="5724360" y="1438200"/>
            <a:ext cx="2048040" cy="4762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8"/>
          <p:cNvSpPr/>
          <p:nvPr/>
        </p:nvSpPr>
        <p:spPr>
          <a:xfrm>
            <a:off x="357120" y="2428920"/>
            <a:ext cx="2286000" cy="128196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меркавальны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злучаюць аднародныя члены, паказваюць на адносіны ўзаемнага выключэння або чаргавання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2857680" y="2428920"/>
            <a:ext cx="2286000" cy="115956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, ці – ці, або, або – або; то – то, ці то – ці то, не то – не то 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толькі паўторныя злучнікі), 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і не –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357880" y="2143080"/>
            <a:ext cx="3643200" cy="337932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Маторная лодка і веласіпед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матаролер ёсць бадай у кожным доме гарад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(В. Вольс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Як многа гаворым і нудна ад рэчы такой, як паэзія, –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быць ёй святочнай,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ці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буднай, ідыліяй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марсельезаю? (М. Та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Здрадлівая дрыгва пагражала зацягнуць у сваю багну кожнага, хто апусціцца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або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зробіць неасцярожны крок, (Я. Кола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Лявонька т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ераступае з ножкі на ножку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крычыць словы на ўсю хату. (М. Гарэцкі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чуўся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 то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гром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 то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гул самалётаў. (В. Быка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Пануры голас з цемры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то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гаворыць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марыць, (М. Лынькоў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Інспектар пабываў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лі не 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ва ўсіх, </a:t>
            </a:r>
            <a:r>
              <a:rPr b="1" i="1" lang="be-BY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</a:t>
            </a:r>
            <a:r>
              <a:rPr b="1" i="1" lang="be-BY" sz="1200" spc="-1" strike="noStrike">
                <a:solidFill>
                  <a:srgbClr val="0000e5"/>
                </a:solidFill>
                <a:latin typeface="Times New Roman"/>
                <a:ea typeface="Times New Roman"/>
              </a:rPr>
              <a:t> ў чатырох дзесятых класах дакладна. (Газе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0" descr="logo 21"/>
          <p:cNvPicPr/>
          <p:nvPr/>
        </p:nvPicPr>
        <p:blipFill>
          <a:blip r:embed="rId1"/>
          <a:stretch/>
        </p:blipFill>
        <p:spPr>
          <a:xfrm>
            <a:off x="6138720" y="5992920"/>
            <a:ext cx="3011760" cy="871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4" descr=""/>
          <p:cNvPicPr/>
          <p:nvPr/>
        </p:nvPicPr>
        <p:blipFill>
          <a:blip r:embed="rId3"/>
          <a:stretch/>
        </p:blipFill>
        <p:spPr>
          <a:xfrm>
            <a:off x="1420920" y="347760"/>
            <a:ext cx="6156360" cy="9316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4"/>
          <a:stretch/>
        </p:blipFill>
        <p:spPr>
          <a:xfrm>
            <a:off x="365040" y="1438200"/>
            <a:ext cx="2401920" cy="7192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6" descr=""/>
          <p:cNvPicPr/>
          <p:nvPr/>
        </p:nvPicPr>
        <p:blipFill>
          <a:blip r:embed="rId5"/>
          <a:stretch/>
        </p:blipFill>
        <p:spPr>
          <a:xfrm>
            <a:off x="2865600" y="1438200"/>
            <a:ext cx="1901520" cy="4762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7" descr=""/>
          <p:cNvPicPr/>
          <p:nvPr/>
        </p:nvPicPr>
        <p:blipFill>
          <a:blip r:embed="rId6"/>
          <a:stretch/>
        </p:blipFill>
        <p:spPr>
          <a:xfrm>
            <a:off x="5724360" y="1438200"/>
            <a:ext cx="2048040" cy="4762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8"/>
          <p:cNvSpPr/>
          <p:nvPr/>
        </p:nvSpPr>
        <p:spPr>
          <a:xfrm>
            <a:off x="357120" y="2428920"/>
            <a:ext cx="2286000" cy="88596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раціўны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звязваюць аднародныя члены з супраціўным значэннем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2928960" y="2428920"/>
            <a:ext cx="2286000" cy="73332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, але, ды 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(у значэнні 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</a:t>
            </a:r>
            <a:r>
              <a:rPr b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), 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нак,</a:t>
            </a:r>
            <a:r>
              <a:rPr b="1" i="1" lang="be-BY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</a:t>
            </a:r>
            <a:r>
              <a:rPr b="1" i="1" lang="be-BY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тое, хоць (хоць і) - 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5357880" y="2428920"/>
            <a:ext cx="3571920" cy="266796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 хату, грукнуўшы дзвярыма, не ўваходзіць, а ўскоквае дзяўчына. (М. Лынькоў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І вось ён, горад, перад намі, скалечаны, але жывы. (І. Шамякін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вальніца насоўвалася павольна, ды настырна. (Я. Колас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Усхапіліся пазнавата, аднак паспелі дакасіць. (І. Мележ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Жыта на “лужках” вымакла зусім, затое на гары і пад лесам сцяной ідзе. (М. Лынькоў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Вартаўнічая служба пры школе хоць і пад сілу была яму па здароўі, але няміла па душы. (А. Кулакоўскі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3:10:18Z</dcterms:created>
  <dc:creator>solahitdinova</dc:creator>
  <dc:description/>
  <dc:language>en-US</dc:language>
  <cp:lastModifiedBy>solahitdinova</cp:lastModifiedBy>
  <dcterms:modified xsi:type="dcterms:W3CDTF">2009-08-11T10:54:00Z</dcterms:modified>
  <cp:revision>49</cp:revision>
  <dc:subject/>
  <dc:title>Слайд 1</dc:title>
</cp:coreProperties>
</file>