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688E-6C51-4D5D-AFED-39AD01CE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2B4D8-EC7D-4FB9-B66C-CD9D44F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B32D-C897-4518-BED2-1F267B67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D653-878E-4887-A80B-BAB82AEF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FF6A-834D-4E7A-843C-36F26E1C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D503-E097-4105-94C4-A6F574CB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6436-6B24-42C5-B196-9FA59E38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A7DE-27B3-4C85-A1F3-239D88EF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FBD-3593-4009-A91C-FAFFF039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9A21-3624-4787-B1CA-AF8BFB8E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EA75-A6DD-4E11-8C23-8C121D9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B9B1-F8B2-4824-9CEB-6BEF9C3E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62CB-5035-4F30-85D1-F70D1F1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5DB6-225A-4E3F-BC91-8F99558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BD05-531C-4F90-8B81-6BF4AF0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BE96-91F1-41F4-92D8-199D40B4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8621-3059-4C08-890B-0EBDB67B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F889-4B3C-4719-9034-C768920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1E53C-8E1B-41D8-A3B0-D4C3F5BA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33DE-7ADD-473F-863C-7930257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B847-FBDE-4D9F-9597-3C566E13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D43D-A729-43D4-8792-E428868A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E5BC-00C3-496D-97AF-E7BE683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76DE-4880-406F-8D4B-C962A24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5976-5425-49FC-9920-485690020D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9065-BFFD-492A-AE83-3575CBDF25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0" descr="logo 21"/>
          <p:cNvPicPr/>
          <p:nvPr/>
        </p:nvPicPr>
        <p:blipFill>
          <a:blip r:embed="rId1"/>
          <a:stretch/>
        </p:blipFill>
        <p:spPr>
          <a:xfrm>
            <a:off x="6138720" y="5565600"/>
            <a:ext cx="3011760" cy="12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4" descr=""/>
          <p:cNvPicPr/>
          <p:nvPr/>
        </p:nvPicPr>
        <p:blipFill>
          <a:blip r:embed="rId3"/>
          <a:stretch/>
        </p:blipFill>
        <p:spPr>
          <a:xfrm>
            <a:off x="1852560" y="4376880"/>
            <a:ext cx="5151600" cy="180468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5" descr=""/>
          <p:cNvPicPr/>
          <p:nvPr/>
        </p:nvPicPr>
        <p:blipFill>
          <a:blip r:embed="rId4"/>
          <a:stretch/>
        </p:blipFill>
        <p:spPr>
          <a:xfrm>
            <a:off x="2127240" y="762120"/>
            <a:ext cx="44197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pic>
        <p:nvPicPr>
          <p:cNvPr id="112" name="Таблица 4" descr=""/>
          <p:cNvPicPr/>
          <p:nvPr/>
        </p:nvPicPr>
        <p:blipFill>
          <a:blip r:embed="rId3"/>
          <a:stretch/>
        </p:blipFill>
        <p:spPr>
          <a:xfrm>
            <a:off x="1139760" y="3425760"/>
            <a:ext cx="6961320" cy="970200"/>
          </a:xfrm>
          <a:prstGeom prst="rect">
            <a:avLst/>
          </a:prstGeom>
          <a:ln w="0">
            <a:noFill/>
          </a:ln>
        </p:spPr>
      </p:pic>
      <p:grpSp>
        <p:nvGrpSpPr>
          <p:cNvPr id="113" name="Скругленный прямоугольник 5"/>
          <p:cNvGrpSpPr/>
          <p:nvPr/>
        </p:nvGrpSpPr>
        <p:grpSpPr>
          <a:xfrm>
            <a:off x="298440" y="4821120"/>
            <a:ext cx="3968640" cy="1109880"/>
            <a:chOff x="298440" y="4821120"/>
            <a:chExt cx="3968640" cy="1109880"/>
          </a:xfrm>
        </p:grpSpPr>
        <p:pic>
          <p:nvPicPr>
            <p:cNvPr id="114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298440" y="4821120"/>
              <a:ext cx="396864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06440" y="4906800"/>
              <a:ext cx="37591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 з дзвюм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энсава-граматычнымі частк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6"/>
          <p:cNvGrpSpPr/>
          <p:nvPr/>
        </p:nvGrpSpPr>
        <p:grpSpPr>
          <a:xfrm>
            <a:off x="4870440" y="4896000"/>
            <a:ext cx="3968640" cy="1108080"/>
            <a:chOff x="4870440" y="4896000"/>
            <a:chExt cx="3968640" cy="1108080"/>
          </a:xfrm>
        </p:grpSpPr>
        <p:pic>
          <p:nvPicPr>
            <p:cNvPr id="117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4870440" y="4896000"/>
              <a:ext cx="396864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978440" y="4978440"/>
              <a:ext cx="375912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 з некалькі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энсава-граматычнымі частк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Стрелка вниз 8"/>
          <p:cNvSpPr/>
          <p:nvPr/>
        </p:nvSpPr>
        <p:spPr>
          <a:xfrm>
            <a:off x="2214720" y="4429080"/>
            <a:ext cx="14256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9"/>
          <p:cNvSpPr/>
          <p:nvPr/>
        </p:nvSpPr>
        <p:spPr>
          <a:xfrm>
            <a:off x="6286680" y="4429080"/>
            <a:ext cx="142560" cy="357120"/>
          </a:xfrm>
          <a:prstGeom prst="downArrow">
            <a:avLst>
              <a:gd name="adj1" fmla="val 50000"/>
              <a:gd name="adj2" fmla="val 50101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TextBox 10"/>
          <p:cNvGrpSpPr/>
          <p:nvPr/>
        </p:nvGrpSpPr>
        <p:grpSpPr>
          <a:xfrm>
            <a:off x="139680" y="1122480"/>
            <a:ext cx="8589960" cy="1139760"/>
            <a:chOff x="139680" y="1122480"/>
            <a:chExt cx="8589960" cy="1139760"/>
          </a:xfrm>
        </p:grpSpPr>
        <p:pic>
          <p:nvPicPr>
            <p:cNvPr id="122" name="TextBox 10" descr=""/>
            <p:cNvPicPr/>
            <p:nvPr/>
          </p:nvPicPr>
          <p:blipFill>
            <a:blip r:embed="rId6"/>
            <a:stretch/>
          </p:blipFill>
          <p:spPr>
            <a:xfrm>
              <a:off x="139680" y="1122480"/>
              <a:ext cx="85899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0040" y="1143000"/>
              <a:ext cx="82152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Сказ, які можна падзяліць на дзве ці больш сэнсава-граматычныя часткі, падобныя на простыя сказы, называецца </a:t>
              </a: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м</a:t>
              </a:r>
              <a:r>
                <a:rPr b="1" lang="be-BY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Замаразкі ўсё мацнелі і мацнелі, і ўжо раніцамі зямля адзывалася пад нагамі лёгкім звонам, і кожны крок быў чуваць за колькі кіламетраў па ўсім наваколлі. (М. Лынькоў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2428920" y="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Асноўныя віды складаных сказа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Скругленный прямоугольник 5"/>
          <p:cNvGrpSpPr/>
          <p:nvPr/>
        </p:nvGrpSpPr>
        <p:grpSpPr>
          <a:xfrm>
            <a:off x="2298600" y="603360"/>
            <a:ext cx="3973680" cy="755640"/>
            <a:chOff x="2298600" y="603360"/>
            <a:chExt cx="3973680" cy="755640"/>
          </a:xfrm>
        </p:grpSpPr>
        <p:pic>
          <p:nvPicPr>
            <p:cNvPr id="128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298600" y="603360"/>
              <a:ext cx="3973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389320" y="674640"/>
              <a:ext cx="3794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 СКАЗ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Скругленный прямоугольник 6"/>
          <p:cNvGrpSpPr/>
          <p:nvPr/>
        </p:nvGrpSpPr>
        <p:grpSpPr>
          <a:xfrm>
            <a:off x="1298520" y="1676520"/>
            <a:ext cx="3402000" cy="755640"/>
            <a:chOff x="1298520" y="1676520"/>
            <a:chExt cx="3402000" cy="755640"/>
          </a:xfrm>
        </p:grpSpPr>
        <p:pic>
          <p:nvPicPr>
            <p:cNvPr id="131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1298520" y="1676520"/>
              <a:ext cx="3402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389240" y="1746360"/>
              <a:ext cx="322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 адным відам сінтаксічнай сувязі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Скругленный прямоугольник 7"/>
          <p:cNvGrpSpPr/>
          <p:nvPr/>
        </p:nvGrpSpPr>
        <p:grpSpPr>
          <a:xfrm>
            <a:off x="5010120" y="1676520"/>
            <a:ext cx="3402000" cy="755640"/>
            <a:chOff x="5010120" y="1676520"/>
            <a:chExt cx="3402000" cy="755640"/>
          </a:xfrm>
        </p:grpSpPr>
        <p:pic>
          <p:nvPicPr>
            <p:cNvPr id="134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5010120" y="1676520"/>
              <a:ext cx="34020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103720" y="1746360"/>
              <a:ext cx="322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 рознымі відамі сінтаксічнай сувязі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Скругленный прямоугольник 8"/>
          <p:cNvGrpSpPr/>
          <p:nvPr/>
        </p:nvGrpSpPr>
        <p:grpSpPr>
          <a:xfrm>
            <a:off x="79200" y="2889360"/>
            <a:ext cx="2262240" cy="755640"/>
            <a:chOff x="79200" y="2889360"/>
            <a:chExt cx="2262240" cy="755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79200" y="2889360"/>
              <a:ext cx="2262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74600" y="2960640"/>
              <a:ext cx="2079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лучнікав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Скругленный прямоугольник 10"/>
          <p:cNvGrpSpPr/>
          <p:nvPr/>
        </p:nvGrpSpPr>
        <p:grpSpPr>
          <a:xfrm>
            <a:off x="2798640" y="2889360"/>
            <a:ext cx="2254320" cy="755640"/>
            <a:chOff x="2798640" y="2889360"/>
            <a:chExt cx="2254320" cy="755640"/>
          </a:xfrm>
        </p:grpSpPr>
        <p:pic>
          <p:nvPicPr>
            <p:cNvPr id="140" name="Скругленный 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2798640" y="2889360"/>
              <a:ext cx="22543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889360" y="2960640"/>
              <a:ext cx="2079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яззлучнікав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Скругленный прямоугольник 11"/>
          <p:cNvGrpSpPr/>
          <p:nvPr/>
        </p:nvGrpSpPr>
        <p:grpSpPr>
          <a:xfrm>
            <a:off x="79200" y="4175280"/>
            <a:ext cx="2760840" cy="757080"/>
            <a:chOff x="79200" y="4175280"/>
            <a:chExt cx="2760840" cy="757080"/>
          </a:xfrm>
        </p:grpSpPr>
        <p:pic>
          <p:nvPicPr>
            <p:cNvPr id="143" name="Скругленный 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79200" y="4175280"/>
              <a:ext cx="276084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74600" y="424656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азлуча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Скругленный прямоугольник 13"/>
          <p:cNvGrpSpPr/>
          <p:nvPr/>
        </p:nvGrpSpPr>
        <p:grpSpPr>
          <a:xfrm>
            <a:off x="3084480" y="4175280"/>
            <a:ext cx="2755800" cy="757080"/>
            <a:chOff x="3084480" y="4175280"/>
            <a:chExt cx="2755800" cy="757080"/>
          </a:xfrm>
        </p:grpSpPr>
        <p:pic>
          <p:nvPicPr>
            <p:cNvPr id="146" name="Скругленный 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3084480" y="4175280"/>
              <a:ext cx="27558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174840" y="4246560"/>
              <a:ext cx="2579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азалежны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Скругленный прямоугольник 14"/>
          <p:cNvGrpSpPr/>
          <p:nvPr/>
        </p:nvGrpSpPr>
        <p:grpSpPr>
          <a:xfrm>
            <a:off x="152280" y="5681520"/>
            <a:ext cx="3402000" cy="749520"/>
            <a:chOff x="152280" y="5681520"/>
            <a:chExt cx="3402000" cy="749520"/>
          </a:xfrm>
        </p:grpSpPr>
        <p:pic>
          <p:nvPicPr>
            <p:cNvPr id="149" name="Скругленный 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152280" y="5681520"/>
              <a:ext cx="34020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6240" y="5746680"/>
              <a:ext cx="322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 адной даданай частка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Скругленный прямоугольник 15"/>
          <p:cNvGrpSpPr/>
          <p:nvPr/>
        </p:nvGrpSpPr>
        <p:grpSpPr>
          <a:xfrm>
            <a:off x="4224240" y="5681520"/>
            <a:ext cx="3402000" cy="749520"/>
            <a:chOff x="4224240" y="5681520"/>
            <a:chExt cx="3402000" cy="749520"/>
          </a:xfrm>
        </p:grpSpPr>
        <p:pic>
          <p:nvPicPr>
            <p:cNvPr id="152" name="Скругленный 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4224240" y="5681520"/>
              <a:ext cx="340200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317840" y="5746680"/>
              <a:ext cx="322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 некалькімі даданымі часткамі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ая соединительная линия 21"/>
          <p:cNvSpPr/>
          <p:nvPr/>
        </p:nvSpPr>
        <p:spPr>
          <a:xfrm>
            <a:off x="4286160" y="1500120"/>
            <a:ext cx="1571760" cy="18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 flipH="1">
            <a:off x="4284720" y="1285920"/>
            <a:ext cx="1440" cy="2142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3"/>
          <p:cNvSpPr/>
          <p:nvPr/>
        </p:nvSpPr>
        <p:spPr>
          <a:xfrm flipH="1" flipV="1">
            <a:off x="2714400" y="1499760"/>
            <a:ext cx="1571400" cy="18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Прямая со стрелкой 25"/>
          <p:cNvCxnSpPr/>
          <p:nvPr/>
        </p:nvCxnSpPr>
        <p:spPr>
          <a:xfrm flipH="1">
            <a:off x="2714040" y="1500120"/>
            <a:ext cx="1080" cy="21528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58" name="Прямая со стрелкой 27"/>
          <p:cNvCxnSpPr/>
          <p:nvPr/>
        </p:nvCxnSpPr>
        <p:spPr>
          <a:xfrm flipH="1">
            <a:off x="5857560" y="1500120"/>
            <a:ext cx="2160" cy="21528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59" name="Прямая соединительная линия 35"/>
          <p:cNvSpPr/>
          <p:nvPr/>
        </p:nvSpPr>
        <p:spPr>
          <a:xfrm>
            <a:off x="1357200" y="2571840"/>
            <a:ext cx="2500560" cy="144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7"/>
          <p:cNvSpPr/>
          <p:nvPr/>
        </p:nvSpPr>
        <p:spPr>
          <a:xfrm flipV="1">
            <a:off x="2569320" y="2357280"/>
            <a:ext cx="1800" cy="21456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39"/>
          <p:cNvCxnSpPr/>
          <p:nvPr/>
        </p:nvCxnSpPr>
        <p:spPr>
          <a:xfrm flipH="1">
            <a:off x="1355400" y="2571840"/>
            <a:ext cx="2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2" name="Прямая со стрелкой 40"/>
          <p:cNvCxnSpPr/>
          <p:nvPr/>
        </p:nvCxnSpPr>
        <p:spPr>
          <a:xfrm flipH="1">
            <a:off x="3857400" y="2571840"/>
            <a:ext cx="2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41"/>
          <p:cNvSpPr/>
          <p:nvPr/>
        </p:nvSpPr>
        <p:spPr>
          <a:xfrm flipV="1">
            <a:off x="1071720" y="3571560"/>
            <a:ext cx="1440" cy="2142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42"/>
          <p:cNvSpPr/>
          <p:nvPr/>
        </p:nvSpPr>
        <p:spPr>
          <a:xfrm>
            <a:off x="500040" y="3786120"/>
            <a:ext cx="3571920" cy="180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44"/>
          <p:cNvCxnSpPr/>
          <p:nvPr/>
        </p:nvCxnSpPr>
        <p:spPr>
          <a:xfrm flipH="1">
            <a:off x="499680" y="3785760"/>
            <a:ext cx="2160" cy="42948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6" name="Прямая со стрелкой 46"/>
          <p:cNvCxnSpPr/>
          <p:nvPr/>
        </p:nvCxnSpPr>
        <p:spPr>
          <a:xfrm flipH="1">
            <a:off x="4071600" y="3785760"/>
            <a:ext cx="2160" cy="42948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7" name="Прямая со стрелкой 47"/>
          <p:cNvCxnSpPr/>
          <p:nvPr/>
        </p:nvCxnSpPr>
        <p:spPr>
          <a:xfrm flipH="1">
            <a:off x="1784160" y="5214600"/>
            <a:ext cx="2160" cy="50184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168" name="Прямая со стрелкой 48"/>
          <p:cNvCxnSpPr/>
          <p:nvPr/>
        </p:nvCxnSpPr>
        <p:spPr>
          <a:xfrm flipH="1">
            <a:off x="5357520" y="5214600"/>
            <a:ext cx="2160" cy="5007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sp>
        <p:nvSpPr>
          <p:cNvPr id="169" name="Прямая соединительная линия 49"/>
          <p:cNvSpPr/>
          <p:nvPr/>
        </p:nvSpPr>
        <p:spPr>
          <a:xfrm>
            <a:off x="1785960" y="5214960"/>
            <a:ext cx="3571920" cy="144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52"/>
          <p:cNvSpPr/>
          <p:nvPr/>
        </p:nvSpPr>
        <p:spPr>
          <a:xfrm flipV="1">
            <a:off x="4214880" y="4857840"/>
            <a:ext cx="1440" cy="35712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73" name="Скругленный прямоугольник 21"/>
          <p:cNvGrpSpPr/>
          <p:nvPr/>
        </p:nvGrpSpPr>
        <p:grpSpPr>
          <a:xfrm>
            <a:off x="512640" y="1463760"/>
            <a:ext cx="2187720" cy="1968480"/>
            <a:chOff x="512640" y="1463760"/>
            <a:chExt cx="2187720" cy="1968480"/>
          </a:xfrm>
        </p:grpSpPr>
        <p:pic>
          <p:nvPicPr>
            <p:cNvPr id="174" name="Скругленный 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512640" y="1463760"/>
              <a:ext cx="21877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2040" y="1590840"/>
              <a:ext cx="189072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нікавыя сказы –</a:t>
              </a: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пры дапамозе  злучніка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і злучальных сло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Скругленный прямоугольник 22"/>
          <p:cNvGrpSpPr/>
          <p:nvPr/>
        </p:nvGrpSpPr>
        <p:grpSpPr>
          <a:xfrm>
            <a:off x="865080" y="463680"/>
            <a:ext cx="7120080" cy="682560"/>
            <a:chOff x="865080" y="463680"/>
            <a:chExt cx="7120080" cy="682560"/>
          </a:xfrm>
        </p:grpSpPr>
        <p:pic>
          <p:nvPicPr>
            <p:cNvPr id="177" name="Скругленный прямоугольник 22" descr=""/>
            <p:cNvPicPr/>
            <p:nvPr/>
          </p:nvPicPr>
          <p:blipFill>
            <a:blip r:embed="rId4"/>
            <a:stretch/>
          </p:blipFill>
          <p:spPr>
            <a:xfrm>
              <a:off x="865080" y="463680"/>
              <a:ext cx="7120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57240" y="528480"/>
              <a:ext cx="6943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 залежнасці ад відаў і сродкаў сувязі сэнсава-граматычных часта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 падзяляюцца на наступныя тыпы  і падтыпы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Скругленный прямоугольник 28"/>
          <p:cNvGrpSpPr/>
          <p:nvPr/>
        </p:nvGrpSpPr>
        <p:grpSpPr>
          <a:xfrm>
            <a:off x="3297240" y="1463760"/>
            <a:ext cx="2475000" cy="1968480"/>
            <a:chOff x="3297240" y="1463760"/>
            <a:chExt cx="2475000" cy="1968480"/>
          </a:xfrm>
        </p:grpSpPr>
        <p:pic>
          <p:nvPicPr>
            <p:cNvPr id="180" name="Скругленный прямоугольник 28" descr=""/>
            <p:cNvPicPr/>
            <p:nvPr/>
          </p:nvPicPr>
          <p:blipFill>
            <a:blip r:embed="rId5"/>
            <a:stretch/>
          </p:blipFill>
          <p:spPr>
            <a:xfrm>
              <a:off x="3297240" y="1463760"/>
              <a:ext cx="2475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48080" y="1590840"/>
              <a:ext cx="217656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я сказы  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без удзелу злучнікаў, па сэнсе і інтанацы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Скругленный прямоугольник 29"/>
          <p:cNvGrpSpPr/>
          <p:nvPr/>
        </p:nvGrpSpPr>
        <p:grpSpPr>
          <a:xfrm>
            <a:off x="6297480" y="1463760"/>
            <a:ext cx="2187720" cy="2108160"/>
            <a:chOff x="6297480" y="1463760"/>
            <a:chExt cx="2187720" cy="2108160"/>
          </a:xfrm>
        </p:grpSpPr>
        <p:pic>
          <p:nvPicPr>
            <p:cNvPr id="183" name="Скругленный 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6297480" y="1463760"/>
              <a:ext cx="21877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456240" y="1598760"/>
              <a:ext cx="187668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 рознымі відамі сувязі частак –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пры дапамозе злучнікавай і бяззлучнікавай сувязі адначас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Скругленный прямоугольник 30"/>
          <p:cNvGrpSpPr/>
          <p:nvPr/>
        </p:nvGrpSpPr>
        <p:grpSpPr>
          <a:xfrm>
            <a:off x="579600" y="3962520"/>
            <a:ext cx="2187360" cy="1968480"/>
            <a:chOff x="579600" y="3962520"/>
            <a:chExt cx="2187360" cy="1968480"/>
          </a:xfrm>
        </p:grpSpPr>
        <p:pic>
          <p:nvPicPr>
            <p:cNvPr id="186" name="Скругленный прямоугольник 30" descr=""/>
            <p:cNvPicPr/>
            <p:nvPr/>
          </p:nvPicPr>
          <p:blipFill>
            <a:blip r:embed="rId7"/>
            <a:stretch/>
          </p:blipFill>
          <p:spPr>
            <a:xfrm>
              <a:off x="579600" y="3962520"/>
              <a:ext cx="218736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33320" y="4091040"/>
              <a:ext cx="18907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 са злучальнымі злучнікамі на мяжы часта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складаназлучаныя сказ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Скругленный прямоугольник 31"/>
          <p:cNvGrpSpPr/>
          <p:nvPr/>
        </p:nvGrpSpPr>
        <p:grpSpPr>
          <a:xfrm>
            <a:off x="3365640" y="3895560"/>
            <a:ext cx="2474640" cy="1962360"/>
            <a:chOff x="3365640" y="3895560"/>
            <a:chExt cx="2474640" cy="1962360"/>
          </a:xfrm>
        </p:grpSpPr>
        <p:pic>
          <p:nvPicPr>
            <p:cNvPr id="189" name="Скругленный прямоугольник 31" descr=""/>
            <p:cNvPicPr/>
            <p:nvPr/>
          </p:nvPicPr>
          <p:blipFill>
            <a:blip r:embed="rId8"/>
            <a:stretch/>
          </p:blipFill>
          <p:spPr>
            <a:xfrm>
              <a:off x="3365640" y="3895560"/>
              <a:ext cx="247464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519360" y="4019400"/>
              <a:ext cx="2176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з падпарадкавальнымі злучнікамі і злучальнымі словам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(складаназалежныя сказ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1" name="Прямая со стрелкой 33"/>
          <p:cNvCxnSpPr/>
          <p:nvPr/>
        </p:nvCxnSpPr>
        <p:spPr>
          <a:xfrm flipH="1">
            <a:off x="4427280" y="1143000"/>
            <a:ext cx="216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92" name="Прямая со стрелкой 35"/>
          <p:cNvCxnSpPr/>
          <p:nvPr/>
        </p:nvCxnSpPr>
        <p:spPr>
          <a:xfrm flipH="1">
            <a:off x="1999440" y="1143000"/>
            <a:ext cx="242964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93" name="Прямая со стрелкой 39"/>
          <p:cNvCxnSpPr/>
          <p:nvPr/>
        </p:nvCxnSpPr>
        <p:spPr>
          <a:xfrm>
            <a:off x="4429080" y="1143000"/>
            <a:ext cx="264384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94" name="Прямая со стрелкой 41"/>
          <p:cNvCxnSpPr/>
          <p:nvPr/>
        </p:nvCxnSpPr>
        <p:spPr>
          <a:xfrm flipH="1">
            <a:off x="1569240" y="3430080"/>
            <a:ext cx="2520" cy="5007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95" name="Прямая со стрелкой 43"/>
          <p:cNvCxnSpPr/>
          <p:nvPr/>
        </p:nvCxnSpPr>
        <p:spPr>
          <a:xfrm>
            <a:off x="1571760" y="3428640"/>
            <a:ext cx="2929680" cy="42948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198" name="Скругленный прямоугольник 4"/>
          <p:cNvGrpSpPr/>
          <p:nvPr/>
        </p:nvGrpSpPr>
        <p:grpSpPr>
          <a:xfrm>
            <a:off x="1152360" y="749160"/>
            <a:ext cx="7120080" cy="682920"/>
            <a:chOff x="1152360" y="749160"/>
            <a:chExt cx="7120080" cy="682920"/>
          </a:xfrm>
        </p:grpSpPr>
        <p:pic>
          <p:nvPicPr>
            <p:cNvPr id="19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152360" y="749160"/>
              <a:ext cx="71200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243080" y="814320"/>
              <a:ext cx="69436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У адпаведнасці з відамі і сродкамі сувязі часта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сказы падзяляюцца на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Скругленный прямоугольник 5"/>
          <p:cNvGrpSpPr/>
          <p:nvPr/>
        </p:nvGrpSpPr>
        <p:grpSpPr>
          <a:xfrm>
            <a:off x="512640" y="2109960"/>
            <a:ext cx="2468520" cy="2620800"/>
            <a:chOff x="512640" y="2109960"/>
            <a:chExt cx="2468520" cy="2620800"/>
          </a:xfrm>
        </p:grpSpPr>
        <p:pic>
          <p:nvPicPr>
            <p:cNvPr id="20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12640" y="2109960"/>
              <a:ext cx="246852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85800" y="2257560"/>
              <a:ext cx="212868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сказы са злучнікавай сувяззю частак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родкі сувязі – злучальныя і падпарадкавальныя злучнікі ці злучальныя слов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Скругленный прямоугольник 6"/>
          <p:cNvGrpSpPr/>
          <p:nvPr/>
        </p:nvGrpSpPr>
        <p:grpSpPr>
          <a:xfrm>
            <a:off x="3224160" y="1962000"/>
            <a:ext cx="2475000" cy="1482840"/>
            <a:chOff x="3224160" y="1962000"/>
            <a:chExt cx="2475000" cy="1482840"/>
          </a:xfrm>
        </p:grpSpPr>
        <p:pic>
          <p:nvPicPr>
            <p:cNvPr id="205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224160" y="1962000"/>
              <a:ext cx="247500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352680" y="2066760"/>
              <a:ext cx="2224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сказы з бяззлучнікавай сувяззю  частак;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родкі сувязі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энс, інтанацы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Скругленный прямоугольник 7"/>
          <p:cNvGrpSpPr/>
          <p:nvPr/>
        </p:nvGrpSpPr>
        <p:grpSpPr>
          <a:xfrm>
            <a:off x="6010200" y="2036880"/>
            <a:ext cx="2548080" cy="2547720"/>
            <a:chOff x="6010200" y="2036880"/>
            <a:chExt cx="2548080" cy="2547720"/>
          </a:xfrm>
        </p:grpSpPr>
        <p:pic>
          <p:nvPicPr>
            <p:cNvPr id="208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6010200" y="2036880"/>
              <a:ext cx="2548080" cy="25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191280" y="2190600"/>
              <a:ext cx="2190600" cy="21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3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я сказы з рознымі відамі сувязі частак;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родкі сувязі –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дначасова злучнікі (злучальныя і падпарадкавальныя) ці злучальныя словы, сэнс, інтанацы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Прямая со стрелкой 9"/>
          <p:cNvCxnSpPr/>
          <p:nvPr/>
        </p:nvCxnSpPr>
        <p:spPr>
          <a:xfrm flipH="1">
            <a:off x="2285640" y="1356120"/>
            <a:ext cx="2215440" cy="715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>
            <a:off x="4500360" y="1357200"/>
            <a:ext cx="214380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4500000" y="1357200"/>
            <a:ext cx="1080" cy="57240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arrow" w="med"/>
          </a:ln>
        </p:spPr>
      </p:cxnSp>
      <p:grpSp>
        <p:nvGrpSpPr>
          <p:cNvPr id="213" name="TextBox 21"/>
          <p:cNvGrpSpPr/>
          <p:nvPr/>
        </p:nvGrpSpPr>
        <p:grpSpPr>
          <a:xfrm>
            <a:off x="79200" y="4962600"/>
            <a:ext cx="3402360" cy="1346040"/>
            <a:chOff x="79200" y="4962600"/>
            <a:chExt cx="3402360" cy="1346040"/>
          </a:xfrm>
        </p:grpSpPr>
        <p:pic>
          <p:nvPicPr>
            <p:cNvPr id="214" name="TextBox 21" descr=""/>
            <p:cNvPicPr/>
            <p:nvPr/>
          </p:nvPicPr>
          <p:blipFill>
            <a:blip r:embed="rId7"/>
            <a:stretch/>
          </p:blipFill>
          <p:spPr>
            <a:xfrm>
              <a:off x="79200" y="4962600"/>
              <a:ext cx="340236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03040" y="5060880"/>
              <a:ext cx="3165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Яшчэ не развіднела як след,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ўжо грыміць трамвай на скрыжаванні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Артыстаў адпусцілі раней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б</a:t>
              </a: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паснедалі  і сабраліся ў клубе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Я думаю пра першых касманаўтаў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</a:t>
              </a: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павядуць да зораў караблі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TextBox 22"/>
          <p:cNvGrpSpPr/>
          <p:nvPr/>
        </p:nvGrpSpPr>
        <p:grpSpPr>
          <a:xfrm>
            <a:off x="3224160" y="3749760"/>
            <a:ext cx="2689200" cy="596880"/>
            <a:chOff x="3224160" y="3749760"/>
            <a:chExt cx="2689200" cy="596880"/>
          </a:xfrm>
        </p:grpSpPr>
        <p:pic>
          <p:nvPicPr>
            <p:cNvPr id="217" name="TextBox 22" descr=""/>
            <p:cNvPicPr/>
            <p:nvPr/>
          </p:nvPicPr>
          <p:blipFill>
            <a:blip r:embed="rId8"/>
            <a:stretch/>
          </p:blipFill>
          <p:spPr>
            <a:xfrm>
              <a:off x="3224160" y="3749760"/>
              <a:ext cx="26892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309840" y="3809880"/>
              <a:ext cx="2524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 цёмным небе высыпалі буйныя зоры, мяцеліца пацішэл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TextBox 23"/>
          <p:cNvGrpSpPr/>
          <p:nvPr/>
        </p:nvGrpSpPr>
        <p:grpSpPr>
          <a:xfrm>
            <a:off x="5937120" y="4896000"/>
            <a:ext cx="2901960" cy="785520"/>
            <a:chOff x="5937120" y="4896000"/>
            <a:chExt cx="2901960" cy="785520"/>
          </a:xfrm>
        </p:grpSpPr>
        <p:pic>
          <p:nvPicPr>
            <p:cNvPr id="220" name="TextBox 23" descr=""/>
            <p:cNvPicPr/>
            <p:nvPr/>
          </p:nvPicPr>
          <p:blipFill>
            <a:blip r:embed="rId9"/>
            <a:stretch/>
          </p:blipFill>
          <p:spPr>
            <a:xfrm>
              <a:off x="5937120" y="4896000"/>
              <a:ext cx="29019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032520" y="4960800"/>
              <a:ext cx="2722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На ўсходзе чырвань грае, цень радзее, нікне мрок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і</a:t>
              </a:r>
              <a:r>
                <a:rPr b="1" i="1" lang="be-BY" sz="11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зямелька ўжо вітае новы радасны дзянёк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2" name="Прямая со стрелкой 15"/>
          <p:cNvCxnSpPr/>
          <p:nvPr/>
        </p:nvCxnSpPr>
        <p:spPr>
          <a:xfrm flipH="1">
            <a:off x="1712160" y="4645080"/>
            <a:ext cx="2520" cy="28656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23" name="Прямая со стрелкой 17"/>
          <p:cNvCxnSpPr/>
          <p:nvPr/>
        </p:nvCxnSpPr>
        <p:spPr>
          <a:xfrm flipH="1">
            <a:off x="4427280" y="3357720"/>
            <a:ext cx="2160" cy="35892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224" name="Прямая со стрелкой 19"/>
          <p:cNvCxnSpPr/>
          <p:nvPr/>
        </p:nvCxnSpPr>
        <p:spPr>
          <a:xfrm flipH="1">
            <a:off x="7357680" y="4502160"/>
            <a:ext cx="2160" cy="357840"/>
          </a:xfrm>
          <a:prstGeom prst="straightConnector1">
            <a:avLst/>
          </a:prstGeom>
          <a:ln w="25560">
            <a:solidFill>
              <a:srgbClr val="9999ff"/>
            </a:solidFill>
            <a:miter/>
            <a:tailEnd len="med" type="triangle" w="med"/>
          </a:ln>
        </p:spPr>
      </p:cxn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3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0" descr="logo 21"/>
          <p:cNvPicPr/>
          <p:nvPr/>
        </p:nvPicPr>
        <p:blipFill>
          <a:blip r:embed="rId1"/>
          <a:stretch/>
        </p:blipFill>
        <p:spPr>
          <a:xfrm>
            <a:off x="6138720" y="6278400"/>
            <a:ext cx="3011760" cy="58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27" name="TextBox 11"/>
          <p:cNvGrpSpPr/>
          <p:nvPr/>
        </p:nvGrpSpPr>
        <p:grpSpPr>
          <a:xfrm>
            <a:off x="2152800" y="1103400"/>
            <a:ext cx="6186240" cy="622080"/>
            <a:chOff x="2152800" y="1103400"/>
            <a:chExt cx="6186240" cy="622080"/>
          </a:xfrm>
        </p:grpSpPr>
        <p:pic>
          <p:nvPicPr>
            <p:cNvPr id="228" name="TextBox 11" descr=""/>
            <p:cNvPicPr/>
            <p:nvPr/>
          </p:nvPicPr>
          <p:blipFill>
            <a:blip r:embed="rId3"/>
            <a:stretch/>
          </p:blipFill>
          <p:spPr>
            <a:xfrm>
              <a:off x="2152800" y="1103400"/>
              <a:ext cx="61862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239920" y="1168560"/>
              <a:ext cx="6021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нік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адносяцца да службовых часцін мовы і не з’яўляюцца членамі сказ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TextBox 12"/>
          <p:cNvGrpSpPr/>
          <p:nvPr/>
        </p:nvGrpSpPr>
        <p:grpSpPr>
          <a:xfrm>
            <a:off x="2152800" y="1889280"/>
            <a:ext cx="6186240" cy="963360"/>
            <a:chOff x="2152800" y="1889280"/>
            <a:chExt cx="6186240" cy="963360"/>
          </a:xfrm>
        </p:grpSpPr>
        <p:pic>
          <p:nvPicPr>
            <p:cNvPr id="231" name="TextBox 12" descr=""/>
            <p:cNvPicPr/>
            <p:nvPr/>
          </p:nvPicPr>
          <p:blipFill>
            <a:blip r:embed="rId4"/>
            <a:stretch/>
          </p:blipFill>
          <p:spPr>
            <a:xfrm>
              <a:off x="2152800" y="1889280"/>
              <a:ext cx="61862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255760" y="1969920"/>
              <a:ext cx="5989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альныя словы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ахоўваюць значэнне самастойнай часціны мовы – адноснага займенніка ці прыслоўя – і выконваюць ролю членаў сказ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Вучні падышлі да гістарычнага помніка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які </a:t>
              </a:r>
              <a:r>
                <a:rPr b="1" i="1" lang="be-BY" sz="1100" spc="-1" strike="noStrike">
                  <a:solidFill>
                    <a:srgbClr val="0000e5"/>
                  </a:solidFill>
                  <a:latin typeface="Times New Roman"/>
                  <a:ea typeface="Times New Roman"/>
                </a:rPr>
                <a:t>хораша выглядаў сярод новых будынкаў. (А. Кулакоўскі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TextBox 14"/>
          <p:cNvGrpSpPr/>
          <p:nvPr/>
        </p:nvGrpSpPr>
        <p:grpSpPr>
          <a:xfrm>
            <a:off x="2152800" y="3108240"/>
            <a:ext cx="6186240" cy="1146240"/>
            <a:chOff x="2152800" y="3108240"/>
            <a:chExt cx="6186240" cy="1146240"/>
          </a:xfrm>
        </p:grpSpPr>
        <p:pic>
          <p:nvPicPr>
            <p:cNvPr id="234" name="TextBox 14" descr=""/>
            <p:cNvPicPr/>
            <p:nvPr/>
          </p:nvPicPr>
          <p:blipFill>
            <a:blip r:embed="rId5"/>
            <a:stretch/>
          </p:blipFill>
          <p:spPr>
            <a:xfrm>
              <a:off x="2152800" y="3108240"/>
              <a:ext cx="6186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265480" y="3193920"/>
              <a:ext cx="59706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лучнікі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 можна апусціць, перабудаваўшы складаны  злучнікавы сказ у бяззлучнікавы, злучальныя словы апусціць нельга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Хлопцы спадзяваліся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лясная сцяжынка прывядзе іх да якога-небудзь паселішча. (Я. Маўр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Хлопцы спадзяваліся: лясная сцяжынка прывядзе іх да якога-небудзь паселішч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TextBox 15"/>
          <p:cNvGrpSpPr/>
          <p:nvPr/>
        </p:nvGrpSpPr>
        <p:grpSpPr>
          <a:xfrm>
            <a:off x="2152800" y="4821120"/>
            <a:ext cx="6186240" cy="1146240"/>
            <a:chOff x="2152800" y="4821120"/>
            <a:chExt cx="6186240" cy="1146240"/>
          </a:xfrm>
        </p:grpSpPr>
        <p:pic>
          <p:nvPicPr>
            <p:cNvPr id="237" name="TextBox 15" descr=""/>
            <p:cNvPicPr/>
            <p:nvPr/>
          </p:nvPicPr>
          <p:blipFill>
            <a:blip r:embed="rId6"/>
            <a:stretch/>
          </p:blipFill>
          <p:spPr>
            <a:xfrm>
              <a:off x="2152800" y="4821120"/>
              <a:ext cx="6186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265480" y="4908600"/>
              <a:ext cx="59706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’яўляючыся службовымі часцінамі мовы, </a:t>
              </a:r>
              <a:r>
                <a:rPr b="1" lang="be-BY" sz="1100" spc="-1" strike="noStrike">
                  <a:solidFill>
                    <a:srgbClr val="00007d"/>
                  </a:solidFill>
                  <a:latin typeface="Times New Roman"/>
                  <a:ea typeface="Times New Roman"/>
                </a:rPr>
                <a:t>злучнікі не могуць мець лагічны націск, яго звычайна маюць злучальныя словы (як самастойныя часціны мовы)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Мірон памятае толькі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ў яго галаве, нібы маланка, мільганула думка аб учарашняй сустрэчы. (Я. Маўр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Пазней Мірон не мог прыпомніць, </a:t>
              </a:r>
              <a:r>
                <a:rPr b="1" i="1" lang="be-BY" sz="11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што</a:t>
              </a:r>
              <a:r>
                <a:rPr b="1" i="1" lang="be-BY" sz="11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 з ім здарылася. (Я. Маўр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TextBox 17"/>
          <p:cNvGrpSpPr/>
          <p:nvPr/>
        </p:nvGrpSpPr>
        <p:grpSpPr>
          <a:xfrm>
            <a:off x="2225520" y="463680"/>
            <a:ext cx="4827600" cy="573120"/>
            <a:chOff x="2225520" y="463680"/>
            <a:chExt cx="4827600" cy="573120"/>
          </a:xfrm>
        </p:grpSpPr>
        <p:pic>
          <p:nvPicPr>
            <p:cNvPr id="240" name="TextBox 17" descr=""/>
            <p:cNvPicPr/>
            <p:nvPr/>
          </p:nvPicPr>
          <p:blipFill>
            <a:blip r:embed="rId7"/>
            <a:stretch/>
          </p:blipFill>
          <p:spPr>
            <a:xfrm>
              <a:off x="2225520" y="463680"/>
              <a:ext cx="48276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86000" y="500040"/>
              <a:ext cx="471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Каб адрозніць злучнік ад злучальнага слова, неабходна мець на ўвазе наступнае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9"/>
          <p:cNvSpPr/>
          <p:nvPr/>
        </p:nvSpPr>
        <p:spPr>
          <a:xfrm>
            <a:off x="915840" y="669960"/>
            <a:ext cx="1227240" cy="3946320"/>
          </a:xfrm>
          <a:custGeom>
            <a:avLst/>
            <a:gdLst>
              <a:gd name="textAreaLeft" fmla="*/ 164160 w 1227240"/>
              <a:gd name="textAreaRight" fmla="*/ 1063080 w 1227240"/>
              <a:gd name="textAreaTop" fmla="*/ 878400 h 3946320"/>
              <a:gd name="textAreaBottom" fmla="*/ 2923920 h 39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18" stAng="-5400000" swAng="-5400000"/>
                <a:lnTo>
                  <a:pt x="0" y="11194"/>
                </a:lnTo>
                <a:arcTo wR="21600" hR="9618" stAng="10800000" swAng="-3255135"/>
                <a:lnTo>
                  <a:pt x="15007" y="21141"/>
                </a:lnTo>
                <a:lnTo>
                  <a:pt x="21600" y="20024"/>
                </a:lnTo>
                <a:lnTo>
                  <a:pt x="15007" y="17989"/>
                </a:lnTo>
                <a:lnTo>
                  <a:pt x="15007" y="18777"/>
                </a:lnTo>
                <a:arcTo wR="21600" hR="9618" stAng="7544865" swAng="3129354"/>
                <a:lnTo>
                  <a:pt x="73" y="10406"/>
                </a:lnTo>
                <a:arcTo wR="21600" hR="9618" stAng="-10674219" swAng="5274219"/>
                <a:close/>
              </a:path>
              <a:path fill="darkenLess" w="21600" h="21600">
                <a:moveTo>
                  <a:pt x="21600" y="0"/>
                </a:moveTo>
                <a:arcTo wR="21600" hR="9618" stAng="-5400000" swAng="-5400000"/>
                <a:lnTo>
                  <a:pt x="0" y="9618"/>
                </a:lnTo>
                <a:arcTo wR="21600" hR="9618" stAng="10800000" swAng="-125781"/>
                <a:lnTo>
                  <a:pt x="73" y="10406"/>
                </a:lnTo>
                <a:arcTo wR="21600" hR="9618" stAng="-10674219" swAng="5274219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923760" y="615960"/>
            <a:ext cx="1219320" cy="53848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1242360 h 5384880"/>
              <a:gd name="textAreaBottom" fmla="*/ 4013640 h 538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68" stAng="-5400000" swAng="-5400000"/>
                <a:lnTo>
                  <a:pt x="0" y="11116"/>
                </a:lnTo>
                <a:arcTo wR="21600" hR="9968" stAng="10800000" swAng="-3152515"/>
                <a:lnTo>
                  <a:pt x="14400" y="21030"/>
                </a:lnTo>
                <a:lnTo>
                  <a:pt x="21600" y="20509"/>
                </a:lnTo>
                <a:lnTo>
                  <a:pt x="14400" y="18848"/>
                </a:lnTo>
                <a:lnTo>
                  <a:pt x="14400" y="19365"/>
                </a:lnTo>
                <a:arcTo wR="21600" hR="9968" stAng="7647485" swAng="3061030"/>
                <a:lnTo>
                  <a:pt x="36" y="10541"/>
                </a:lnTo>
                <a:arcTo wR="21600" hR="9968" stAng="-10708515" swAng="5308515"/>
                <a:close/>
              </a:path>
              <a:path fill="darkenLess" w="21600" h="21600">
                <a:moveTo>
                  <a:pt x="21600" y="0"/>
                </a:moveTo>
                <a:arcTo wR="21600" hR="9968" stAng="-5400000" swAng="-5400000"/>
                <a:lnTo>
                  <a:pt x="0" y="9968"/>
                </a:lnTo>
                <a:arcTo wR="21600" hR="9968" stAng="10800000" swAng="-91485"/>
                <a:lnTo>
                  <a:pt x="36" y="10541"/>
                </a:lnTo>
                <a:arcTo wR="21600" hR="9968" stAng="-10708515" swAng="530851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 rot="317400">
            <a:off x="998280" y="610920"/>
            <a:ext cx="1125360" cy="1098360"/>
          </a:xfrm>
          <a:custGeom>
            <a:avLst/>
            <a:gdLst>
              <a:gd name="textAreaLeft" fmla="*/ 150480 w 1125360"/>
              <a:gd name="textAreaRight" fmla="*/ 974880 w 1125360"/>
              <a:gd name="textAreaTop" fmla="*/ 182160 h 1098360"/>
              <a:gd name="textAreaBottom" fmla="*/ 804960 h 109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2" stAng="-5400000" swAng="-5400000"/>
                <a:lnTo>
                  <a:pt x="0" y="12241"/>
                </a:lnTo>
                <a:arcTo wR="21600" hR="7172" stAng="10800000" swAng="-2641868"/>
                <a:lnTo>
                  <a:pt x="14584" y="21211"/>
                </a:lnTo>
                <a:lnTo>
                  <a:pt x="21600" y="16878"/>
                </a:lnTo>
                <a:lnTo>
                  <a:pt x="14584" y="11766"/>
                </a:lnTo>
                <a:lnTo>
                  <a:pt x="14584" y="13954"/>
                </a:lnTo>
                <a:arcTo wR="21600" hR="7172" stAng="8158132" swAng="2212903"/>
                <a:lnTo>
                  <a:pt x="1394" y="9706"/>
                </a:lnTo>
                <a:arcTo wR="21600" hR="7172" stAng="-10371035" swAng="4971035"/>
                <a:close/>
              </a:path>
              <a:path fill="darkenLess" w="21600" h="21600">
                <a:moveTo>
                  <a:pt x="21600" y="0"/>
                </a:moveTo>
                <a:arcTo wR="21600" hR="7172" stAng="-5400000" swAng="-5400000"/>
                <a:lnTo>
                  <a:pt x="0" y="7172"/>
                </a:lnTo>
                <a:arcTo wR="21600" hR="7172" stAng="10800000" swAng="-428965"/>
                <a:lnTo>
                  <a:pt x="1394" y="9706"/>
                </a:lnTo>
                <a:arcTo wR="21600" hR="7172" stAng="-10371035" swAng="4971035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 rot="317400">
            <a:off x="893520" y="666720"/>
            <a:ext cx="1204920" cy="2236680"/>
          </a:xfrm>
          <a:custGeom>
            <a:avLst/>
            <a:gdLst>
              <a:gd name="textAreaLeft" fmla="*/ 161280 w 1204920"/>
              <a:gd name="textAreaRight" fmla="*/ 1043640 w 1204920"/>
              <a:gd name="textAreaTop" fmla="*/ 464040 h 2236680"/>
              <a:gd name="textAreaBottom" fmla="*/ 1643760 h 223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67" stAng="-5400000" swAng="-5400000"/>
                <a:lnTo>
                  <a:pt x="0" y="11390"/>
                </a:lnTo>
                <a:arcTo wR="21600" hR="8967" stAng="10800000" swAng="-2879350"/>
                <a:lnTo>
                  <a:pt x="14035" y="21032"/>
                </a:lnTo>
                <a:lnTo>
                  <a:pt x="21600" y="19145"/>
                </a:lnTo>
                <a:lnTo>
                  <a:pt x="14035" y="16121"/>
                </a:lnTo>
                <a:lnTo>
                  <a:pt x="14035" y="17365"/>
                </a:lnTo>
                <a:arcTo wR="21600" hR="8967" stAng="7920650" swAng="2684957"/>
                <a:lnTo>
                  <a:pt x="198" y="10178"/>
                </a:lnTo>
                <a:arcTo wR="21600" hR="8967" stAng="-10605607" swAng="5205607"/>
                <a:close/>
              </a:path>
              <a:path fill="darkenLess" w="21600" h="21600">
                <a:moveTo>
                  <a:pt x="21600" y="0"/>
                </a:moveTo>
                <a:arcTo wR="21600" hR="8967" stAng="-5400000" swAng="-5400000"/>
                <a:lnTo>
                  <a:pt x="0" y="8967"/>
                </a:lnTo>
                <a:arcTo wR="21600" hR="8967" stAng="10800000" swAng="-194393"/>
                <a:lnTo>
                  <a:pt x="198" y="10178"/>
                </a:lnTo>
                <a:arcTo wR="21600" hR="8967" stAng="-10605607" swAng="5205607"/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082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48" name="Скругленный прямоугольник 4"/>
          <p:cNvGrpSpPr/>
          <p:nvPr/>
        </p:nvGrpSpPr>
        <p:grpSpPr>
          <a:xfrm>
            <a:off x="1511280" y="463680"/>
            <a:ext cx="5541840" cy="682560"/>
            <a:chOff x="1511280" y="463680"/>
            <a:chExt cx="5541840" cy="682560"/>
          </a:xfrm>
        </p:grpSpPr>
        <p:pic>
          <p:nvPicPr>
            <p:cNvPr id="249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511280" y="463680"/>
              <a:ext cx="55418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600200" y="528480"/>
              <a:ext cx="53722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На схемах складаныя сказы абазначаюцца так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Скругленный прямоугольник 5"/>
          <p:cNvGrpSpPr/>
          <p:nvPr/>
        </p:nvGrpSpPr>
        <p:grpSpPr>
          <a:xfrm>
            <a:off x="512640" y="1463760"/>
            <a:ext cx="4687920" cy="834840"/>
            <a:chOff x="512640" y="1463760"/>
            <a:chExt cx="4687920" cy="834840"/>
          </a:xfrm>
        </p:grpSpPr>
        <p:pic>
          <p:nvPicPr>
            <p:cNvPr id="252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12640" y="1463760"/>
              <a:ext cx="46879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06600" y="1535040"/>
              <a:ext cx="45018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з дапамогай злучальных злучнікаў,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лучаныя 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Скругленный прямоугольник 6"/>
          <p:cNvGrpSpPr/>
          <p:nvPr/>
        </p:nvGrpSpPr>
        <p:grpSpPr>
          <a:xfrm>
            <a:off x="5583240" y="2822400"/>
            <a:ext cx="2828880" cy="695520"/>
            <a:chOff x="5583240" y="2822400"/>
            <a:chExt cx="2828880" cy="695520"/>
          </a:xfrm>
        </p:grpSpPr>
        <p:pic>
          <p:nvPicPr>
            <p:cNvPr id="255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5583240" y="2822400"/>
              <a:ext cx="2828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672160" y="2886120"/>
              <a:ext cx="2657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[      ],  (    </a:t>
              </a:r>
              <a:r>
                <a:rPr b="1" lang="be-BY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бо     </a:t>
              </a:r>
              <a:r>
                <a:rPr b="1" lang="be-BY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</a:t>
              </a:r>
              <a:r>
                <a:rPr b="1" lang="be-BY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Скругленный прямоугольник 7"/>
          <p:cNvGrpSpPr/>
          <p:nvPr/>
        </p:nvGrpSpPr>
        <p:grpSpPr>
          <a:xfrm>
            <a:off x="512640" y="2749680"/>
            <a:ext cx="4687920" cy="907920"/>
            <a:chOff x="512640" y="2749680"/>
            <a:chExt cx="4687920" cy="907920"/>
          </a:xfrm>
        </p:grpSpPr>
        <p:pic>
          <p:nvPicPr>
            <p:cNvPr id="258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12640" y="2749680"/>
              <a:ext cx="46879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09480" y="2824200"/>
              <a:ext cx="4496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з дапамогай падпарадкавальных злучнікаў, -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Скругленный прямоугольник 8"/>
          <p:cNvGrpSpPr/>
          <p:nvPr/>
        </p:nvGrpSpPr>
        <p:grpSpPr>
          <a:xfrm>
            <a:off x="652320" y="4175280"/>
            <a:ext cx="4687920" cy="841320"/>
            <a:chOff x="652320" y="4175280"/>
            <a:chExt cx="4687920" cy="841320"/>
          </a:xfrm>
        </p:grpSpPr>
        <p:pic>
          <p:nvPicPr>
            <p:cNvPr id="261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652320" y="4175280"/>
              <a:ext cx="4687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49160" y="4249800"/>
              <a:ext cx="45021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з дапамогай злучальных слоў,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азалежныя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Скругленный прямоугольник 9"/>
          <p:cNvGrpSpPr/>
          <p:nvPr/>
        </p:nvGrpSpPr>
        <p:grpSpPr>
          <a:xfrm>
            <a:off x="512640" y="5608800"/>
            <a:ext cx="4827600" cy="1047600"/>
            <a:chOff x="512640" y="5608800"/>
            <a:chExt cx="4827600" cy="1047600"/>
          </a:xfrm>
        </p:grpSpPr>
        <p:pic>
          <p:nvPicPr>
            <p:cNvPr id="264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512640" y="5608800"/>
              <a:ext cx="482760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17400" y="5689440"/>
              <a:ext cx="46227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2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Складаныя сказы, часткі якіх спалучаюцца па сэнсе і інтанацыі без дапамогі злучнікаў і злучальных слоў,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бяззлучнікавыя сказ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Скругленный прямоугольник 10"/>
          <p:cNvGrpSpPr/>
          <p:nvPr/>
        </p:nvGrpSpPr>
        <p:grpSpPr>
          <a:xfrm>
            <a:off x="5510160" y="1504800"/>
            <a:ext cx="2828880" cy="725760"/>
            <a:chOff x="5510160" y="1504800"/>
            <a:chExt cx="2828880" cy="725760"/>
          </a:xfrm>
        </p:grpSpPr>
        <p:pic>
          <p:nvPicPr>
            <p:cNvPr id="267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5510160" y="1504800"/>
              <a:ext cx="2828880" cy="7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600880" y="1600200"/>
              <a:ext cx="26571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[     ],  </a:t>
              </a:r>
              <a:r>
                <a:rPr b="1" lang="be-BY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і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[    ]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Скругленный прямоугольник 11"/>
          <p:cNvGrpSpPr/>
          <p:nvPr/>
        </p:nvGrpSpPr>
        <p:grpSpPr>
          <a:xfrm>
            <a:off x="5657760" y="4248000"/>
            <a:ext cx="2827440" cy="695520"/>
            <a:chOff x="5657760" y="4248000"/>
            <a:chExt cx="2827440" cy="695520"/>
          </a:xfrm>
        </p:grpSpPr>
        <p:pic>
          <p:nvPicPr>
            <p:cNvPr id="270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5657760" y="4248000"/>
              <a:ext cx="282744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743440" y="4314960"/>
              <a:ext cx="26575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[      ]</a:t>
              </a:r>
              <a:r>
                <a:rPr b="1" lang="be-BY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(</a:t>
              </a:r>
              <a:r>
                <a:rPr b="1" lang="be-BY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 </a:t>
              </a:r>
              <a:r>
                <a:rPr b="1" lang="be-BY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які     </a:t>
              </a:r>
              <a:r>
                <a:rPr b="1" lang="be-BY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</a:t>
              </a:r>
              <a:r>
                <a:rPr b="1" lang="be-BY" sz="14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 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Скругленный прямоугольник 12"/>
          <p:cNvGrpSpPr/>
          <p:nvPr/>
        </p:nvGrpSpPr>
        <p:grpSpPr>
          <a:xfrm>
            <a:off x="5724360" y="5443560"/>
            <a:ext cx="2901960" cy="1073160"/>
            <a:chOff x="5724360" y="5443560"/>
            <a:chExt cx="2901960" cy="1073160"/>
          </a:xfrm>
        </p:grpSpPr>
        <p:pic>
          <p:nvPicPr>
            <p:cNvPr id="273" name="Скругленный прямоугольник 12" descr=""/>
            <p:cNvPicPr/>
            <p:nvPr/>
          </p:nvPicPr>
          <p:blipFill>
            <a:blip r:embed="rId11"/>
            <a:stretch/>
          </p:blipFill>
          <p:spPr>
            <a:xfrm>
              <a:off x="5724360" y="5443560"/>
              <a:ext cx="29019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832360" y="5546880"/>
              <a:ext cx="269424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    ],  [    ]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   ]  –  [   ]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   ]  </a:t>
              </a:r>
              <a:r>
                <a:rPr b="1" lang="be-BY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[   ]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6858000" y="1643040"/>
            <a:ext cx="23796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"/>
          <p:cNvSpPr/>
          <p:nvPr/>
        </p:nvSpPr>
        <p:spPr>
          <a:xfrm>
            <a:off x="7000920" y="3000240"/>
            <a:ext cx="500040" cy="28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Группа 26"/>
          <p:cNvGrpSpPr/>
          <p:nvPr/>
        </p:nvGrpSpPr>
        <p:grpSpPr>
          <a:xfrm>
            <a:off x="6715080" y="4357800"/>
            <a:ext cx="500040" cy="428400"/>
            <a:chOff x="6715080" y="4357800"/>
            <a:chExt cx="500040" cy="428400"/>
          </a:xfrm>
        </p:grpSpPr>
        <p:sp>
          <p:nvSpPr>
            <p:cNvPr id="281" name="Овал 24"/>
            <p:cNvSpPr/>
            <p:nvPr/>
          </p:nvSpPr>
          <p:spPr>
            <a:xfrm>
              <a:off x="6786360" y="4429080"/>
              <a:ext cx="357120" cy="285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Овал 25"/>
            <p:cNvSpPr/>
            <p:nvPr/>
          </p:nvSpPr>
          <p:spPr>
            <a:xfrm>
              <a:off x="6715080" y="4357800"/>
              <a:ext cx="500040" cy="428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0" descr="logo 21"/>
          <p:cNvPicPr/>
          <p:nvPr/>
        </p:nvPicPr>
        <p:blipFill>
          <a:blip r:embed="rId1"/>
          <a:stretch/>
        </p:blipFill>
        <p:spPr>
          <a:xfrm>
            <a:off x="6138720" y="6424560"/>
            <a:ext cx="3011760" cy="439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jo02fqmg[1]"/>
          <p:cNvPicPr/>
          <p:nvPr/>
        </p:nvPicPr>
        <p:blipFill>
          <a:blip r:embed="rId2"/>
          <a:stretch/>
        </p:blipFill>
        <p:spPr>
          <a:xfrm>
            <a:off x="0" y="0"/>
            <a:ext cx="714240" cy="687240"/>
          </a:xfrm>
          <a:prstGeom prst="rect">
            <a:avLst/>
          </a:prstGeom>
          <a:ln w="0">
            <a:noFill/>
          </a:ln>
        </p:spPr>
      </p:pic>
      <p:grpSp>
        <p:nvGrpSpPr>
          <p:cNvPr id="285" name="Группа 21"/>
          <p:cNvGrpSpPr/>
          <p:nvPr/>
        </p:nvGrpSpPr>
        <p:grpSpPr>
          <a:xfrm>
            <a:off x="1000080" y="2428920"/>
            <a:ext cx="7000920" cy="2155680"/>
            <a:chOff x="1000080" y="2428920"/>
            <a:chExt cx="7000920" cy="2155680"/>
          </a:xfrm>
        </p:grpSpPr>
        <p:sp>
          <p:nvSpPr>
            <p:cNvPr id="286" name="Прямоугольник 9"/>
            <p:cNvSpPr/>
            <p:nvPr/>
          </p:nvSpPr>
          <p:spPr>
            <a:xfrm>
              <a:off x="4826160" y="3643200"/>
              <a:ext cx="215640" cy="142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a8a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Группа 24"/>
            <p:cNvGrpSpPr/>
            <p:nvPr/>
          </p:nvGrpSpPr>
          <p:grpSpPr>
            <a:xfrm>
              <a:off x="1000080" y="2428920"/>
              <a:ext cx="7000920" cy="2155680"/>
              <a:chOff x="1000080" y="2428920"/>
              <a:chExt cx="7000920" cy="2155680"/>
            </a:xfrm>
          </p:grpSpPr>
          <p:grpSp>
            <p:nvGrpSpPr>
              <p:cNvPr id="288" name="Прямоугольник 4"/>
              <p:cNvGrpSpPr/>
              <p:nvPr/>
            </p:nvGrpSpPr>
            <p:grpSpPr>
              <a:xfrm>
                <a:off x="1011960" y="2428920"/>
                <a:ext cx="6989040" cy="2073960"/>
                <a:chOff x="1011960" y="2428920"/>
                <a:chExt cx="6989040" cy="2073960"/>
              </a:xfrm>
            </p:grpSpPr>
            <p:pic>
              <p:nvPicPr>
                <p:cNvPr id="289" name="Прямоугольник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11960" y="2428920"/>
                  <a:ext cx="6989040" cy="177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0" name=""/>
                <p:cNvSpPr/>
                <p:nvPr/>
              </p:nvSpPr>
              <p:spPr>
                <a:xfrm>
                  <a:off x="1102320" y="2488680"/>
                  <a:ext cx="6842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buClr>
                      <a:srgbClr val="000099"/>
                    </a:buClr>
                    <a:buFont typeface="Times New Roman"/>
                    <a:buAutoNum type="arabicPeriod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8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Назваць від сказа па мэце выказвання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100000"/>
                    </a:lnSpc>
                    <a:buClr>
                      <a:srgbClr val="000099"/>
                    </a:buClr>
                    <a:buFont typeface="Times New Roman"/>
                    <a:buAutoNum type="arabicPeriod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8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Абазначыць лічбамі, колькі ў ім сэнсава-граматычных частак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100000"/>
                    </a:lnSpc>
                    <a:buClr>
                      <a:srgbClr val="000099"/>
                    </a:buClr>
                    <a:buFont typeface="Times New Roman"/>
                    <a:buAutoNum type="arabicPeriod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8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Вызначыць, спалучаюцца яны з дапамогай злучнікаў (злучальных слоў) ці без іх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343080" indent="-343080">
                    <a:lnSpc>
                      <a:spcPct val="100000"/>
                    </a:lnSpc>
                    <a:buClr>
                      <a:srgbClr val="000099"/>
                    </a:buClr>
                    <a:buFont typeface="Times New Roman"/>
                    <a:buAutoNum type="arabicPeriod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8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Абазначыць злучальныя злучнікі       ; падпарадкавальныя злучнікі       ; злучальныя словы          .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Группа 5"/>
              <p:cNvGrpSpPr/>
              <p:nvPr/>
            </p:nvGrpSpPr>
            <p:grpSpPr>
              <a:xfrm>
                <a:off x="4662720" y="3900240"/>
                <a:ext cx="423000" cy="201600"/>
                <a:chOff x="4662720" y="3900240"/>
                <a:chExt cx="423000" cy="201600"/>
              </a:xfrm>
            </p:grpSpPr>
            <p:sp>
              <p:nvSpPr>
                <p:cNvPr id="292" name="Овал 6"/>
                <p:cNvSpPr/>
                <p:nvPr/>
              </p:nvSpPr>
              <p:spPr>
                <a:xfrm>
                  <a:off x="4662720" y="3900240"/>
                  <a:ext cx="423000" cy="201600"/>
                </a:xfrm>
                <a:prstGeom prst="ellipse">
                  <a:avLst/>
                </a:prstGeom>
                <a:noFill/>
                <a:ln w="25560">
                  <a:solidFill>
                    <a:srgbClr val="8a8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Овал 7"/>
                <p:cNvSpPr/>
                <p:nvPr/>
              </p:nvSpPr>
              <p:spPr>
                <a:xfrm>
                  <a:off x="4732200" y="3967200"/>
                  <a:ext cx="281880" cy="67320"/>
                </a:xfrm>
                <a:prstGeom prst="ellipse">
                  <a:avLst/>
                </a:prstGeom>
                <a:noFill/>
                <a:ln w="25560">
                  <a:solidFill>
                    <a:srgbClr val="8a8ab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Овал 8"/>
              <p:cNvSpPr/>
              <p:nvPr/>
            </p:nvSpPr>
            <p:spPr>
              <a:xfrm>
                <a:off x="2372400" y="3899880"/>
                <a:ext cx="282240" cy="134280"/>
              </a:xfrm>
              <a:prstGeom prst="ellipse">
                <a:avLst/>
              </a:prstGeom>
              <a:noFill/>
              <a:ln w="25560">
                <a:solidFill>
                  <a:srgbClr val="8a8a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Прямоугольник 10"/>
              <p:cNvGrpSpPr/>
              <p:nvPr/>
            </p:nvGrpSpPr>
            <p:grpSpPr>
              <a:xfrm>
                <a:off x="1000080" y="4108680"/>
                <a:ext cx="7000920" cy="475920"/>
                <a:chOff x="1000080" y="4108680"/>
                <a:chExt cx="7000920" cy="475920"/>
              </a:xfrm>
            </p:grpSpPr>
            <p:pic>
              <p:nvPicPr>
                <p:cNvPr id="296" name="Прямоугольник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4108680"/>
                  <a:ext cx="7000920" cy="47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1101600" y="4168800"/>
                  <a:ext cx="6842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be-BY" sz="1800" spc="-1" strike="noStrike">
                      <a:solidFill>
                        <a:srgbClr val="000099"/>
                      </a:solidFill>
                      <a:latin typeface="Times New Roman"/>
                      <a:ea typeface="Times New Roman"/>
                    </a:rPr>
                    <a:t>5.   Разабраць кожную частку па членах сказа як просты сказ.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8" name="TextBox 11"/>
          <p:cNvGrpSpPr/>
          <p:nvPr/>
        </p:nvGrpSpPr>
        <p:grpSpPr>
          <a:xfrm>
            <a:off x="2011320" y="1163520"/>
            <a:ext cx="5187960" cy="708120"/>
            <a:chOff x="2011320" y="1163520"/>
            <a:chExt cx="5187960" cy="708120"/>
          </a:xfrm>
        </p:grpSpPr>
        <p:pic>
          <p:nvPicPr>
            <p:cNvPr id="299" name="TextBox 11" descr=""/>
            <p:cNvPicPr/>
            <p:nvPr/>
          </p:nvPicPr>
          <p:blipFill>
            <a:blip r:embed="rId5"/>
            <a:stretch/>
          </p:blipFill>
          <p:spPr>
            <a:xfrm>
              <a:off x="2011320" y="1163520"/>
              <a:ext cx="518796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071800" y="1214280"/>
              <a:ext cx="50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арадак сінтаксічнага разбор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кладаных сказа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52:18Z</dcterms:created>
  <dc:creator>solahitdinova</dc:creator>
  <dc:description/>
  <dc:language>en-US</dc:language>
  <cp:lastModifiedBy>solahitdinova</cp:lastModifiedBy>
  <dcterms:modified xsi:type="dcterms:W3CDTF">2009-08-11T11:07:40Z</dcterms:modified>
  <cp:revision>71</cp:revision>
  <dc:subject/>
  <dc:title>Слайд 1</dc:title>
</cp:coreProperties>
</file>