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5215-32DA-421F-87E0-AE505B15B2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9858-F65C-4F36-8513-A949640918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E836-121F-44AF-A3EC-DA026661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7ED37-F603-4593-BA25-8402623B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1F54-76E4-457A-835E-788D1AF7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3554E-8211-42B6-93B9-7404EF0C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D5DB-DCE4-4C40-A81E-5A3479C7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45EE-A9B4-4060-A54D-03156007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AE6B-25DB-4EDB-871D-B4E494FF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D622-4035-4475-8149-8361628E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C7D3-4DD1-4D1B-A4E8-07FF2C1C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7493-06F5-421B-A35D-64F4064F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D101-C809-4699-8A98-E41CCF1E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EB1A-4322-4D8E-AF35-000B8B50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0DDB-A02B-4795-A855-F8C3AE96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5E6C-DE26-4D36-9362-7612AA92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F593-5B91-492C-90E9-0FACE565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C134-DD2E-49A8-9AD1-06171D98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4886-6609-4742-885B-10802D4D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F549E-8FF7-4D05-B3B2-15743F75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D3CC0-7811-4B3D-9992-20894F07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4C4E-F34E-4465-9A89-05B2C3BB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BE04-D9D7-477C-AAB3-F874E4F0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52EAC-BF74-4216-8369-42582617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2904F-F6F0-4431-AF3F-1495A5BD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548B1-3FFB-42AA-BF86-5AAB1C49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F78C-F0AB-408E-97A7-BF02F6CB97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B26D-EEDF-4494-83D2-99EEF7EE0C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4" descr=""/>
          <p:cNvPicPr/>
          <p:nvPr/>
        </p:nvPicPr>
        <p:blipFill>
          <a:blip r:embed="rId3"/>
          <a:stretch/>
        </p:blipFill>
        <p:spPr>
          <a:xfrm>
            <a:off x="1639800" y="3852720"/>
            <a:ext cx="6151680" cy="202428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5" descr=""/>
          <p:cNvPicPr/>
          <p:nvPr/>
        </p:nvPicPr>
        <p:blipFill>
          <a:blip r:embed="rId4"/>
          <a:stretch/>
        </p:blipFill>
        <p:spPr>
          <a:xfrm>
            <a:off x="2414520" y="762120"/>
            <a:ext cx="4419720" cy="24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5" descr=""/>
          <p:cNvPicPr/>
          <p:nvPr/>
        </p:nvPicPr>
        <p:blipFill>
          <a:blip r:embed="rId3"/>
          <a:stretch/>
        </p:blipFill>
        <p:spPr>
          <a:xfrm>
            <a:off x="512640" y="993600"/>
            <a:ext cx="2687760" cy="567000"/>
          </a:xfrm>
          <a:prstGeom prst="rect">
            <a:avLst/>
          </a:prstGeom>
          <a:ln w="0">
            <a:noFill/>
          </a:ln>
        </p:spPr>
      </p:pic>
      <p:grpSp>
        <p:nvGrpSpPr>
          <p:cNvPr id="120" name="TextBox 6"/>
          <p:cNvGrpSpPr/>
          <p:nvPr/>
        </p:nvGrpSpPr>
        <p:grpSpPr>
          <a:xfrm>
            <a:off x="3651120" y="963720"/>
            <a:ext cx="4846680" cy="938160"/>
            <a:chOff x="3651120" y="963720"/>
            <a:chExt cx="4846680" cy="938160"/>
          </a:xfrm>
        </p:grpSpPr>
        <p:pic>
          <p:nvPicPr>
            <p:cNvPr id="121" name="TextBox 6" descr=""/>
            <p:cNvPicPr/>
            <p:nvPr/>
          </p:nvPicPr>
          <p:blipFill>
            <a:blip r:embed="rId4"/>
            <a:stretch/>
          </p:blipFill>
          <p:spPr>
            <a:xfrm>
              <a:off x="3651120" y="963720"/>
              <a:ext cx="48466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714840" y="1000080"/>
              <a:ext cx="4714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азы, у якіх адсутнічаюць тыя або іншыя неабходныя члены. Без папярэдняга кантэксту такія сказы цяжка або немагчыма зразумець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аля хаты – высокае каласістае жыта. (Я. Брыль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Прямая соединительная линия 8"/>
          <p:cNvSpPr/>
          <p:nvPr/>
        </p:nvSpPr>
        <p:spPr>
          <a:xfrm>
            <a:off x="3214800" y="1285920"/>
            <a:ext cx="357120" cy="144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TextBox 9"/>
          <p:cNvGrpSpPr/>
          <p:nvPr/>
        </p:nvGrpSpPr>
        <p:grpSpPr>
          <a:xfrm>
            <a:off x="3651120" y="2036880"/>
            <a:ext cx="4834080" cy="755640"/>
            <a:chOff x="3651120" y="2036880"/>
            <a:chExt cx="4834080" cy="755640"/>
          </a:xfrm>
        </p:grpSpPr>
        <p:pic>
          <p:nvPicPr>
            <p:cNvPr id="125" name="TextBox 9" descr=""/>
            <p:cNvPicPr/>
            <p:nvPr/>
          </p:nvPicPr>
          <p:blipFill>
            <a:blip r:embed="rId5"/>
            <a:stretch/>
          </p:blipFill>
          <p:spPr>
            <a:xfrm>
              <a:off x="3651120" y="2036880"/>
              <a:ext cx="48340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714840" y="2071800"/>
              <a:ext cx="4714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япоўныя сказы могуць выражаць патрэбную думку пры адсутнасці галоўных ці даданых членаў сказа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 хаце ніког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TextBox 10"/>
          <p:cNvGrpSpPr/>
          <p:nvPr/>
        </p:nvGrpSpPr>
        <p:grpSpPr>
          <a:xfrm>
            <a:off x="3724200" y="2962440"/>
            <a:ext cx="4834080" cy="1128600"/>
            <a:chOff x="3724200" y="2962440"/>
            <a:chExt cx="4834080" cy="1128600"/>
          </a:xfrm>
        </p:grpSpPr>
        <p:pic>
          <p:nvPicPr>
            <p:cNvPr id="128" name="TextBox 10" descr=""/>
            <p:cNvPicPr/>
            <p:nvPr/>
          </p:nvPicPr>
          <p:blipFill>
            <a:blip r:embed="rId6"/>
            <a:stretch/>
          </p:blipFill>
          <p:spPr>
            <a:xfrm>
              <a:off x="3724200" y="2962440"/>
              <a:ext cx="483408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786120" y="3000240"/>
              <a:ext cx="47149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япоўныя сказы ў якасці састаўных частак могуць уваходзіць у структуру складаных сказаў. Звычайна няпоўную форму мае апошняя частка складанага сказа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Вялікія гарбузы ляжалі на страсе і ўсміхаліся сонцу,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рыху меншыя – яшчэ ў градзе. 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М. Машар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TextBox 11"/>
          <p:cNvGrpSpPr/>
          <p:nvPr/>
        </p:nvGrpSpPr>
        <p:grpSpPr>
          <a:xfrm>
            <a:off x="3724200" y="4322880"/>
            <a:ext cx="4853160" cy="755640"/>
            <a:chOff x="3724200" y="4322880"/>
            <a:chExt cx="4853160" cy="755640"/>
          </a:xfrm>
        </p:grpSpPr>
        <p:pic>
          <p:nvPicPr>
            <p:cNvPr id="131" name="TextBox 11" descr=""/>
            <p:cNvPicPr/>
            <p:nvPr/>
          </p:nvPicPr>
          <p:blipFill>
            <a:blip r:embed="rId7"/>
            <a:stretch/>
          </p:blipFill>
          <p:spPr>
            <a:xfrm>
              <a:off x="3724200" y="4322880"/>
              <a:ext cx="48531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786120" y="4357800"/>
              <a:ext cx="4714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Вельмі разнастайную будову маюць няпоўныя сказы ў дыялагічнай мове. Тут апускаюцца розныя члены сказа, бо многае, пра што гаворыцца, можа дапаўняцца жэстамі, мімікай і г. д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35" name="Прямоугольник 4" descr=""/>
          <p:cNvPicPr/>
          <p:nvPr/>
        </p:nvPicPr>
        <p:blipFill>
          <a:blip r:embed="rId3"/>
          <a:stretch/>
        </p:blipFill>
        <p:spPr>
          <a:xfrm>
            <a:off x="152280" y="3365640"/>
            <a:ext cx="2687760" cy="474480"/>
          </a:xfrm>
          <a:prstGeom prst="rect">
            <a:avLst/>
          </a:prstGeom>
          <a:ln w="0">
            <a:noFill/>
          </a:ln>
        </p:spPr>
      </p:pic>
      <p:grpSp>
        <p:nvGrpSpPr>
          <p:cNvPr id="136" name="TextBox 5"/>
          <p:cNvGrpSpPr/>
          <p:nvPr/>
        </p:nvGrpSpPr>
        <p:grpSpPr>
          <a:xfrm>
            <a:off x="152280" y="4164120"/>
            <a:ext cx="2328840" cy="463320"/>
            <a:chOff x="152280" y="4164120"/>
            <a:chExt cx="2328840" cy="463320"/>
          </a:xfrm>
        </p:grpSpPr>
        <p:pic>
          <p:nvPicPr>
            <p:cNvPr id="137" name="TextBox 5" descr=""/>
            <p:cNvPicPr/>
            <p:nvPr/>
          </p:nvPicPr>
          <p:blipFill>
            <a:blip r:embed="rId4"/>
            <a:stretch/>
          </p:blipFill>
          <p:spPr>
            <a:xfrm>
              <a:off x="152280" y="4164120"/>
              <a:ext cx="232884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14200" y="421488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нтэкстуальны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TextBox 6"/>
          <p:cNvGrpSpPr/>
          <p:nvPr/>
        </p:nvGrpSpPr>
        <p:grpSpPr>
          <a:xfrm>
            <a:off x="152280" y="5089680"/>
            <a:ext cx="2328840" cy="463320"/>
            <a:chOff x="152280" y="5089680"/>
            <a:chExt cx="2328840" cy="463320"/>
          </a:xfrm>
        </p:grpSpPr>
        <p:pic>
          <p:nvPicPr>
            <p:cNvPr id="140" name="TextBox 6" descr=""/>
            <p:cNvPicPr/>
            <p:nvPr/>
          </p:nvPicPr>
          <p:blipFill>
            <a:blip r:embed="rId5"/>
            <a:stretch/>
          </p:blipFill>
          <p:spPr>
            <a:xfrm>
              <a:off x="152280" y="5089680"/>
              <a:ext cx="232884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14200" y="514368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ітуацыйны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Прямая соединительная линия 11"/>
          <p:cNvSpPr/>
          <p:nvPr/>
        </p:nvSpPr>
        <p:spPr>
          <a:xfrm>
            <a:off x="2643120" y="3786120"/>
            <a:ext cx="0" cy="1500120"/>
          </a:xfrm>
          <a:prstGeom prst="line">
            <a:avLst/>
          </a:prstGeom>
          <a:ln w="28440">
            <a:solidFill>
              <a:srgbClr val="9393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Прямая со стрелкой 13"/>
          <p:cNvCxnSpPr/>
          <p:nvPr/>
        </p:nvCxnSpPr>
        <p:spPr>
          <a:xfrm flipH="1" flipV="1">
            <a:off x="2428200" y="4357440"/>
            <a:ext cx="214920" cy="216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arrow" w="med"/>
          </a:ln>
        </p:spPr>
      </p:cxnSp>
      <p:cxnSp>
        <p:nvCxnSpPr>
          <p:cNvPr id="144" name="Прямая со стрелкой 15"/>
          <p:cNvCxnSpPr/>
          <p:nvPr/>
        </p:nvCxnSpPr>
        <p:spPr>
          <a:xfrm flipH="1" flipV="1">
            <a:off x="2356920" y="5285520"/>
            <a:ext cx="286560" cy="2520"/>
          </a:xfrm>
          <a:prstGeom prst="straightConnector1">
            <a:avLst/>
          </a:prstGeom>
          <a:ln w="28440">
            <a:solidFill>
              <a:srgbClr val="9393fc"/>
            </a:solidFill>
            <a:miter/>
            <a:tailEnd len="med" type="arrow" w="med"/>
          </a:ln>
        </p:spPr>
      </p:cxnSp>
      <p:cxnSp>
        <p:nvCxnSpPr>
          <p:cNvPr id="145" name="Прямая со стрелкой 27"/>
          <p:cNvCxnSpPr/>
          <p:nvPr/>
        </p:nvCxnSpPr>
        <p:spPr>
          <a:xfrm>
            <a:off x="2642760" y="4357800"/>
            <a:ext cx="42948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  <p:sp>
        <p:nvSpPr>
          <p:cNvPr id="146" name="TextBox 28"/>
          <p:cNvSpPr/>
          <p:nvPr/>
        </p:nvSpPr>
        <p:spPr>
          <a:xfrm>
            <a:off x="3071880" y="3714840"/>
            <a:ext cx="5214960" cy="8240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япоўныя сказы з неназванымі членамі сказа, якія былі ўпамянуты ў кантэксце: у суседніх сказах або ў тым жа сказе (калі ён складаны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а левы бок ад дарогі – бярозавы гай, поўны птушынага шчэбету, па правы стаялі дачныя домікі. (М. Ваданоса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Прямая со стрелкой 30"/>
          <p:cNvCxnSpPr/>
          <p:nvPr/>
        </p:nvCxnSpPr>
        <p:spPr>
          <a:xfrm>
            <a:off x="2642760" y="5285880"/>
            <a:ext cx="429480" cy="25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  <p:sp>
        <p:nvSpPr>
          <p:cNvPr id="148" name="TextBox 32"/>
          <p:cNvSpPr/>
          <p:nvPr/>
        </p:nvSpPr>
        <p:spPr>
          <a:xfrm>
            <a:off x="3071880" y="4714920"/>
            <a:ext cx="5214960" cy="8240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япоўныя сказы з неназванымі членамі, якія падказваюцца сітуацыяй, абставінамі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Нечакана ў акно пастукаў хтосьці.  Жанчына ўстрывожылася. “Можна?” – прагучаў незнаёмы годас. (І. Пташніка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33" descr=""/>
          <p:cNvPicPr/>
          <p:nvPr/>
        </p:nvPicPr>
        <p:blipFill>
          <a:blip r:embed="rId6"/>
          <a:stretch/>
        </p:blipFill>
        <p:spPr>
          <a:xfrm>
            <a:off x="2724120" y="506520"/>
            <a:ext cx="2689200" cy="725400"/>
          </a:xfrm>
          <a:prstGeom prst="rect">
            <a:avLst/>
          </a:prstGeom>
          <a:ln w="0">
            <a:noFill/>
          </a:ln>
        </p:spPr>
      </p:pic>
      <p:grpSp>
        <p:nvGrpSpPr>
          <p:cNvPr id="150" name="TextBox 34"/>
          <p:cNvGrpSpPr/>
          <p:nvPr/>
        </p:nvGrpSpPr>
        <p:grpSpPr>
          <a:xfrm>
            <a:off x="2865600" y="1238400"/>
            <a:ext cx="1761840" cy="457200"/>
            <a:chOff x="2865600" y="1238400"/>
            <a:chExt cx="1761840" cy="457200"/>
          </a:xfrm>
        </p:grpSpPr>
        <p:pic>
          <p:nvPicPr>
            <p:cNvPr id="151" name="TextBox 34" descr=""/>
            <p:cNvPicPr/>
            <p:nvPr/>
          </p:nvPicPr>
          <p:blipFill>
            <a:blip r:embed="rId7"/>
            <a:stretch/>
          </p:blipFill>
          <p:spPr>
            <a:xfrm>
              <a:off x="2865600" y="1238400"/>
              <a:ext cx="1761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928960" y="1285920"/>
              <a:ext cx="16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развіт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TextBox 35"/>
          <p:cNvGrpSpPr/>
          <p:nvPr/>
        </p:nvGrpSpPr>
        <p:grpSpPr>
          <a:xfrm>
            <a:off x="2865600" y="1736640"/>
            <a:ext cx="1761840" cy="463680"/>
            <a:chOff x="2865600" y="1736640"/>
            <a:chExt cx="1761840" cy="463680"/>
          </a:xfrm>
        </p:grpSpPr>
        <p:pic>
          <p:nvPicPr>
            <p:cNvPr id="154" name="TextBox 35" descr=""/>
            <p:cNvPicPr/>
            <p:nvPr/>
          </p:nvPicPr>
          <p:blipFill>
            <a:blip r:embed="rId8"/>
            <a:stretch/>
          </p:blipFill>
          <p:spPr>
            <a:xfrm>
              <a:off x="2865600" y="1736640"/>
              <a:ext cx="1761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928960" y="1785960"/>
              <a:ext cx="16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еразвіт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TextBox 36"/>
          <p:cNvGrpSpPr/>
          <p:nvPr/>
        </p:nvGrpSpPr>
        <p:grpSpPr>
          <a:xfrm>
            <a:off x="2865600" y="2236680"/>
            <a:ext cx="1761840" cy="463680"/>
            <a:chOff x="2865600" y="2236680"/>
            <a:chExt cx="1761840" cy="463680"/>
          </a:xfrm>
        </p:grpSpPr>
        <p:pic>
          <p:nvPicPr>
            <p:cNvPr id="157" name="TextBox 36" descr=""/>
            <p:cNvPicPr/>
            <p:nvPr/>
          </p:nvPicPr>
          <p:blipFill>
            <a:blip r:embed="rId9"/>
            <a:stretch/>
          </p:blipFill>
          <p:spPr>
            <a:xfrm>
              <a:off x="2865600" y="2236680"/>
              <a:ext cx="1761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928960" y="2286000"/>
              <a:ext cx="16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днасастаў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TextBox 37"/>
          <p:cNvGrpSpPr/>
          <p:nvPr/>
        </p:nvGrpSpPr>
        <p:grpSpPr>
          <a:xfrm>
            <a:off x="2865600" y="2736720"/>
            <a:ext cx="1761840" cy="463680"/>
            <a:chOff x="2865600" y="2736720"/>
            <a:chExt cx="1761840" cy="463680"/>
          </a:xfrm>
        </p:grpSpPr>
        <p:pic>
          <p:nvPicPr>
            <p:cNvPr id="160" name="TextBox 37" descr=""/>
            <p:cNvPicPr/>
            <p:nvPr/>
          </p:nvPicPr>
          <p:blipFill>
            <a:blip r:embed="rId10"/>
            <a:stretch/>
          </p:blipFill>
          <p:spPr>
            <a:xfrm>
              <a:off x="2865600" y="2736720"/>
              <a:ext cx="1761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928960" y="2786040"/>
              <a:ext cx="16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вухсастаў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Прямая соединительная линия 39"/>
          <p:cNvSpPr/>
          <p:nvPr/>
        </p:nvSpPr>
        <p:spPr>
          <a:xfrm flipH="1">
            <a:off x="4928760" y="1143000"/>
            <a:ext cx="1800" cy="178596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Прямая со стрелкой 51"/>
          <p:cNvCxnSpPr/>
          <p:nvPr/>
        </p:nvCxnSpPr>
        <p:spPr>
          <a:xfrm flipH="1" flipV="1">
            <a:off x="4571640" y="1428480"/>
            <a:ext cx="35784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64" name="Прямая со стрелкой 52"/>
          <p:cNvCxnSpPr/>
          <p:nvPr/>
        </p:nvCxnSpPr>
        <p:spPr>
          <a:xfrm flipH="1" flipV="1">
            <a:off x="4571640" y="1928520"/>
            <a:ext cx="35784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65" name="Прямая со стрелкой 53"/>
          <p:cNvCxnSpPr/>
          <p:nvPr/>
        </p:nvCxnSpPr>
        <p:spPr>
          <a:xfrm flipH="1" flipV="1">
            <a:off x="4571640" y="2428560"/>
            <a:ext cx="35784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66" name="Прямая со стрелкой 54"/>
          <p:cNvCxnSpPr/>
          <p:nvPr/>
        </p:nvCxnSpPr>
        <p:spPr>
          <a:xfrm flipH="1" flipV="1">
            <a:off x="4571640" y="2928600"/>
            <a:ext cx="35784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  <p:grpSp>
        <p:nvGrpSpPr>
          <p:cNvPr id="167" name="TextBox 55"/>
          <p:cNvGrpSpPr/>
          <p:nvPr/>
        </p:nvGrpSpPr>
        <p:grpSpPr>
          <a:xfrm>
            <a:off x="152280" y="6022800"/>
            <a:ext cx="2328840" cy="463680"/>
            <a:chOff x="152280" y="6022800"/>
            <a:chExt cx="2328840" cy="463680"/>
          </a:xfrm>
        </p:grpSpPr>
        <p:pic>
          <p:nvPicPr>
            <p:cNvPr id="168" name="TextBox 55" descr=""/>
            <p:cNvPicPr/>
            <p:nvPr/>
          </p:nvPicPr>
          <p:blipFill>
            <a:blip r:embed="rId11"/>
            <a:stretch/>
          </p:blipFill>
          <p:spPr>
            <a:xfrm>
              <a:off x="152280" y="6022800"/>
              <a:ext cx="23288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214200" y="607212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Эліптычны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0" name="Прямая со стрелкой 58"/>
          <p:cNvCxnSpPr>
            <a:endCxn id="171" idx="1"/>
          </p:cNvCxnSpPr>
          <p:nvPr/>
        </p:nvCxnSpPr>
        <p:spPr>
          <a:xfrm flipV="1">
            <a:off x="2428920" y="6201720"/>
            <a:ext cx="643320" cy="133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  <p:sp>
        <p:nvSpPr>
          <p:cNvPr id="171" name="TextBox 59"/>
          <p:cNvSpPr/>
          <p:nvPr/>
        </p:nvSpPr>
        <p:spPr>
          <a:xfrm>
            <a:off x="3071880" y="5786280"/>
            <a:ext cx="5214960" cy="82404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Сказы тыпу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ёнка ў школе 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азываюцца </a:t>
            </a:r>
            <a:r>
              <a:rPr b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іптычнымі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(скарочанымі), выказнік тут неабавязковы. Уяўленне пра дзеянне ці стан выражаецца ўсёй канструкцыяй. Сярод эліптычных сказаў вылучаюцца сказы пабуджальныя: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е наверх! (М. Лынько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9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2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74" name="TextBox 11"/>
          <p:cNvGrpSpPr/>
          <p:nvPr/>
        </p:nvGrpSpPr>
        <p:grpSpPr>
          <a:xfrm>
            <a:off x="2298600" y="1176480"/>
            <a:ext cx="6040440" cy="1096920"/>
            <a:chOff x="2298600" y="1176480"/>
            <a:chExt cx="6040440" cy="1096920"/>
          </a:xfrm>
        </p:grpSpPr>
        <p:pic>
          <p:nvPicPr>
            <p:cNvPr id="175" name="TextBox 11" descr=""/>
            <p:cNvPicPr/>
            <p:nvPr/>
          </p:nvPicPr>
          <p:blipFill>
            <a:blip r:embed="rId3"/>
            <a:stretch/>
          </p:blipFill>
          <p:spPr>
            <a:xfrm>
              <a:off x="2298600" y="1176480"/>
              <a:ext cx="60404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2405160" y="1262160"/>
              <a:ext cx="5833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гэтыя сказы маюць асобую структуру, аснову якой утвараюць два назоўнікі без прыназоўнікаў, з выразным інтанацыйным падзелам на дзве часткі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Нашым спартсменам – нязменная ўвага. (Газета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TextBox 13"/>
          <p:cNvGrpSpPr/>
          <p:nvPr/>
        </p:nvGrpSpPr>
        <p:grpSpPr>
          <a:xfrm>
            <a:off x="2298600" y="2749680"/>
            <a:ext cx="6040440" cy="877680"/>
            <a:chOff x="2298600" y="2749680"/>
            <a:chExt cx="6040440" cy="877680"/>
          </a:xfrm>
        </p:grpSpPr>
        <p:pic>
          <p:nvPicPr>
            <p:cNvPr id="178" name="TextBox 13" descr=""/>
            <p:cNvPicPr/>
            <p:nvPr/>
          </p:nvPicPr>
          <p:blipFill>
            <a:blip r:embed="rId4"/>
            <a:stretch/>
          </p:blipFill>
          <p:spPr>
            <a:xfrm>
              <a:off x="2298600" y="2749680"/>
              <a:ext cx="604044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395440" y="2824200"/>
              <a:ext cx="585324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ў прэдыкатыўнай частцы складанага сказа апушчаны выказнік, дзейнік ці іншыя члены, якія ёсць у папярэдняй прэдыкатыўнай частцы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Так стаў настаўнікам Аксён, а яго сябар – будаўніком. (Т. Хадкевіч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TextBox 15"/>
          <p:cNvGrpSpPr/>
          <p:nvPr/>
        </p:nvGrpSpPr>
        <p:grpSpPr>
          <a:xfrm>
            <a:off x="2298600" y="4395960"/>
            <a:ext cx="6040440" cy="1096920"/>
            <a:chOff x="2298600" y="4395960"/>
            <a:chExt cx="6040440" cy="1096920"/>
          </a:xfrm>
        </p:grpSpPr>
        <p:pic>
          <p:nvPicPr>
            <p:cNvPr id="181" name="TextBox 15" descr=""/>
            <p:cNvPicPr/>
            <p:nvPr/>
          </p:nvPicPr>
          <p:blipFill>
            <a:blip r:embed="rId5"/>
            <a:stretch/>
          </p:blipFill>
          <p:spPr>
            <a:xfrm>
              <a:off x="2298600" y="4395960"/>
              <a:ext cx="60404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405160" y="4476600"/>
              <a:ext cx="5833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прэдыкатыўных частках складанага сказа, калі ў ім апушчаны выказнік, а самі часткі маюць аднатыпную будову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Птушцы – воля, чалавеку – мір. (Прыказка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Птушцы – палёт, чалавеку – свабода, зямлі – спакой. (Ус. Краўчанка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TextBox 17"/>
          <p:cNvGrpSpPr/>
          <p:nvPr/>
        </p:nvGrpSpPr>
        <p:grpSpPr>
          <a:xfrm>
            <a:off x="2365200" y="665280"/>
            <a:ext cx="4834080" cy="461880"/>
            <a:chOff x="2365200" y="665280"/>
            <a:chExt cx="4834080" cy="461880"/>
          </a:xfrm>
        </p:grpSpPr>
        <p:pic>
          <p:nvPicPr>
            <p:cNvPr id="184" name="TextBox 17" descr=""/>
            <p:cNvPicPr/>
            <p:nvPr/>
          </p:nvPicPr>
          <p:blipFill>
            <a:blip r:embed="rId6"/>
            <a:stretch/>
          </p:blipFill>
          <p:spPr>
            <a:xfrm>
              <a:off x="2365200" y="665280"/>
              <a:ext cx="483408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2428920" y="714240"/>
              <a:ext cx="471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ацяжнік у няпоўных сказах ставіцц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AutoShape 9"/>
          <p:cNvSpPr/>
          <p:nvPr/>
        </p:nvSpPr>
        <p:spPr>
          <a:xfrm>
            <a:off x="1066680" y="830160"/>
            <a:ext cx="1171800" cy="4170600"/>
          </a:xfrm>
          <a:custGeom>
            <a:avLst/>
            <a:gdLst>
              <a:gd name="textAreaLeft" fmla="*/ 156960 w 1171800"/>
              <a:gd name="textAreaRight" fmla="*/ 1014840 w 1171800"/>
              <a:gd name="textAreaTop" fmla="*/ 942840 h 4170600"/>
              <a:gd name="textAreaBottom" fmla="*/ 3103920 h 417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68" stAng="-5400000" swAng="-5400000"/>
                <a:lnTo>
                  <a:pt x="0" y="11192"/>
                </a:lnTo>
                <a:arcTo wR="21600" hR="9768" stAng="10800000" swAng="-3118788"/>
                <a:lnTo>
                  <a:pt x="14400" y="21041"/>
                </a:lnTo>
                <a:lnTo>
                  <a:pt x="21600" y="20247"/>
                </a:lnTo>
                <a:lnTo>
                  <a:pt x="14400" y="18335"/>
                </a:lnTo>
                <a:lnTo>
                  <a:pt x="14400" y="18976"/>
                </a:lnTo>
                <a:arcTo wR="21600" hR="9768" stAng="7681212" swAng="3005209"/>
                <a:lnTo>
                  <a:pt x="57" y="10479"/>
                </a:lnTo>
                <a:arcTo wR="21600" hR="9768" stAng="-10686421" swAng="5286421"/>
                <a:close/>
              </a:path>
              <a:path fill="darkenLess" w="21600" h="21600">
                <a:moveTo>
                  <a:pt x="21600" y="0"/>
                </a:moveTo>
                <a:arcTo wR="21600" hR="9768" stAng="-5400000" swAng="-5400000"/>
                <a:lnTo>
                  <a:pt x="0" y="9768"/>
                </a:lnTo>
                <a:arcTo wR="21600" hR="9768" stAng="10800000" swAng="-113579"/>
                <a:lnTo>
                  <a:pt x="57" y="10479"/>
                </a:lnTo>
                <a:arcTo wR="21600" hR="9768" stAng="-10686421" swAng="5286421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 rot="317400">
            <a:off x="987480" y="774360"/>
            <a:ext cx="1344600" cy="950760"/>
          </a:xfrm>
          <a:custGeom>
            <a:avLst/>
            <a:gdLst>
              <a:gd name="textAreaLeft" fmla="*/ 180000 w 1344600"/>
              <a:gd name="textAreaRight" fmla="*/ 1164600 w 1344600"/>
              <a:gd name="textAreaTop" fmla="*/ 157680 h 950760"/>
              <a:gd name="textAreaBottom" fmla="*/ 696600 h 95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2" stAng="-5400000" swAng="-5400000"/>
                <a:lnTo>
                  <a:pt x="0" y="12241"/>
                </a:lnTo>
                <a:arcTo wR="21600" hR="7172" stAng="10800000" swAng="-3231173"/>
                <a:lnTo>
                  <a:pt x="16509" y="21398"/>
                </a:lnTo>
                <a:lnTo>
                  <a:pt x="21600" y="16878"/>
                </a:lnTo>
                <a:lnTo>
                  <a:pt x="16509" y="11953"/>
                </a:lnTo>
                <a:lnTo>
                  <a:pt x="16509" y="14141"/>
                </a:lnTo>
                <a:arcTo wR="21600" hR="7172" stAng="7568827" swAng="2802209"/>
                <a:lnTo>
                  <a:pt x="1394" y="9706"/>
                </a:lnTo>
                <a:arcTo wR="21600" hR="7172" stAng="-10371035" swAng="4971035"/>
                <a:close/>
              </a:path>
              <a:path fill="darkenLess" w="21600" h="21600">
                <a:moveTo>
                  <a:pt x="21600" y="0"/>
                </a:moveTo>
                <a:arcTo wR="21600" hR="7172" stAng="-5400000" swAng="-5400000"/>
                <a:lnTo>
                  <a:pt x="0" y="7172"/>
                </a:lnTo>
                <a:arcTo wR="21600" hR="7172" stAng="10800000" swAng="-428965"/>
                <a:lnTo>
                  <a:pt x="1394" y="9706"/>
                </a:lnTo>
                <a:arcTo wR="21600" hR="7172" stAng="-10371035" swAng="497103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317400">
            <a:off x="1190520" y="806400"/>
            <a:ext cx="1108080" cy="2624040"/>
          </a:xfrm>
          <a:custGeom>
            <a:avLst/>
            <a:gdLst>
              <a:gd name="textAreaLeft" fmla="*/ 148320 w 1108080"/>
              <a:gd name="textAreaRight" fmla="*/ 959760 w 1108080"/>
              <a:gd name="textAreaTop" fmla="*/ 547560 h 2624040"/>
              <a:gd name="textAreaBottom" fmla="*/ 1903320 h 262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17" stAng="-5400000" swAng="-5400000"/>
                <a:lnTo>
                  <a:pt x="0" y="11158"/>
                </a:lnTo>
                <a:arcTo wR="21600" hR="9017" stAng="10800000" swAng="-2923270"/>
                <a:lnTo>
                  <a:pt x="14168" y="21049"/>
                </a:lnTo>
                <a:lnTo>
                  <a:pt x="21600" y="19104"/>
                </a:lnTo>
                <a:lnTo>
                  <a:pt x="14168" y="16056"/>
                </a:lnTo>
                <a:lnTo>
                  <a:pt x="14168" y="17482"/>
                </a:lnTo>
                <a:arcTo wR="21600" hR="9017" stAng="7876730" swAng="2751824"/>
                <a:lnTo>
                  <a:pt x="153" y="10087"/>
                </a:lnTo>
                <a:arcTo wR="21600" hR="9017" stAng="-10628553" swAng="5228553"/>
                <a:close/>
              </a:path>
              <a:path fill="darkenLess" w="21600" h="21600">
                <a:moveTo>
                  <a:pt x="21600" y="0"/>
                </a:moveTo>
                <a:arcTo wR="21600" hR="9017" stAng="-5400000" swAng="-5400000"/>
                <a:lnTo>
                  <a:pt x="0" y="9017"/>
                </a:lnTo>
                <a:arcTo wR="21600" hR="9017" stAng="10800000" swAng="-171447"/>
                <a:lnTo>
                  <a:pt x="153" y="10087"/>
                </a:lnTo>
                <a:arcTo wR="21600" hR="9017" stAng="-10628553" swAng="5228553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5" descr=""/>
          <p:cNvPicPr/>
          <p:nvPr/>
        </p:nvPicPr>
        <p:blipFill>
          <a:blip r:embed="rId3"/>
          <a:stretch/>
        </p:blipFill>
        <p:spPr>
          <a:xfrm>
            <a:off x="512640" y="1352520"/>
            <a:ext cx="1968480" cy="561960"/>
          </a:xfrm>
          <a:prstGeom prst="rect">
            <a:avLst/>
          </a:prstGeom>
          <a:ln w="0">
            <a:noFill/>
          </a:ln>
        </p:spPr>
      </p:pic>
      <p:grpSp>
        <p:nvGrpSpPr>
          <p:cNvPr id="192" name="TextBox 6"/>
          <p:cNvGrpSpPr/>
          <p:nvPr/>
        </p:nvGrpSpPr>
        <p:grpSpPr>
          <a:xfrm>
            <a:off x="2438280" y="1962000"/>
            <a:ext cx="4834080" cy="420840"/>
            <a:chOff x="2438280" y="1962000"/>
            <a:chExt cx="4834080" cy="420840"/>
          </a:xfrm>
        </p:grpSpPr>
        <p:pic>
          <p:nvPicPr>
            <p:cNvPr id="193" name="TextBox 6" descr=""/>
            <p:cNvPicPr/>
            <p:nvPr/>
          </p:nvPicPr>
          <p:blipFill>
            <a:blip r:embed="rId4"/>
            <a:stretch/>
          </p:blipFill>
          <p:spPr>
            <a:xfrm>
              <a:off x="2438280" y="1962000"/>
              <a:ext cx="48340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500200" y="2000160"/>
              <a:ext cx="471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4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На беразе </a:t>
              </a:r>
              <a:r>
                <a:rPr b="1" i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– </a:t>
              </a:r>
              <a:r>
                <a:rPr b="1" i="1" lang="be-BY" sz="14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чаўны</a:t>
              </a:r>
              <a:r>
                <a:rPr b="1" i="1" lang="be-BY" sz="14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(Я. Маўр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Прямоугольник 12" descr=""/>
          <p:cNvPicPr/>
          <p:nvPr/>
        </p:nvPicPr>
        <p:blipFill>
          <a:blip r:embed="rId5"/>
          <a:stretch/>
        </p:blipFill>
        <p:spPr>
          <a:xfrm>
            <a:off x="1725480" y="493560"/>
            <a:ext cx="5973840" cy="56700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13" descr=""/>
          <p:cNvPicPr/>
          <p:nvPr/>
        </p:nvPicPr>
        <p:blipFill>
          <a:blip r:embed="rId6"/>
          <a:stretch/>
        </p:blipFill>
        <p:spPr>
          <a:xfrm>
            <a:off x="512640" y="2639880"/>
            <a:ext cx="1968480" cy="560520"/>
          </a:xfrm>
          <a:prstGeom prst="rect">
            <a:avLst/>
          </a:prstGeom>
          <a:ln w="0">
            <a:noFill/>
          </a:ln>
        </p:spPr>
      </p:pic>
      <p:grpSp>
        <p:nvGrpSpPr>
          <p:cNvPr id="197" name="TextBox 14"/>
          <p:cNvGrpSpPr/>
          <p:nvPr/>
        </p:nvGrpSpPr>
        <p:grpSpPr>
          <a:xfrm>
            <a:off x="2438280" y="3249720"/>
            <a:ext cx="5334120" cy="1803240"/>
            <a:chOff x="2438280" y="3249720"/>
            <a:chExt cx="5334120" cy="1803240"/>
          </a:xfrm>
        </p:grpSpPr>
        <p:pic>
          <p:nvPicPr>
            <p:cNvPr id="198" name="TextBox 14" descr=""/>
            <p:cNvPicPr/>
            <p:nvPr/>
          </p:nvPicPr>
          <p:blipFill>
            <a:blip r:embed="rId7"/>
            <a:stretch/>
          </p:blipFill>
          <p:spPr>
            <a:xfrm>
              <a:off x="2438280" y="3249720"/>
              <a:ext cx="533412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500200" y="3286080"/>
              <a:ext cx="521496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аз просты, апавядальны, няклічны, двухсастаўны, развіты, няпоўны, з апушчаным выказнікам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Што?) 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чаўны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дзейнік, выражаны назоўнікам у форме Н. скл., мн. л.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дзе?) 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на беразе 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акалічнасць месца, выражана назоўнікам у спалучэнні з прыназоўнікам на ў форме М. скл., адз. л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а месцы апушчанага выказніка ставіцца працяжнік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9:33:24Z</dcterms:created>
  <dc:creator>solahitdinova</dc:creator>
  <dc:description/>
  <dc:language>en-US</dc:language>
  <cp:lastModifiedBy>solahitdinova</cp:lastModifiedBy>
  <dcterms:modified xsi:type="dcterms:W3CDTF">2009-08-11T10:48:29Z</dcterms:modified>
  <cp:revision>30</cp:revision>
  <dc:subject/>
  <dc:title>Слайд 1</dc:title>
</cp:coreProperties>
</file>